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62B7-4592-475A-BAD0-DD62C308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BF3-8BA4-4586-A060-EBE30F36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36A-4D19-47F7-94DF-FD803FCE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6DC-CC74-4718-9F33-ADBC14CF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3E67-8BD2-4E65-BD22-9D8F528F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A80-E362-4764-A4FA-CDA00B23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938-F40C-4CE0-BCF3-9301D0A2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691-9C49-43CB-885C-BDFCEAF9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EC55-2A6F-4293-A106-5CA4785D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B212-0A16-4D34-94E6-0F1A89A6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2E7F-FB08-431B-A102-2253D13F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3EB-1A33-43BC-BB0A-1E4FAD89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FADD-D502-4C5E-AE4A-9CC345443F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ednesday, November 12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1752120"/>
            <a:ext cx="7848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ilot in an airplane of altitude 12km sees two towers directly in front of the plane.  The angles of depression to the towers are 25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6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How far apart are the two tow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3040" y="3759120"/>
            <a:ext cx="839880" cy="465120"/>
          </a:xfrm>
          <a:custGeom>
            <a:avLst/>
            <a:gdLst/>
            <a:ahLst/>
            <a:rect l="l" t="t" r="r" b="b"/>
            <a:pathLst>
              <a:path w="2332" h="1291">
                <a:moveTo>
                  <a:pt x="2853" y="10889"/>
                </a:moveTo>
                <a:cubicBezTo>
                  <a:pt x="2739" y="10889"/>
                  <a:pt x="2637" y="10896"/>
                  <a:pt x="2530" y="10914"/>
                </a:cubicBezTo>
                <a:cubicBezTo>
                  <a:pt x="2459" y="10926"/>
                  <a:pt x="2375" y="10930"/>
                  <a:pt x="2307" y="10939"/>
                </a:cubicBezTo>
                <a:cubicBezTo>
                  <a:pt x="2248" y="10947"/>
                  <a:pt x="2188" y="10946"/>
                  <a:pt x="2133" y="10964"/>
                </a:cubicBezTo>
                <a:cubicBezTo>
                  <a:pt x="2068" y="10985"/>
                  <a:pt x="1998" y="10992"/>
                  <a:pt x="1935" y="11013"/>
                </a:cubicBezTo>
                <a:cubicBezTo>
                  <a:pt x="1877" y="11032"/>
                  <a:pt x="1817" y="11043"/>
                  <a:pt x="1761" y="11063"/>
                </a:cubicBezTo>
                <a:cubicBezTo>
                  <a:pt x="1666" y="11097"/>
                  <a:pt x="1596" y="11111"/>
                  <a:pt x="1513" y="11137"/>
                </a:cubicBezTo>
                <a:cubicBezTo>
                  <a:pt x="1472" y="11150"/>
                  <a:pt x="1428" y="11190"/>
                  <a:pt x="1389" y="11212"/>
                </a:cubicBezTo>
                <a:cubicBezTo>
                  <a:pt x="1359" y="11229"/>
                  <a:pt x="1335" y="11245"/>
                  <a:pt x="1315" y="11261"/>
                </a:cubicBezTo>
                <a:cubicBezTo>
                  <a:pt x="1344" y="11303"/>
                  <a:pt x="1344" y="11310"/>
                  <a:pt x="1389" y="11336"/>
                </a:cubicBezTo>
                <a:cubicBezTo>
                  <a:pt x="1424" y="11357"/>
                  <a:pt x="1476" y="11378"/>
                  <a:pt x="1513" y="11385"/>
                </a:cubicBezTo>
                <a:cubicBezTo>
                  <a:pt x="1556" y="11393"/>
                  <a:pt x="1629" y="11405"/>
                  <a:pt x="1662" y="11410"/>
                </a:cubicBezTo>
                <a:cubicBezTo>
                  <a:pt x="1899" y="11442"/>
                  <a:pt x="2177" y="11415"/>
                  <a:pt x="2406" y="11385"/>
                </a:cubicBezTo>
                <a:cubicBezTo>
                  <a:pt x="2489" y="11374"/>
                  <a:pt x="2572" y="11372"/>
                  <a:pt x="2654" y="11361"/>
                </a:cubicBezTo>
                <a:cubicBezTo>
                  <a:pt x="2722" y="11352"/>
                  <a:pt x="2788" y="11347"/>
                  <a:pt x="2853" y="11336"/>
                </a:cubicBezTo>
                <a:cubicBezTo>
                  <a:pt x="2925" y="11324"/>
                  <a:pt x="3005" y="11315"/>
                  <a:pt x="3076" y="11311"/>
                </a:cubicBezTo>
                <a:cubicBezTo>
                  <a:pt x="3153" y="11307"/>
                  <a:pt x="3224" y="11273"/>
                  <a:pt x="3299" y="11261"/>
                </a:cubicBezTo>
                <a:cubicBezTo>
                  <a:pt x="3356" y="11252"/>
                  <a:pt x="3448" y="11267"/>
                  <a:pt x="3497" y="11237"/>
                </a:cubicBezTo>
                <a:cubicBezTo>
                  <a:pt x="3539" y="11211"/>
                  <a:pt x="3589" y="11192"/>
                  <a:pt x="3621" y="11162"/>
                </a:cubicBezTo>
                <a:cubicBezTo>
                  <a:pt x="3648" y="11136"/>
                  <a:pt x="3655" y="11101"/>
                  <a:pt x="3646" y="11063"/>
                </a:cubicBezTo>
                <a:cubicBezTo>
                  <a:pt x="3633" y="11004"/>
                  <a:pt x="3590" y="11023"/>
                  <a:pt x="3547" y="10988"/>
                </a:cubicBezTo>
                <a:cubicBezTo>
                  <a:pt x="3478" y="10932"/>
                  <a:pt x="3454" y="10941"/>
                  <a:pt x="3373" y="10914"/>
                </a:cubicBezTo>
                <a:cubicBezTo>
                  <a:pt x="3306" y="10892"/>
                  <a:pt x="3246" y="10868"/>
                  <a:pt x="3175" y="10864"/>
                </a:cubicBezTo>
                <a:cubicBezTo>
                  <a:pt x="3031" y="10856"/>
                  <a:pt x="2889" y="10866"/>
                  <a:pt x="2753" y="10889"/>
                </a:cubicBezTo>
                <a:cubicBezTo>
                  <a:pt x="2696" y="10899"/>
                  <a:pt x="2660" y="10901"/>
                  <a:pt x="2604" y="10914"/>
                </a:cubicBezTo>
                <a:cubicBezTo>
                  <a:pt x="2596" y="10914"/>
                  <a:pt x="2588" y="10914"/>
                  <a:pt x="2580" y="10914"/>
                </a:cubicBezTo>
              </a:path>
              <a:path w="2332" h="1291">
                <a:moveTo>
                  <a:pt x="2332" y="10542"/>
                </a:moveTo>
                <a:cubicBezTo>
                  <a:pt x="2307" y="10584"/>
                  <a:pt x="2309" y="10590"/>
                  <a:pt x="2307" y="10641"/>
                </a:cubicBezTo>
                <a:cubicBezTo>
                  <a:pt x="2300" y="10835"/>
                  <a:pt x="2300" y="11019"/>
                  <a:pt x="2282" y="11212"/>
                </a:cubicBezTo>
                <a:cubicBezTo>
                  <a:pt x="2274" y="11301"/>
                  <a:pt x="2259" y="11456"/>
                  <a:pt x="2307" y="11534"/>
                </a:cubicBezTo>
                <a:cubicBezTo>
                  <a:pt x="2329" y="11570"/>
                  <a:pt x="2349" y="11633"/>
                  <a:pt x="2381" y="11658"/>
                </a:cubicBezTo>
                <a:cubicBezTo>
                  <a:pt x="2402" y="11675"/>
                  <a:pt x="2480" y="11728"/>
                  <a:pt x="2505" y="11733"/>
                </a:cubicBezTo>
                <a:cubicBezTo>
                  <a:pt x="2548" y="11742"/>
                  <a:pt x="2597" y="11728"/>
                  <a:pt x="2629" y="11708"/>
                </a:cubicBezTo>
                <a:cubicBezTo>
                  <a:pt x="2699" y="11664"/>
                  <a:pt x="2730" y="11599"/>
                  <a:pt x="2753" y="11534"/>
                </a:cubicBezTo>
                <a:cubicBezTo>
                  <a:pt x="2783" y="11451"/>
                  <a:pt x="2778" y="11378"/>
                  <a:pt x="2778" y="11286"/>
                </a:cubicBezTo>
                <a:cubicBezTo>
                  <a:pt x="2778" y="11221"/>
                  <a:pt x="2755" y="11147"/>
                  <a:pt x="2729" y="11088"/>
                </a:cubicBezTo>
                <a:cubicBezTo>
                  <a:pt x="2695" y="11011"/>
                  <a:pt x="2694" y="10942"/>
                  <a:pt x="2654" y="10864"/>
                </a:cubicBezTo>
                <a:cubicBezTo>
                  <a:pt x="2617" y="10792"/>
                  <a:pt x="2596" y="10739"/>
                  <a:pt x="2555" y="10666"/>
                </a:cubicBezTo>
                <a:cubicBezTo>
                  <a:pt x="2523" y="10609"/>
                  <a:pt x="2502" y="10564"/>
                  <a:pt x="2456" y="10517"/>
                </a:cubicBezTo>
                <a:cubicBezTo>
                  <a:pt x="2429" y="10490"/>
                  <a:pt x="2370" y="10440"/>
                  <a:pt x="2332" y="10443"/>
                </a:cubicBezTo>
                <a:cubicBezTo>
                  <a:pt x="2309" y="10466"/>
                  <a:pt x="2305" y="10474"/>
                  <a:pt x="2282" y="104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8240" y="4027320"/>
            <a:ext cx="4884840" cy="1857600"/>
          </a:xfrm>
          <a:custGeom>
            <a:avLst/>
            <a:gdLst/>
            <a:ahLst/>
            <a:rect l="l" t="t" r="r" b="b"/>
            <a:pathLst>
              <a:path w="13569" h="5160">
                <a:moveTo>
                  <a:pt x="2431" y="11237"/>
                </a:moveTo>
                <a:cubicBezTo>
                  <a:pt x="2433" y="11241"/>
                  <a:pt x="2477" y="11285"/>
                  <a:pt x="2480" y="11311"/>
                </a:cubicBezTo>
                <a:cubicBezTo>
                  <a:pt x="2492" y="11398"/>
                  <a:pt x="2453" y="11537"/>
                  <a:pt x="2456" y="11584"/>
                </a:cubicBezTo>
                <a:cubicBezTo>
                  <a:pt x="2458" y="11607"/>
                  <a:pt x="2478" y="11648"/>
                  <a:pt x="2480" y="11683"/>
                </a:cubicBezTo>
                <a:cubicBezTo>
                  <a:pt x="2484" y="11753"/>
                  <a:pt x="2509" y="11871"/>
                  <a:pt x="2505" y="11931"/>
                </a:cubicBezTo>
                <a:cubicBezTo>
                  <a:pt x="2502" y="11968"/>
                  <a:pt x="2480" y="12027"/>
                  <a:pt x="2480" y="12080"/>
                </a:cubicBezTo>
                <a:cubicBezTo>
                  <a:pt x="2480" y="12171"/>
                  <a:pt x="2480" y="12212"/>
                  <a:pt x="2480" y="12303"/>
                </a:cubicBezTo>
                <a:cubicBezTo>
                  <a:pt x="2480" y="12839"/>
                  <a:pt x="2498" y="13388"/>
                  <a:pt x="2456" y="13915"/>
                </a:cubicBezTo>
                <a:cubicBezTo>
                  <a:pt x="2451" y="13981"/>
                  <a:pt x="2435" y="14054"/>
                  <a:pt x="2431" y="14114"/>
                </a:cubicBezTo>
                <a:cubicBezTo>
                  <a:pt x="2422" y="14230"/>
                  <a:pt x="2415" y="14352"/>
                  <a:pt x="2406" y="14461"/>
                </a:cubicBezTo>
                <a:cubicBezTo>
                  <a:pt x="2395" y="14592"/>
                  <a:pt x="2391" y="14734"/>
                  <a:pt x="2381" y="14858"/>
                </a:cubicBezTo>
                <a:cubicBezTo>
                  <a:pt x="2372" y="14970"/>
                  <a:pt x="2364" y="15107"/>
                  <a:pt x="2356" y="15205"/>
                </a:cubicBezTo>
                <a:cubicBezTo>
                  <a:pt x="2348" y="15313"/>
                  <a:pt x="2341" y="15422"/>
                  <a:pt x="2332" y="15528"/>
                </a:cubicBezTo>
                <a:cubicBezTo>
                  <a:pt x="2320" y="15682"/>
                  <a:pt x="2320" y="15858"/>
                  <a:pt x="2307" y="15999"/>
                </a:cubicBezTo>
                <a:cubicBezTo>
                  <a:pt x="2300" y="16072"/>
                  <a:pt x="2288" y="16162"/>
                  <a:pt x="2282" y="16222"/>
                </a:cubicBezTo>
                <a:cubicBezTo>
                  <a:pt x="2279" y="16255"/>
                  <a:pt x="2284" y="16288"/>
                  <a:pt x="2282" y="16321"/>
                </a:cubicBezTo>
              </a:path>
              <a:path w="13569" h="5160">
                <a:moveTo>
                  <a:pt x="2555" y="11261"/>
                </a:moveTo>
                <a:cubicBezTo>
                  <a:pt x="2608" y="11278"/>
                  <a:pt x="2654" y="11266"/>
                  <a:pt x="2704" y="11286"/>
                </a:cubicBezTo>
                <a:cubicBezTo>
                  <a:pt x="2744" y="11302"/>
                  <a:pt x="2789" y="11318"/>
                  <a:pt x="2828" y="11336"/>
                </a:cubicBezTo>
                <a:cubicBezTo>
                  <a:pt x="2897" y="11367"/>
                  <a:pt x="2954" y="11408"/>
                  <a:pt x="3026" y="11435"/>
                </a:cubicBezTo>
                <a:cubicBezTo>
                  <a:pt x="3091" y="11460"/>
                  <a:pt x="3166" y="11481"/>
                  <a:pt x="3225" y="11509"/>
                </a:cubicBezTo>
                <a:cubicBezTo>
                  <a:pt x="3351" y="11569"/>
                  <a:pt x="3480" y="11623"/>
                  <a:pt x="3597" y="11683"/>
                </a:cubicBezTo>
                <a:cubicBezTo>
                  <a:pt x="3658" y="11714"/>
                  <a:pt x="3711" y="11749"/>
                  <a:pt x="3770" y="11782"/>
                </a:cubicBezTo>
                <a:cubicBezTo>
                  <a:pt x="3830" y="11815"/>
                  <a:pt x="3888" y="11844"/>
                  <a:pt x="3944" y="11881"/>
                </a:cubicBezTo>
                <a:cubicBezTo>
                  <a:pt x="4004" y="11920"/>
                  <a:pt x="4058" y="11966"/>
                  <a:pt x="4118" y="12005"/>
                </a:cubicBezTo>
                <a:cubicBezTo>
                  <a:pt x="4215" y="12068"/>
                  <a:pt x="4323" y="12116"/>
                  <a:pt x="4415" y="12179"/>
                </a:cubicBezTo>
                <a:cubicBezTo>
                  <a:pt x="4474" y="12219"/>
                  <a:pt x="4530" y="12263"/>
                  <a:pt x="4589" y="12303"/>
                </a:cubicBezTo>
                <a:cubicBezTo>
                  <a:pt x="4670" y="12358"/>
                  <a:pt x="4733" y="12394"/>
                  <a:pt x="4812" y="12452"/>
                </a:cubicBezTo>
                <a:cubicBezTo>
                  <a:pt x="4885" y="12505"/>
                  <a:pt x="4944" y="12551"/>
                  <a:pt x="5011" y="12601"/>
                </a:cubicBezTo>
                <a:cubicBezTo>
                  <a:pt x="5076" y="12649"/>
                  <a:pt x="5142" y="12704"/>
                  <a:pt x="5209" y="12750"/>
                </a:cubicBezTo>
                <a:cubicBezTo>
                  <a:pt x="5273" y="12794"/>
                  <a:pt x="5342" y="12834"/>
                  <a:pt x="5407" y="12874"/>
                </a:cubicBezTo>
                <a:cubicBezTo>
                  <a:pt x="5485" y="12922"/>
                  <a:pt x="5554" y="12968"/>
                  <a:pt x="5631" y="13022"/>
                </a:cubicBezTo>
                <a:cubicBezTo>
                  <a:pt x="5718" y="13083"/>
                  <a:pt x="5818" y="13133"/>
                  <a:pt x="5904" y="13196"/>
                </a:cubicBezTo>
                <a:cubicBezTo>
                  <a:pt x="5972" y="13246"/>
                  <a:pt x="6030" y="13300"/>
                  <a:pt x="6102" y="13345"/>
                </a:cubicBezTo>
                <a:cubicBezTo>
                  <a:pt x="6179" y="13394"/>
                  <a:pt x="6252" y="13441"/>
                  <a:pt x="6325" y="13494"/>
                </a:cubicBezTo>
                <a:cubicBezTo>
                  <a:pt x="6393" y="13543"/>
                  <a:pt x="6458" y="13591"/>
                  <a:pt x="6524" y="13643"/>
                </a:cubicBezTo>
                <a:cubicBezTo>
                  <a:pt x="6621" y="13720"/>
                  <a:pt x="6726" y="13788"/>
                  <a:pt x="6821" y="13866"/>
                </a:cubicBezTo>
                <a:cubicBezTo>
                  <a:pt x="6886" y="13919"/>
                  <a:pt x="6956" y="13963"/>
                  <a:pt x="7020" y="14015"/>
                </a:cubicBezTo>
                <a:cubicBezTo>
                  <a:pt x="7109" y="14087"/>
                  <a:pt x="7199" y="14173"/>
                  <a:pt x="7293" y="14238"/>
                </a:cubicBezTo>
                <a:cubicBezTo>
                  <a:pt x="7382" y="14300"/>
                  <a:pt x="7477" y="14350"/>
                  <a:pt x="7565" y="14412"/>
                </a:cubicBezTo>
                <a:cubicBezTo>
                  <a:pt x="7615" y="14447"/>
                  <a:pt x="7682" y="14495"/>
                  <a:pt x="7739" y="14536"/>
                </a:cubicBezTo>
                <a:cubicBezTo>
                  <a:pt x="7798" y="14578"/>
                  <a:pt x="7852" y="14621"/>
                  <a:pt x="7913" y="14660"/>
                </a:cubicBezTo>
                <a:cubicBezTo>
                  <a:pt x="8053" y="14749"/>
                  <a:pt x="8195" y="14845"/>
                  <a:pt x="8334" y="14932"/>
                </a:cubicBezTo>
                <a:cubicBezTo>
                  <a:pt x="8391" y="14968"/>
                  <a:pt x="8451" y="14996"/>
                  <a:pt x="8508" y="15032"/>
                </a:cubicBezTo>
                <a:cubicBezTo>
                  <a:pt x="8558" y="15063"/>
                  <a:pt x="8606" y="15099"/>
                  <a:pt x="8657" y="15131"/>
                </a:cubicBezTo>
                <a:cubicBezTo>
                  <a:pt x="8721" y="15171"/>
                  <a:pt x="8795" y="15210"/>
                  <a:pt x="8855" y="15255"/>
                </a:cubicBezTo>
                <a:cubicBezTo>
                  <a:pt x="8904" y="15291"/>
                  <a:pt x="8954" y="15319"/>
                  <a:pt x="9004" y="15354"/>
                </a:cubicBezTo>
                <a:cubicBezTo>
                  <a:pt x="9059" y="15392"/>
                  <a:pt x="9143" y="15456"/>
                  <a:pt x="9203" y="15503"/>
                </a:cubicBezTo>
                <a:cubicBezTo>
                  <a:pt x="9290" y="15570"/>
                  <a:pt x="9369" y="15634"/>
                  <a:pt x="9451" y="15701"/>
                </a:cubicBezTo>
                <a:cubicBezTo>
                  <a:pt x="9499" y="15741"/>
                  <a:pt x="9548" y="15787"/>
                  <a:pt x="9599" y="15825"/>
                </a:cubicBezTo>
                <a:cubicBezTo>
                  <a:pt x="9634" y="15851"/>
                  <a:pt x="9661" y="15871"/>
                  <a:pt x="9699" y="15900"/>
                </a:cubicBezTo>
                <a:cubicBezTo>
                  <a:pt x="9735" y="15927"/>
                  <a:pt x="9761" y="15942"/>
                  <a:pt x="9798" y="15974"/>
                </a:cubicBezTo>
                <a:cubicBezTo>
                  <a:pt x="9815" y="15989"/>
                  <a:pt x="9832" y="16012"/>
                  <a:pt x="9847" y="16024"/>
                </a:cubicBezTo>
                <a:cubicBezTo>
                  <a:pt x="9873" y="16045"/>
                  <a:pt x="9847" y="16027"/>
                  <a:pt x="9872" y="16049"/>
                </a:cubicBezTo>
                <a:cubicBezTo>
                  <a:pt x="9864" y="16041"/>
                  <a:pt x="9855" y="16032"/>
                  <a:pt x="9847" y="16024"/>
                </a:cubicBezTo>
              </a:path>
              <a:path w="13569" h="5160">
                <a:moveTo>
                  <a:pt x="2530" y="11187"/>
                </a:moveTo>
                <a:cubicBezTo>
                  <a:pt x="2568" y="11195"/>
                  <a:pt x="2607" y="11231"/>
                  <a:pt x="2654" y="11237"/>
                </a:cubicBezTo>
                <a:cubicBezTo>
                  <a:pt x="2771" y="11252"/>
                  <a:pt x="2884" y="11244"/>
                  <a:pt x="3001" y="11261"/>
                </a:cubicBezTo>
                <a:cubicBezTo>
                  <a:pt x="3098" y="11275"/>
                  <a:pt x="3201" y="11295"/>
                  <a:pt x="3299" y="11311"/>
                </a:cubicBezTo>
                <a:cubicBezTo>
                  <a:pt x="3385" y="11325"/>
                  <a:pt x="3485" y="11342"/>
                  <a:pt x="3572" y="11361"/>
                </a:cubicBezTo>
                <a:cubicBezTo>
                  <a:pt x="3672" y="11383"/>
                  <a:pt x="3769" y="11416"/>
                  <a:pt x="3870" y="11435"/>
                </a:cubicBezTo>
                <a:cubicBezTo>
                  <a:pt x="3976" y="11455"/>
                  <a:pt x="4086" y="11463"/>
                  <a:pt x="4192" y="11485"/>
                </a:cubicBezTo>
                <a:cubicBezTo>
                  <a:pt x="4301" y="11507"/>
                  <a:pt x="4407" y="11537"/>
                  <a:pt x="4514" y="11559"/>
                </a:cubicBezTo>
                <a:cubicBezTo>
                  <a:pt x="4639" y="11584"/>
                  <a:pt x="4764" y="11604"/>
                  <a:pt x="4887" y="11633"/>
                </a:cubicBezTo>
                <a:cubicBezTo>
                  <a:pt x="5113" y="11687"/>
                  <a:pt x="5330" y="11727"/>
                  <a:pt x="5556" y="11782"/>
                </a:cubicBezTo>
                <a:cubicBezTo>
                  <a:pt x="6426" y="11994"/>
                  <a:pt x="7294" y="12206"/>
                  <a:pt x="8136" y="12502"/>
                </a:cubicBezTo>
                <a:cubicBezTo>
                  <a:pt x="8277" y="12551"/>
                  <a:pt x="8417" y="12599"/>
                  <a:pt x="8558" y="12650"/>
                </a:cubicBezTo>
                <a:cubicBezTo>
                  <a:pt x="9039" y="12823"/>
                  <a:pt x="9514" y="12984"/>
                  <a:pt x="9996" y="13146"/>
                </a:cubicBezTo>
                <a:cubicBezTo>
                  <a:pt x="10155" y="13200"/>
                  <a:pt x="10311" y="13261"/>
                  <a:pt x="10468" y="13320"/>
                </a:cubicBezTo>
                <a:cubicBezTo>
                  <a:pt x="10725" y="13416"/>
                  <a:pt x="10983" y="13496"/>
                  <a:pt x="11237" y="13593"/>
                </a:cubicBezTo>
                <a:cubicBezTo>
                  <a:pt x="11386" y="13650"/>
                  <a:pt x="11536" y="13705"/>
                  <a:pt x="11683" y="13767"/>
                </a:cubicBezTo>
                <a:cubicBezTo>
                  <a:pt x="11856" y="13840"/>
                  <a:pt x="12034" y="13915"/>
                  <a:pt x="12204" y="13990"/>
                </a:cubicBezTo>
                <a:cubicBezTo>
                  <a:pt x="12900" y="14299"/>
                  <a:pt x="13567" y="14668"/>
                  <a:pt x="14238" y="15007"/>
                </a:cubicBezTo>
                <a:cubicBezTo>
                  <a:pt x="14436" y="15107"/>
                  <a:pt x="14642" y="15199"/>
                  <a:pt x="14833" y="15304"/>
                </a:cubicBezTo>
                <a:cubicBezTo>
                  <a:pt x="14936" y="15361"/>
                  <a:pt x="15028" y="15423"/>
                  <a:pt x="15131" y="15478"/>
                </a:cubicBezTo>
                <a:cubicBezTo>
                  <a:pt x="15211" y="15520"/>
                  <a:pt x="15294" y="15565"/>
                  <a:pt x="15379" y="15602"/>
                </a:cubicBezTo>
                <a:cubicBezTo>
                  <a:pt x="15439" y="15628"/>
                  <a:pt x="15493" y="15653"/>
                  <a:pt x="15553" y="15677"/>
                </a:cubicBezTo>
                <a:cubicBezTo>
                  <a:pt x="15584" y="15689"/>
                  <a:pt x="15622" y="15688"/>
                  <a:pt x="15652" y="15701"/>
                </a:cubicBezTo>
                <a:cubicBezTo>
                  <a:pt x="15674" y="15723"/>
                  <a:pt x="15679" y="15732"/>
                  <a:pt x="15701" y="15726"/>
                </a:cubicBezTo>
                <a:cubicBezTo>
                  <a:pt x="15651" y="15738"/>
                  <a:pt x="15698" y="15766"/>
                  <a:pt x="15627" y="15776"/>
                </a:cubicBezTo>
                <a:cubicBezTo>
                  <a:pt x="15538" y="15788"/>
                  <a:pt x="15432" y="15796"/>
                  <a:pt x="15329" y="15801"/>
                </a:cubicBezTo>
                <a:cubicBezTo>
                  <a:pt x="15135" y="15811"/>
                  <a:pt x="14950" y="15811"/>
                  <a:pt x="14759" y="15825"/>
                </a:cubicBezTo>
                <a:cubicBezTo>
                  <a:pt x="14685" y="15830"/>
                  <a:pt x="14612" y="15841"/>
                  <a:pt x="14536" y="15850"/>
                </a:cubicBezTo>
                <a:cubicBezTo>
                  <a:pt x="14428" y="15863"/>
                  <a:pt x="14317" y="15885"/>
                  <a:pt x="14213" y="15900"/>
                </a:cubicBezTo>
                <a:cubicBezTo>
                  <a:pt x="14123" y="15913"/>
                  <a:pt x="14030" y="15911"/>
                  <a:pt x="13940" y="15925"/>
                </a:cubicBezTo>
                <a:cubicBezTo>
                  <a:pt x="13842" y="15940"/>
                  <a:pt x="13741" y="15957"/>
                  <a:pt x="13643" y="15974"/>
                </a:cubicBezTo>
                <a:cubicBezTo>
                  <a:pt x="13555" y="15989"/>
                  <a:pt x="13458" y="16016"/>
                  <a:pt x="13370" y="16024"/>
                </a:cubicBezTo>
                <a:cubicBezTo>
                  <a:pt x="13275" y="16033"/>
                  <a:pt x="13189" y="16043"/>
                  <a:pt x="13097" y="16049"/>
                </a:cubicBezTo>
                <a:cubicBezTo>
                  <a:pt x="12643" y="16079"/>
                  <a:pt x="12182" y="16036"/>
                  <a:pt x="11733" y="16024"/>
                </a:cubicBezTo>
                <a:cubicBezTo>
                  <a:pt x="11396" y="16015"/>
                  <a:pt x="11045" y="16008"/>
                  <a:pt x="10716" y="16049"/>
                </a:cubicBezTo>
                <a:cubicBezTo>
                  <a:pt x="10640" y="16058"/>
                  <a:pt x="10570" y="16063"/>
                  <a:pt x="10492" y="16073"/>
                </a:cubicBezTo>
                <a:cubicBezTo>
                  <a:pt x="10380" y="16087"/>
                  <a:pt x="10258" y="16112"/>
                  <a:pt x="10145" y="16123"/>
                </a:cubicBezTo>
                <a:cubicBezTo>
                  <a:pt x="10058" y="16131"/>
                  <a:pt x="9982" y="16140"/>
                  <a:pt x="9897" y="16148"/>
                </a:cubicBezTo>
                <a:cubicBezTo>
                  <a:pt x="9706" y="16165"/>
                  <a:pt x="9521" y="16171"/>
                  <a:pt x="9327" y="16173"/>
                </a:cubicBezTo>
                <a:cubicBezTo>
                  <a:pt x="9125" y="16175"/>
                  <a:pt x="8929" y="16192"/>
                  <a:pt x="8731" y="16197"/>
                </a:cubicBezTo>
                <a:cubicBezTo>
                  <a:pt x="8512" y="16202"/>
                  <a:pt x="8304" y="16217"/>
                  <a:pt x="8086" y="16222"/>
                </a:cubicBezTo>
                <a:cubicBezTo>
                  <a:pt x="7373" y="16238"/>
                  <a:pt x="6657" y="16222"/>
                  <a:pt x="5953" y="16222"/>
                </a:cubicBezTo>
                <a:cubicBezTo>
                  <a:pt x="5726" y="16222"/>
                  <a:pt x="5508" y="16232"/>
                  <a:pt x="5283" y="16247"/>
                </a:cubicBezTo>
                <a:cubicBezTo>
                  <a:pt x="5166" y="16255"/>
                  <a:pt x="5054" y="16263"/>
                  <a:pt x="4936" y="16272"/>
                </a:cubicBezTo>
                <a:cubicBezTo>
                  <a:pt x="4795" y="16282"/>
                  <a:pt x="4654" y="16306"/>
                  <a:pt x="4514" y="16321"/>
                </a:cubicBezTo>
                <a:cubicBezTo>
                  <a:pt x="4324" y="16341"/>
                  <a:pt x="4136" y="16340"/>
                  <a:pt x="3944" y="16346"/>
                </a:cubicBezTo>
                <a:cubicBezTo>
                  <a:pt x="3734" y="16353"/>
                  <a:pt x="3527" y="16346"/>
                  <a:pt x="3324" y="16321"/>
                </a:cubicBezTo>
                <a:cubicBezTo>
                  <a:pt x="3248" y="16312"/>
                  <a:pt x="3173" y="16286"/>
                  <a:pt x="3101" y="16272"/>
                </a:cubicBezTo>
                <a:cubicBezTo>
                  <a:pt x="3052" y="16263"/>
                  <a:pt x="2993" y="16229"/>
                  <a:pt x="2952" y="16222"/>
                </a:cubicBezTo>
                <a:cubicBezTo>
                  <a:pt x="2884" y="16211"/>
                  <a:pt x="2848" y="16204"/>
                  <a:pt x="2778" y="16197"/>
                </a:cubicBezTo>
                <a:cubicBezTo>
                  <a:pt x="2561" y="16174"/>
                  <a:pt x="2336" y="16208"/>
                  <a:pt x="2133" y="162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11920" y="3776760"/>
            <a:ext cx="2108160" cy="662040"/>
          </a:xfrm>
          <a:custGeom>
            <a:avLst/>
            <a:gdLst/>
            <a:ahLst/>
            <a:rect l="l" t="t" r="r" b="b"/>
            <a:pathLst>
              <a:path w="5855" h="1837">
                <a:moveTo>
                  <a:pt x="17785" y="10666"/>
                </a:moveTo>
                <a:cubicBezTo>
                  <a:pt x="17785" y="10772"/>
                  <a:pt x="17773" y="10859"/>
                  <a:pt x="17760" y="10964"/>
                </a:cubicBezTo>
                <a:cubicBezTo>
                  <a:pt x="17748" y="11061"/>
                  <a:pt x="17757" y="11144"/>
                  <a:pt x="17735" y="11237"/>
                </a:cubicBezTo>
                <a:cubicBezTo>
                  <a:pt x="17726" y="11274"/>
                  <a:pt x="17735" y="11323"/>
                  <a:pt x="17735" y="11361"/>
                </a:cubicBezTo>
              </a:path>
              <a:path w="5855" h="1837">
                <a:moveTo>
                  <a:pt x="17338" y="10988"/>
                </a:moveTo>
                <a:cubicBezTo>
                  <a:pt x="17570" y="10988"/>
                  <a:pt x="17801" y="10988"/>
                  <a:pt x="18033" y="10988"/>
                </a:cubicBezTo>
              </a:path>
              <a:path w="5855" h="1837">
                <a:moveTo>
                  <a:pt x="18256" y="11112"/>
                </a:moveTo>
                <a:cubicBezTo>
                  <a:pt x="18278" y="11105"/>
                  <a:pt x="18301" y="11074"/>
                  <a:pt x="18281" y="11038"/>
                </a:cubicBezTo>
                <a:cubicBezTo>
                  <a:pt x="18270" y="11018"/>
                  <a:pt x="18237" y="10967"/>
                  <a:pt x="18231" y="10964"/>
                </a:cubicBezTo>
                <a:cubicBezTo>
                  <a:pt x="18201" y="10949"/>
                  <a:pt x="18156" y="11005"/>
                  <a:pt x="18132" y="11013"/>
                </a:cubicBezTo>
                <a:cubicBezTo>
                  <a:pt x="18081" y="11030"/>
                  <a:pt x="18084" y="11050"/>
                  <a:pt x="18058" y="11088"/>
                </a:cubicBezTo>
                <a:cubicBezTo>
                  <a:pt x="18027" y="11134"/>
                  <a:pt x="18013" y="11153"/>
                  <a:pt x="18008" y="11212"/>
                </a:cubicBezTo>
                <a:cubicBezTo>
                  <a:pt x="18004" y="11254"/>
                  <a:pt x="18047" y="11282"/>
                  <a:pt x="18083" y="11286"/>
                </a:cubicBezTo>
                <a:cubicBezTo>
                  <a:pt x="18122" y="11290"/>
                  <a:pt x="18164" y="11277"/>
                  <a:pt x="18182" y="11237"/>
                </a:cubicBezTo>
                <a:cubicBezTo>
                  <a:pt x="18187" y="11226"/>
                  <a:pt x="18201" y="11142"/>
                  <a:pt x="18207" y="11137"/>
                </a:cubicBezTo>
                <a:cubicBezTo>
                  <a:pt x="18228" y="11119"/>
                  <a:pt x="18231" y="11079"/>
                  <a:pt x="18231" y="11112"/>
                </a:cubicBezTo>
                <a:cubicBezTo>
                  <a:pt x="18231" y="11162"/>
                  <a:pt x="18249" y="11195"/>
                  <a:pt x="18281" y="11237"/>
                </a:cubicBezTo>
                <a:cubicBezTo>
                  <a:pt x="18307" y="11272"/>
                  <a:pt x="18341" y="11261"/>
                  <a:pt x="18380" y="11261"/>
                </a:cubicBezTo>
                <a:cubicBezTo>
                  <a:pt x="18405" y="11261"/>
                  <a:pt x="18413" y="11261"/>
                  <a:pt x="18405" y="11237"/>
                </a:cubicBezTo>
              </a:path>
              <a:path w="5855" h="1837">
                <a:moveTo>
                  <a:pt x="18504" y="11063"/>
                </a:moveTo>
                <a:cubicBezTo>
                  <a:pt x="18504" y="11115"/>
                  <a:pt x="18504" y="11317"/>
                  <a:pt x="18504" y="11286"/>
                </a:cubicBezTo>
                <a:cubicBezTo>
                  <a:pt x="18504" y="11231"/>
                  <a:pt x="18516" y="11215"/>
                  <a:pt x="18529" y="11162"/>
                </a:cubicBezTo>
                <a:cubicBezTo>
                  <a:pt x="18541" y="11115"/>
                  <a:pt x="18528" y="11056"/>
                  <a:pt x="18554" y="11013"/>
                </a:cubicBezTo>
                <a:cubicBezTo>
                  <a:pt x="18580" y="10970"/>
                  <a:pt x="18592" y="10963"/>
                  <a:pt x="18628" y="10939"/>
                </a:cubicBezTo>
                <a:cubicBezTo>
                  <a:pt x="18653" y="10922"/>
                  <a:pt x="18706" y="10921"/>
                  <a:pt x="18728" y="10964"/>
                </a:cubicBezTo>
                <a:cubicBezTo>
                  <a:pt x="18748" y="11003"/>
                  <a:pt x="18735" y="11048"/>
                  <a:pt x="18752" y="11088"/>
                </a:cubicBezTo>
                <a:cubicBezTo>
                  <a:pt x="18770" y="11130"/>
                  <a:pt x="18777" y="11136"/>
                  <a:pt x="18777" y="11187"/>
                </a:cubicBezTo>
                <a:cubicBezTo>
                  <a:pt x="18777" y="11220"/>
                  <a:pt x="18777" y="11253"/>
                  <a:pt x="18777" y="11286"/>
                </a:cubicBezTo>
              </a:path>
              <a:path w="5855" h="1837">
                <a:moveTo>
                  <a:pt x="19050" y="10716"/>
                </a:moveTo>
                <a:cubicBezTo>
                  <a:pt x="19050" y="10781"/>
                  <a:pt x="19042" y="10789"/>
                  <a:pt x="19025" y="10840"/>
                </a:cubicBezTo>
                <a:cubicBezTo>
                  <a:pt x="19011" y="10882"/>
                  <a:pt x="19016" y="10949"/>
                  <a:pt x="19000" y="10988"/>
                </a:cubicBezTo>
                <a:cubicBezTo>
                  <a:pt x="18979" y="11040"/>
                  <a:pt x="18957" y="11122"/>
                  <a:pt x="18976" y="11187"/>
                </a:cubicBezTo>
                <a:cubicBezTo>
                  <a:pt x="18983" y="11209"/>
                  <a:pt x="19013" y="11269"/>
                  <a:pt x="19025" y="11286"/>
                </a:cubicBezTo>
                <a:cubicBezTo>
                  <a:pt x="19043" y="11313"/>
                  <a:pt x="19118" y="11328"/>
                  <a:pt x="19149" y="11311"/>
                </a:cubicBezTo>
                <a:cubicBezTo>
                  <a:pt x="19177" y="11296"/>
                  <a:pt x="19233" y="11271"/>
                  <a:pt x="19248" y="11237"/>
                </a:cubicBezTo>
                <a:cubicBezTo>
                  <a:pt x="19258" y="11215"/>
                  <a:pt x="19294" y="11159"/>
                  <a:pt x="19298" y="11137"/>
                </a:cubicBezTo>
                <a:cubicBezTo>
                  <a:pt x="19305" y="11092"/>
                  <a:pt x="19299" y="11026"/>
                  <a:pt x="19273" y="11013"/>
                </a:cubicBezTo>
                <a:cubicBezTo>
                  <a:pt x="19238" y="10996"/>
                  <a:pt x="19187" y="11033"/>
                  <a:pt x="19174" y="11063"/>
                </a:cubicBezTo>
                <a:cubicBezTo>
                  <a:pt x="19141" y="11136"/>
                  <a:pt x="19178" y="11274"/>
                  <a:pt x="19199" y="11336"/>
                </a:cubicBezTo>
                <a:cubicBezTo>
                  <a:pt x="19212" y="11376"/>
                  <a:pt x="19217" y="11361"/>
                  <a:pt x="19273" y="11361"/>
                </a:cubicBezTo>
              </a:path>
              <a:path w="5855" h="1837">
                <a:moveTo>
                  <a:pt x="19472" y="10815"/>
                </a:moveTo>
                <a:cubicBezTo>
                  <a:pt x="19455" y="10878"/>
                  <a:pt x="19433" y="10951"/>
                  <a:pt x="19422" y="11013"/>
                </a:cubicBezTo>
                <a:cubicBezTo>
                  <a:pt x="19413" y="11063"/>
                  <a:pt x="19376" y="11132"/>
                  <a:pt x="19397" y="11187"/>
                </a:cubicBezTo>
                <a:cubicBezTo>
                  <a:pt x="19416" y="11236"/>
                  <a:pt x="19432" y="11270"/>
                  <a:pt x="19472" y="11311"/>
                </a:cubicBezTo>
                <a:cubicBezTo>
                  <a:pt x="19492" y="11331"/>
                  <a:pt x="19540" y="11353"/>
                  <a:pt x="19571" y="11336"/>
                </a:cubicBezTo>
                <a:cubicBezTo>
                  <a:pt x="19625" y="11306"/>
                  <a:pt x="19615" y="11257"/>
                  <a:pt x="19645" y="11212"/>
                </a:cubicBezTo>
                <a:cubicBezTo>
                  <a:pt x="19669" y="11176"/>
                  <a:pt x="19685" y="11112"/>
                  <a:pt x="19670" y="11063"/>
                </a:cubicBezTo>
                <a:cubicBezTo>
                  <a:pt x="19654" y="11008"/>
                  <a:pt x="19616" y="10964"/>
                  <a:pt x="19596" y="10914"/>
                </a:cubicBezTo>
                <a:cubicBezTo>
                  <a:pt x="19579" y="10872"/>
                  <a:pt x="19536" y="10863"/>
                  <a:pt x="19521" y="10840"/>
                </a:cubicBezTo>
                <a:cubicBezTo>
                  <a:pt x="19502" y="10812"/>
                  <a:pt x="19508" y="10802"/>
                  <a:pt x="19472" y="10790"/>
                </a:cubicBezTo>
              </a:path>
              <a:path w="5855" h="1837">
                <a:moveTo>
                  <a:pt x="19745" y="10616"/>
                </a:moveTo>
                <a:cubicBezTo>
                  <a:pt x="19753" y="10616"/>
                  <a:pt x="19761" y="10616"/>
                  <a:pt x="19769" y="10616"/>
                </a:cubicBezTo>
                <a:cubicBezTo>
                  <a:pt x="19733" y="10625"/>
                  <a:pt x="19707" y="10654"/>
                  <a:pt x="19695" y="10691"/>
                </a:cubicBezTo>
                <a:cubicBezTo>
                  <a:pt x="19695" y="10716"/>
                  <a:pt x="19695" y="10724"/>
                  <a:pt x="19695" y="10740"/>
                </a:cubicBezTo>
              </a:path>
              <a:path w="5855" h="1837">
                <a:moveTo>
                  <a:pt x="19720" y="10765"/>
                </a:moveTo>
                <a:cubicBezTo>
                  <a:pt x="19757" y="10756"/>
                  <a:pt x="19789" y="10742"/>
                  <a:pt x="19819" y="10716"/>
                </a:cubicBezTo>
                <a:cubicBezTo>
                  <a:pt x="19853" y="10686"/>
                  <a:pt x="19844" y="10659"/>
                  <a:pt x="19844" y="10616"/>
                </a:cubicBezTo>
                <a:cubicBezTo>
                  <a:pt x="19810" y="10605"/>
                  <a:pt x="19813" y="10582"/>
                  <a:pt x="19769" y="10567"/>
                </a:cubicBezTo>
                <a:cubicBezTo>
                  <a:pt x="19741" y="10567"/>
                  <a:pt x="19731" y="10570"/>
                  <a:pt x="19720" y="10592"/>
                </a:cubicBezTo>
              </a:path>
              <a:path w="5855" h="1837">
                <a:moveTo>
                  <a:pt x="20017" y="11013"/>
                </a:moveTo>
                <a:cubicBezTo>
                  <a:pt x="20075" y="11013"/>
                  <a:pt x="20133" y="11013"/>
                  <a:pt x="20191" y="11013"/>
                </a:cubicBezTo>
              </a:path>
              <a:path w="5855" h="1837">
                <a:moveTo>
                  <a:pt x="19993" y="11162"/>
                </a:moveTo>
                <a:cubicBezTo>
                  <a:pt x="20063" y="11183"/>
                  <a:pt x="20095" y="11187"/>
                  <a:pt x="20166" y="11187"/>
                </a:cubicBezTo>
              </a:path>
              <a:path w="5855" h="1837">
                <a:moveTo>
                  <a:pt x="20588" y="10740"/>
                </a:moveTo>
                <a:cubicBezTo>
                  <a:pt x="20588" y="10813"/>
                  <a:pt x="20575" y="10855"/>
                  <a:pt x="20563" y="10914"/>
                </a:cubicBezTo>
                <a:cubicBezTo>
                  <a:pt x="20538" y="11037"/>
                  <a:pt x="20552" y="11228"/>
                  <a:pt x="20588" y="11336"/>
                </a:cubicBezTo>
                <a:cubicBezTo>
                  <a:pt x="20588" y="11361"/>
                  <a:pt x="20588" y="11369"/>
                  <a:pt x="20613" y="11361"/>
                </a:cubicBezTo>
              </a:path>
              <a:path w="5855" h="1837">
                <a:moveTo>
                  <a:pt x="20687" y="10914"/>
                </a:moveTo>
                <a:cubicBezTo>
                  <a:pt x="20708" y="10864"/>
                  <a:pt x="20742" y="10835"/>
                  <a:pt x="20762" y="10790"/>
                </a:cubicBezTo>
                <a:cubicBezTo>
                  <a:pt x="20774" y="10762"/>
                  <a:pt x="20793" y="10745"/>
                  <a:pt x="20836" y="10740"/>
                </a:cubicBezTo>
                <a:cubicBezTo>
                  <a:pt x="20868" y="10736"/>
                  <a:pt x="20912" y="10769"/>
                  <a:pt x="20935" y="10790"/>
                </a:cubicBezTo>
                <a:cubicBezTo>
                  <a:pt x="20967" y="10819"/>
                  <a:pt x="21005" y="10847"/>
                  <a:pt x="21010" y="10889"/>
                </a:cubicBezTo>
                <a:cubicBezTo>
                  <a:pt x="21016" y="10943"/>
                  <a:pt x="21016" y="10952"/>
                  <a:pt x="21010" y="11013"/>
                </a:cubicBezTo>
                <a:cubicBezTo>
                  <a:pt x="21005" y="11064"/>
                  <a:pt x="20983" y="11097"/>
                  <a:pt x="20960" y="11137"/>
                </a:cubicBezTo>
                <a:cubicBezTo>
                  <a:pt x="20923" y="11202"/>
                  <a:pt x="20889" y="11258"/>
                  <a:pt x="20836" y="11311"/>
                </a:cubicBezTo>
                <a:cubicBezTo>
                  <a:pt x="20807" y="11340"/>
                  <a:pt x="20795" y="11349"/>
                  <a:pt x="20786" y="11385"/>
                </a:cubicBezTo>
                <a:cubicBezTo>
                  <a:pt x="20869" y="11385"/>
                  <a:pt x="20938" y="11382"/>
                  <a:pt x="21010" y="11361"/>
                </a:cubicBezTo>
                <a:cubicBezTo>
                  <a:pt x="21079" y="11341"/>
                  <a:pt x="21185" y="11361"/>
                  <a:pt x="21258" y="11361"/>
                </a:cubicBezTo>
              </a:path>
              <a:path w="5855" h="1837">
                <a:moveTo>
                  <a:pt x="20464" y="11534"/>
                </a:moveTo>
                <a:cubicBezTo>
                  <a:pt x="20552" y="11542"/>
                  <a:pt x="20621" y="11559"/>
                  <a:pt x="20712" y="11559"/>
                </a:cubicBezTo>
                <a:cubicBezTo>
                  <a:pt x="20809" y="11559"/>
                  <a:pt x="20890" y="11572"/>
                  <a:pt x="20985" y="11584"/>
                </a:cubicBezTo>
                <a:cubicBezTo>
                  <a:pt x="21039" y="11591"/>
                  <a:pt x="21063" y="11590"/>
                  <a:pt x="21084" y="11559"/>
                </a:cubicBezTo>
              </a:path>
              <a:path w="5855" h="1837">
                <a:moveTo>
                  <a:pt x="20613" y="11832"/>
                </a:moveTo>
                <a:cubicBezTo>
                  <a:pt x="20665" y="11922"/>
                  <a:pt x="20687" y="11992"/>
                  <a:pt x="20762" y="12055"/>
                </a:cubicBezTo>
                <a:cubicBezTo>
                  <a:pt x="20815" y="12100"/>
                  <a:pt x="20862" y="12165"/>
                  <a:pt x="20910" y="12204"/>
                </a:cubicBezTo>
                <a:cubicBezTo>
                  <a:pt x="20951" y="12237"/>
                  <a:pt x="21033" y="12273"/>
                  <a:pt x="21084" y="12278"/>
                </a:cubicBezTo>
                <a:cubicBezTo>
                  <a:pt x="21109" y="12278"/>
                  <a:pt x="21117" y="12278"/>
                  <a:pt x="21134" y="12278"/>
                </a:cubicBezTo>
              </a:path>
              <a:path w="5855" h="1837">
                <a:moveTo>
                  <a:pt x="20910" y="11832"/>
                </a:moveTo>
                <a:cubicBezTo>
                  <a:pt x="20844" y="11920"/>
                  <a:pt x="20786" y="12027"/>
                  <a:pt x="20712" y="12105"/>
                </a:cubicBezTo>
                <a:cubicBezTo>
                  <a:pt x="20663" y="12157"/>
                  <a:pt x="20625" y="12218"/>
                  <a:pt x="20588" y="12278"/>
                </a:cubicBezTo>
                <a:cubicBezTo>
                  <a:pt x="20580" y="12295"/>
                  <a:pt x="20571" y="12311"/>
                  <a:pt x="20563" y="12328"/>
                </a:cubicBezTo>
              </a:path>
              <a:path w="5855" h="1837">
                <a:moveTo>
                  <a:pt x="21530" y="11460"/>
                </a:moveTo>
                <a:lnTo>
                  <a:pt x="21530" y="11460"/>
                </a:lnTo>
              </a:path>
              <a:path w="5855" h="1837">
                <a:moveTo>
                  <a:pt x="21803" y="10840"/>
                </a:moveTo>
                <a:cubicBezTo>
                  <a:pt x="21837" y="10901"/>
                  <a:pt x="21877" y="10954"/>
                  <a:pt x="21903" y="11013"/>
                </a:cubicBezTo>
                <a:cubicBezTo>
                  <a:pt x="21923" y="11058"/>
                  <a:pt x="21968" y="11117"/>
                  <a:pt x="22002" y="11162"/>
                </a:cubicBezTo>
                <a:cubicBezTo>
                  <a:pt x="22050" y="11226"/>
                  <a:pt x="22172" y="11325"/>
                  <a:pt x="22250" y="11361"/>
                </a:cubicBezTo>
                <a:cubicBezTo>
                  <a:pt x="22275" y="11361"/>
                  <a:pt x="22283" y="11361"/>
                  <a:pt x="22275" y="11385"/>
                </a:cubicBezTo>
              </a:path>
              <a:path w="5855" h="1837">
                <a:moveTo>
                  <a:pt x="22175" y="10740"/>
                </a:moveTo>
                <a:cubicBezTo>
                  <a:pt x="22105" y="10768"/>
                  <a:pt x="22047" y="10807"/>
                  <a:pt x="22002" y="10864"/>
                </a:cubicBezTo>
                <a:cubicBezTo>
                  <a:pt x="21954" y="10924"/>
                  <a:pt x="21923" y="10972"/>
                  <a:pt x="21878" y="11038"/>
                </a:cubicBezTo>
                <a:cubicBezTo>
                  <a:pt x="21837" y="11097"/>
                  <a:pt x="21789" y="11127"/>
                  <a:pt x="21754" y="11187"/>
                </a:cubicBezTo>
                <a:cubicBezTo>
                  <a:pt x="21746" y="11204"/>
                  <a:pt x="21737" y="11220"/>
                  <a:pt x="21729" y="11237"/>
                </a:cubicBezTo>
              </a:path>
              <a:path w="5855" h="1837">
                <a:moveTo>
                  <a:pt x="16991" y="10815"/>
                </a:moveTo>
                <a:cubicBezTo>
                  <a:pt x="16991" y="10840"/>
                  <a:pt x="16991" y="10848"/>
                  <a:pt x="16991" y="10864"/>
                </a:cubicBezTo>
              </a:path>
              <a:path w="5855" h="1837">
                <a:moveTo>
                  <a:pt x="16446" y="10567"/>
                </a:moveTo>
                <a:cubicBezTo>
                  <a:pt x="16456" y="10618"/>
                  <a:pt x="16471" y="10650"/>
                  <a:pt x="16495" y="10691"/>
                </a:cubicBezTo>
                <a:cubicBezTo>
                  <a:pt x="16532" y="10755"/>
                  <a:pt x="16568" y="10809"/>
                  <a:pt x="16619" y="10864"/>
                </a:cubicBezTo>
                <a:cubicBezTo>
                  <a:pt x="16662" y="10911"/>
                  <a:pt x="16716" y="10976"/>
                  <a:pt x="16768" y="11013"/>
                </a:cubicBezTo>
                <a:cubicBezTo>
                  <a:pt x="16815" y="11046"/>
                  <a:pt x="16850" y="11071"/>
                  <a:pt x="16892" y="11112"/>
                </a:cubicBezTo>
                <a:cubicBezTo>
                  <a:pt x="16920" y="11140"/>
                  <a:pt x="16933" y="11149"/>
                  <a:pt x="16966" y="11137"/>
                </a:cubicBezTo>
              </a:path>
              <a:path w="5855" h="1837">
                <a:moveTo>
                  <a:pt x="16842" y="10492"/>
                </a:moveTo>
                <a:cubicBezTo>
                  <a:pt x="16832" y="10524"/>
                  <a:pt x="16791" y="10549"/>
                  <a:pt x="16768" y="10592"/>
                </a:cubicBezTo>
                <a:cubicBezTo>
                  <a:pt x="16714" y="10691"/>
                  <a:pt x="16669" y="10783"/>
                  <a:pt x="16594" y="10864"/>
                </a:cubicBezTo>
                <a:cubicBezTo>
                  <a:pt x="16530" y="10933"/>
                  <a:pt x="16504" y="10992"/>
                  <a:pt x="16470" y="11063"/>
                </a:cubicBezTo>
                <a:cubicBezTo>
                  <a:pt x="16446" y="11112"/>
                  <a:pt x="16421" y="11102"/>
                  <a:pt x="16421" y="11162"/>
                </a:cubicBezTo>
              </a:path>
              <a:path w="5855" h="1837">
                <a:moveTo>
                  <a:pt x="20389" y="12055"/>
                </a:moveTo>
                <a:cubicBezTo>
                  <a:pt x="20455" y="12030"/>
                  <a:pt x="20523" y="12026"/>
                  <a:pt x="20588" y="12005"/>
                </a:cubicBezTo>
                <a:cubicBezTo>
                  <a:pt x="20670" y="11978"/>
                  <a:pt x="20747" y="11959"/>
                  <a:pt x="20836" y="11956"/>
                </a:cubicBezTo>
                <a:cubicBezTo>
                  <a:pt x="20920" y="11953"/>
                  <a:pt x="21007" y="11938"/>
                  <a:pt x="21084" y="11906"/>
                </a:cubicBezTo>
                <a:cubicBezTo>
                  <a:pt x="21169" y="11870"/>
                  <a:pt x="21200" y="11827"/>
                  <a:pt x="21258" y="11757"/>
                </a:cubicBezTo>
              </a:path>
              <a:path w="5855" h="1837">
                <a:moveTo>
                  <a:pt x="21481" y="11013"/>
                </a:moveTo>
                <a:cubicBezTo>
                  <a:pt x="21598" y="10940"/>
                  <a:pt x="21684" y="10923"/>
                  <a:pt x="21803" y="10864"/>
                </a:cubicBezTo>
                <a:cubicBezTo>
                  <a:pt x="21863" y="10835"/>
                  <a:pt x="21935" y="10822"/>
                  <a:pt x="22002" y="10790"/>
                </a:cubicBezTo>
                <a:cubicBezTo>
                  <a:pt x="22057" y="10764"/>
                  <a:pt x="22120" y="10737"/>
                  <a:pt x="22175" y="10716"/>
                </a:cubicBezTo>
                <a:cubicBezTo>
                  <a:pt x="22200" y="10716"/>
                  <a:pt x="22208" y="10716"/>
                  <a:pt x="22200" y="106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5880" y="3867120"/>
            <a:ext cx="7680240" cy="2963880"/>
          </a:xfrm>
          <a:custGeom>
            <a:avLst/>
            <a:gdLst/>
            <a:ahLst/>
            <a:rect l="l" t="t" r="r" b="b"/>
            <a:pathLst>
              <a:path w="21333" h="8237">
                <a:moveTo>
                  <a:pt x="8731" y="15255"/>
                </a:moveTo>
                <a:cubicBezTo>
                  <a:pt x="8739" y="15255"/>
                  <a:pt x="8748" y="15255"/>
                  <a:pt x="8756" y="15255"/>
                </a:cubicBezTo>
                <a:cubicBezTo>
                  <a:pt x="8746" y="15295"/>
                  <a:pt x="8710" y="15347"/>
                  <a:pt x="8682" y="15379"/>
                </a:cubicBezTo>
                <a:cubicBezTo>
                  <a:pt x="8662" y="15402"/>
                  <a:pt x="8620" y="15449"/>
                  <a:pt x="8607" y="15478"/>
                </a:cubicBezTo>
                <a:cubicBezTo>
                  <a:pt x="8585" y="15528"/>
                  <a:pt x="8577" y="15601"/>
                  <a:pt x="8558" y="15652"/>
                </a:cubicBezTo>
                <a:cubicBezTo>
                  <a:pt x="8534" y="15715"/>
                  <a:pt x="8533" y="15757"/>
                  <a:pt x="8533" y="15825"/>
                </a:cubicBezTo>
                <a:cubicBezTo>
                  <a:pt x="8533" y="15883"/>
                  <a:pt x="8533" y="15941"/>
                  <a:pt x="8533" y="15999"/>
                </a:cubicBezTo>
                <a:cubicBezTo>
                  <a:pt x="8558" y="15999"/>
                  <a:pt x="8566" y="15999"/>
                  <a:pt x="8558" y="16024"/>
                </a:cubicBezTo>
              </a:path>
              <a:path w="21333" h="8237">
                <a:moveTo>
                  <a:pt x="14312" y="15156"/>
                </a:moveTo>
                <a:cubicBezTo>
                  <a:pt x="14268" y="15156"/>
                  <a:pt x="14252" y="15171"/>
                  <a:pt x="14213" y="15180"/>
                </a:cubicBezTo>
                <a:cubicBezTo>
                  <a:pt x="14201" y="15229"/>
                  <a:pt x="14154" y="15258"/>
                  <a:pt x="14139" y="15304"/>
                </a:cubicBezTo>
                <a:cubicBezTo>
                  <a:pt x="14125" y="15346"/>
                  <a:pt x="14101" y="15382"/>
                  <a:pt x="14089" y="15429"/>
                </a:cubicBezTo>
                <a:cubicBezTo>
                  <a:pt x="14079" y="15467"/>
                  <a:pt x="14071" y="15521"/>
                  <a:pt x="14064" y="15553"/>
                </a:cubicBezTo>
                <a:cubicBezTo>
                  <a:pt x="14051" y="15612"/>
                  <a:pt x="14084" y="15647"/>
                  <a:pt x="14089" y="15701"/>
                </a:cubicBezTo>
                <a:cubicBezTo>
                  <a:pt x="14091" y="15725"/>
                  <a:pt x="14089" y="15752"/>
                  <a:pt x="14089" y="15776"/>
                </a:cubicBezTo>
                <a:cubicBezTo>
                  <a:pt x="14127" y="15789"/>
                  <a:pt x="14114" y="15805"/>
                  <a:pt x="14114" y="15850"/>
                </a:cubicBezTo>
              </a:path>
              <a:path w="21333" h="8237">
                <a:moveTo>
                  <a:pt x="12675" y="14982"/>
                </a:moveTo>
                <a:cubicBezTo>
                  <a:pt x="12708" y="14971"/>
                  <a:pt x="12705" y="14942"/>
                  <a:pt x="12725" y="14932"/>
                </a:cubicBezTo>
                <a:cubicBezTo>
                  <a:pt x="12751" y="14919"/>
                  <a:pt x="12761" y="14896"/>
                  <a:pt x="12799" y="14883"/>
                </a:cubicBezTo>
                <a:cubicBezTo>
                  <a:pt x="12815" y="14878"/>
                  <a:pt x="12890" y="14854"/>
                  <a:pt x="12898" y="14858"/>
                </a:cubicBezTo>
                <a:cubicBezTo>
                  <a:pt x="12935" y="14875"/>
                  <a:pt x="12967" y="14901"/>
                  <a:pt x="12998" y="14932"/>
                </a:cubicBezTo>
                <a:cubicBezTo>
                  <a:pt x="13028" y="14962"/>
                  <a:pt x="13027" y="15002"/>
                  <a:pt x="13047" y="15032"/>
                </a:cubicBezTo>
                <a:cubicBezTo>
                  <a:pt x="13065" y="15058"/>
                  <a:pt x="13093" y="15119"/>
                  <a:pt x="13072" y="15156"/>
                </a:cubicBezTo>
                <a:cubicBezTo>
                  <a:pt x="13045" y="15204"/>
                  <a:pt x="13042" y="15237"/>
                  <a:pt x="12998" y="15280"/>
                </a:cubicBezTo>
                <a:cubicBezTo>
                  <a:pt x="12947" y="15331"/>
                  <a:pt x="12920" y="15373"/>
                  <a:pt x="12849" y="15379"/>
                </a:cubicBezTo>
                <a:cubicBezTo>
                  <a:pt x="12798" y="15383"/>
                  <a:pt x="12790" y="15367"/>
                  <a:pt x="12750" y="15354"/>
                </a:cubicBezTo>
                <a:cubicBezTo>
                  <a:pt x="12702" y="15338"/>
                  <a:pt x="12700" y="15333"/>
                  <a:pt x="12700" y="15280"/>
                </a:cubicBezTo>
                <a:cubicBezTo>
                  <a:pt x="12700" y="15255"/>
                  <a:pt x="12700" y="15230"/>
                  <a:pt x="12700" y="15205"/>
                </a:cubicBezTo>
                <a:cubicBezTo>
                  <a:pt x="12736" y="15205"/>
                  <a:pt x="12772" y="15212"/>
                  <a:pt x="12799" y="15230"/>
                </a:cubicBezTo>
                <a:cubicBezTo>
                  <a:pt x="12836" y="15255"/>
                  <a:pt x="12863" y="15269"/>
                  <a:pt x="12898" y="15304"/>
                </a:cubicBezTo>
                <a:cubicBezTo>
                  <a:pt x="12924" y="15330"/>
                  <a:pt x="12984" y="15396"/>
                  <a:pt x="12998" y="15404"/>
                </a:cubicBezTo>
                <a:cubicBezTo>
                  <a:pt x="13012" y="15412"/>
                  <a:pt x="13109" y="15481"/>
                  <a:pt x="13122" y="15478"/>
                </a:cubicBezTo>
                <a:cubicBezTo>
                  <a:pt x="13130" y="15470"/>
                  <a:pt x="13138" y="15461"/>
                  <a:pt x="13146" y="15453"/>
                </a:cubicBezTo>
              </a:path>
              <a:path w="21333" h="8237">
                <a:moveTo>
                  <a:pt x="13295" y="14957"/>
                </a:moveTo>
                <a:cubicBezTo>
                  <a:pt x="13347" y="14935"/>
                  <a:pt x="13365" y="14932"/>
                  <a:pt x="13419" y="14932"/>
                </a:cubicBezTo>
                <a:cubicBezTo>
                  <a:pt x="13452" y="14932"/>
                  <a:pt x="13486" y="14932"/>
                  <a:pt x="13519" y="14932"/>
                </a:cubicBezTo>
              </a:path>
              <a:path w="21333" h="8237">
                <a:moveTo>
                  <a:pt x="13295" y="14932"/>
                </a:moveTo>
                <a:cubicBezTo>
                  <a:pt x="13259" y="14996"/>
                  <a:pt x="13246" y="15008"/>
                  <a:pt x="13246" y="15081"/>
                </a:cubicBezTo>
                <a:cubicBezTo>
                  <a:pt x="13246" y="15106"/>
                  <a:pt x="13246" y="15114"/>
                  <a:pt x="13246" y="15131"/>
                </a:cubicBezTo>
                <a:cubicBezTo>
                  <a:pt x="13294" y="15131"/>
                  <a:pt x="13311" y="15134"/>
                  <a:pt x="13320" y="15131"/>
                </a:cubicBezTo>
                <a:cubicBezTo>
                  <a:pt x="13363" y="15117"/>
                  <a:pt x="13382" y="15152"/>
                  <a:pt x="13419" y="15156"/>
                </a:cubicBezTo>
                <a:cubicBezTo>
                  <a:pt x="13429" y="15157"/>
                  <a:pt x="13486" y="15196"/>
                  <a:pt x="13494" y="15205"/>
                </a:cubicBezTo>
                <a:cubicBezTo>
                  <a:pt x="13530" y="15249"/>
                  <a:pt x="13512" y="15287"/>
                  <a:pt x="13543" y="15329"/>
                </a:cubicBezTo>
                <a:cubicBezTo>
                  <a:pt x="13531" y="15367"/>
                  <a:pt x="13522" y="15358"/>
                  <a:pt x="13494" y="15379"/>
                </a:cubicBezTo>
                <a:cubicBezTo>
                  <a:pt x="13463" y="15402"/>
                  <a:pt x="13431" y="15445"/>
                  <a:pt x="13395" y="15453"/>
                </a:cubicBezTo>
                <a:cubicBezTo>
                  <a:pt x="13293" y="15474"/>
                  <a:pt x="13236" y="15426"/>
                  <a:pt x="13146" y="15379"/>
                </a:cubicBezTo>
              </a:path>
              <a:path w="21333" h="8237">
                <a:moveTo>
                  <a:pt x="7392" y="14982"/>
                </a:moveTo>
                <a:cubicBezTo>
                  <a:pt x="7383" y="15019"/>
                  <a:pt x="7369" y="15051"/>
                  <a:pt x="7342" y="15081"/>
                </a:cubicBezTo>
                <a:cubicBezTo>
                  <a:pt x="7282" y="15147"/>
                  <a:pt x="7269" y="15182"/>
                  <a:pt x="7243" y="15255"/>
                </a:cubicBezTo>
                <a:cubicBezTo>
                  <a:pt x="7225" y="15305"/>
                  <a:pt x="7199" y="15372"/>
                  <a:pt x="7218" y="15429"/>
                </a:cubicBezTo>
                <a:cubicBezTo>
                  <a:pt x="7236" y="15483"/>
                  <a:pt x="7254" y="15534"/>
                  <a:pt x="7293" y="15577"/>
                </a:cubicBezTo>
                <a:cubicBezTo>
                  <a:pt x="7323" y="15610"/>
                  <a:pt x="7376" y="15647"/>
                  <a:pt x="7417" y="15652"/>
                </a:cubicBezTo>
                <a:cubicBezTo>
                  <a:pt x="7460" y="15657"/>
                  <a:pt x="7509" y="15649"/>
                  <a:pt x="7541" y="15627"/>
                </a:cubicBezTo>
                <a:cubicBezTo>
                  <a:pt x="7566" y="15610"/>
                  <a:pt x="7587" y="15555"/>
                  <a:pt x="7590" y="15528"/>
                </a:cubicBezTo>
                <a:cubicBezTo>
                  <a:pt x="7594" y="15496"/>
                  <a:pt x="7590" y="15461"/>
                  <a:pt x="7590" y="15429"/>
                </a:cubicBezTo>
                <a:cubicBezTo>
                  <a:pt x="7552" y="15438"/>
                  <a:pt x="7521" y="15451"/>
                  <a:pt x="7491" y="15478"/>
                </a:cubicBezTo>
                <a:cubicBezTo>
                  <a:pt x="7475" y="15492"/>
                  <a:pt x="7431" y="15556"/>
                  <a:pt x="7441" y="15577"/>
                </a:cubicBezTo>
                <a:cubicBezTo>
                  <a:pt x="7464" y="15600"/>
                  <a:pt x="7468" y="15608"/>
                  <a:pt x="7491" y="15602"/>
                </a:cubicBezTo>
              </a:path>
              <a:path w="21333" h="8237">
                <a:moveTo>
                  <a:pt x="7863" y="15180"/>
                </a:moveTo>
                <a:cubicBezTo>
                  <a:pt x="7829" y="15226"/>
                  <a:pt x="7797" y="15274"/>
                  <a:pt x="7764" y="15329"/>
                </a:cubicBezTo>
                <a:cubicBezTo>
                  <a:pt x="7728" y="15390"/>
                  <a:pt x="7694" y="15463"/>
                  <a:pt x="7689" y="15528"/>
                </a:cubicBezTo>
                <a:cubicBezTo>
                  <a:pt x="7687" y="15552"/>
                  <a:pt x="7724" y="15642"/>
                  <a:pt x="7739" y="15652"/>
                </a:cubicBezTo>
                <a:cubicBezTo>
                  <a:pt x="7766" y="15670"/>
                  <a:pt x="7802" y="15677"/>
                  <a:pt x="7838" y="15677"/>
                </a:cubicBezTo>
                <a:cubicBezTo>
                  <a:pt x="7893" y="15677"/>
                  <a:pt x="7931" y="15651"/>
                  <a:pt x="7962" y="15602"/>
                </a:cubicBezTo>
                <a:cubicBezTo>
                  <a:pt x="7999" y="15545"/>
                  <a:pt x="8022" y="15494"/>
                  <a:pt x="8037" y="15429"/>
                </a:cubicBezTo>
                <a:cubicBezTo>
                  <a:pt x="8049" y="15377"/>
                  <a:pt x="8042" y="15318"/>
                  <a:pt x="8012" y="15280"/>
                </a:cubicBezTo>
                <a:cubicBezTo>
                  <a:pt x="7988" y="15251"/>
                  <a:pt x="7978" y="15198"/>
                  <a:pt x="7938" y="15180"/>
                </a:cubicBezTo>
                <a:cubicBezTo>
                  <a:pt x="7905" y="15180"/>
                  <a:pt x="7888" y="15180"/>
                  <a:pt x="7863" y="15180"/>
                </a:cubicBezTo>
              </a:path>
              <a:path w="21333" h="8237">
                <a:moveTo>
                  <a:pt x="8136" y="15032"/>
                </a:moveTo>
                <a:cubicBezTo>
                  <a:pt x="8145" y="15067"/>
                  <a:pt x="8246" y="15081"/>
                  <a:pt x="8210" y="15081"/>
                </a:cubicBezTo>
                <a:cubicBezTo>
                  <a:pt x="8165" y="15081"/>
                  <a:pt x="8149" y="15094"/>
                  <a:pt x="8136" y="15056"/>
                </a:cubicBezTo>
              </a:path>
              <a:path w="21333" h="8237">
                <a:moveTo>
                  <a:pt x="13593" y="14883"/>
                </a:moveTo>
                <a:cubicBezTo>
                  <a:pt x="13625" y="14925"/>
                  <a:pt x="13612" y="14932"/>
                  <a:pt x="13667" y="14932"/>
                </a:cubicBezTo>
                <a:cubicBezTo>
                  <a:pt x="13655" y="14896"/>
                  <a:pt x="13637" y="14908"/>
                  <a:pt x="13593" y="14908"/>
                </a:cubicBezTo>
              </a:path>
              <a:path w="21333" h="8237">
                <a:moveTo>
                  <a:pt x="15577" y="15478"/>
                </a:moveTo>
                <a:cubicBezTo>
                  <a:pt x="15607" y="15530"/>
                  <a:pt x="15642" y="15579"/>
                  <a:pt x="15677" y="15627"/>
                </a:cubicBezTo>
                <a:cubicBezTo>
                  <a:pt x="15717" y="15681"/>
                  <a:pt x="15737" y="15746"/>
                  <a:pt x="15776" y="15801"/>
                </a:cubicBezTo>
                <a:cubicBezTo>
                  <a:pt x="15807" y="15845"/>
                  <a:pt x="15824" y="15887"/>
                  <a:pt x="15875" y="15900"/>
                </a:cubicBezTo>
                <a:cubicBezTo>
                  <a:pt x="15929" y="15882"/>
                  <a:pt x="15875" y="15868"/>
                  <a:pt x="15900" y="15825"/>
                </a:cubicBezTo>
                <a:cubicBezTo>
                  <a:pt x="15924" y="15782"/>
                  <a:pt x="15900" y="15783"/>
                  <a:pt x="15900" y="15726"/>
                </a:cubicBezTo>
                <a:cubicBezTo>
                  <a:pt x="15900" y="15685"/>
                  <a:pt x="15864" y="15655"/>
                  <a:pt x="15825" y="15652"/>
                </a:cubicBezTo>
                <a:cubicBezTo>
                  <a:pt x="15761" y="15647"/>
                  <a:pt x="15752" y="15684"/>
                  <a:pt x="15701" y="15701"/>
                </a:cubicBezTo>
                <a:cubicBezTo>
                  <a:pt x="15655" y="15716"/>
                  <a:pt x="15622" y="15749"/>
                  <a:pt x="15602" y="15776"/>
                </a:cubicBezTo>
                <a:cubicBezTo>
                  <a:pt x="15576" y="15811"/>
                  <a:pt x="15585" y="15814"/>
                  <a:pt x="15553" y="15825"/>
                </a:cubicBezTo>
                <a:cubicBezTo>
                  <a:pt x="15597" y="15814"/>
                  <a:pt x="15618" y="15785"/>
                  <a:pt x="15652" y="15751"/>
                </a:cubicBezTo>
                <a:cubicBezTo>
                  <a:pt x="15691" y="15712"/>
                  <a:pt x="15733" y="15658"/>
                  <a:pt x="15776" y="15627"/>
                </a:cubicBezTo>
                <a:cubicBezTo>
                  <a:pt x="15833" y="15586"/>
                  <a:pt x="15813" y="15601"/>
                  <a:pt x="15850" y="15553"/>
                </a:cubicBezTo>
                <a:cubicBezTo>
                  <a:pt x="15824" y="15474"/>
                  <a:pt x="15762" y="15609"/>
                  <a:pt x="15751" y="15652"/>
                </a:cubicBezTo>
                <a:cubicBezTo>
                  <a:pt x="15731" y="15727"/>
                  <a:pt x="15731" y="15801"/>
                  <a:pt x="15701" y="15875"/>
                </a:cubicBezTo>
                <a:cubicBezTo>
                  <a:pt x="15670" y="15950"/>
                  <a:pt x="15684" y="16010"/>
                  <a:pt x="15627" y="16073"/>
                </a:cubicBezTo>
                <a:cubicBezTo>
                  <a:pt x="15605" y="16098"/>
                  <a:pt x="15602" y="16143"/>
                  <a:pt x="15602" y="16098"/>
                </a:cubicBezTo>
              </a:path>
              <a:path w="21333" h="8237">
                <a:moveTo>
                  <a:pt x="2282" y="16346"/>
                </a:moveTo>
                <a:lnTo>
                  <a:pt x="2282" y="16346"/>
                </a:lnTo>
              </a:path>
              <a:path w="21333" h="8237">
                <a:moveTo>
                  <a:pt x="5308" y="17289"/>
                </a:moveTo>
                <a:cubicBezTo>
                  <a:pt x="5316" y="17289"/>
                  <a:pt x="5325" y="17289"/>
                  <a:pt x="5333" y="17289"/>
                </a:cubicBezTo>
                <a:cubicBezTo>
                  <a:pt x="5342" y="17326"/>
                  <a:pt x="5356" y="17358"/>
                  <a:pt x="5383" y="17388"/>
                </a:cubicBezTo>
                <a:cubicBezTo>
                  <a:pt x="5436" y="17447"/>
                  <a:pt x="5460" y="17502"/>
                  <a:pt x="5507" y="17562"/>
                </a:cubicBezTo>
                <a:cubicBezTo>
                  <a:pt x="5557" y="17627"/>
                  <a:pt x="5642" y="17663"/>
                  <a:pt x="5705" y="17711"/>
                </a:cubicBezTo>
                <a:cubicBezTo>
                  <a:pt x="5765" y="17757"/>
                  <a:pt x="5724" y="17758"/>
                  <a:pt x="5804" y="17735"/>
                </a:cubicBezTo>
              </a:path>
              <a:path w="21333" h="8237">
                <a:moveTo>
                  <a:pt x="5680" y="17214"/>
                </a:moveTo>
                <a:cubicBezTo>
                  <a:pt x="5584" y="17311"/>
                  <a:pt x="5492" y="17409"/>
                  <a:pt x="5407" y="17512"/>
                </a:cubicBezTo>
                <a:cubicBezTo>
                  <a:pt x="5351" y="17580"/>
                  <a:pt x="5285" y="17610"/>
                  <a:pt x="5234" y="17686"/>
                </a:cubicBezTo>
                <a:cubicBezTo>
                  <a:pt x="5211" y="17720"/>
                  <a:pt x="5151" y="17774"/>
                  <a:pt x="5135" y="17810"/>
                </a:cubicBezTo>
                <a:cubicBezTo>
                  <a:pt x="5102" y="17887"/>
                  <a:pt x="5144" y="17841"/>
                  <a:pt x="5135" y="17835"/>
                </a:cubicBezTo>
                <a:cubicBezTo>
                  <a:pt x="5127" y="17835"/>
                  <a:pt x="5118" y="17835"/>
                  <a:pt x="5110" y="17835"/>
                </a:cubicBezTo>
              </a:path>
              <a:path w="21333" h="8237">
                <a:moveTo>
                  <a:pt x="2356" y="16371"/>
                </a:moveTo>
                <a:cubicBezTo>
                  <a:pt x="2348" y="16363"/>
                  <a:pt x="2340" y="16354"/>
                  <a:pt x="2332" y="16346"/>
                </a:cubicBezTo>
                <a:cubicBezTo>
                  <a:pt x="2339" y="16385"/>
                  <a:pt x="2352" y="16403"/>
                  <a:pt x="2356" y="16446"/>
                </a:cubicBezTo>
                <a:cubicBezTo>
                  <a:pt x="2365" y="16537"/>
                  <a:pt x="2345" y="16639"/>
                  <a:pt x="2381" y="16718"/>
                </a:cubicBezTo>
                <a:cubicBezTo>
                  <a:pt x="2397" y="16753"/>
                  <a:pt x="2436" y="16787"/>
                  <a:pt x="2456" y="16818"/>
                </a:cubicBezTo>
                <a:cubicBezTo>
                  <a:pt x="2495" y="16878"/>
                  <a:pt x="2533" y="16935"/>
                  <a:pt x="2580" y="16991"/>
                </a:cubicBezTo>
                <a:cubicBezTo>
                  <a:pt x="2620" y="17039"/>
                  <a:pt x="2683" y="17096"/>
                  <a:pt x="2729" y="17140"/>
                </a:cubicBezTo>
                <a:cubicBezTo>
                  <a:pt x="2795" y="17204"/>
                  <a:pt x="2876" y="17287"/>
                  <a:pt x="2952" y="17338"/>
                </a:cubicBezTo>
                <a:cubicBezTo>
                  <a:pt x="3104" y="17440"/>
                  <a:pt x="3308" y="17526"/>
                  <a:pt x="3473" y="17611"/>
                </a:cubicBezTo>
                <a:cubicBezTo>
                  <a:pt x="3742" y="17750"/>
                  <a:pt x="4012" y="17870"/>
                  <a:pt x="4291" y="17983"/>
                </a:cubicBezTo>
                <a:cubicBezTo>
                  <a:pt x="4430" y="18039"/>
                  <a:pt x="4570" y="18090"/>
                  <a:pt x="4713" y="18132"/>
                </a:cubicBezTo>
                <a:cubicBezTo>
                  <a:pt x="4965" y="18207"/>
                  <a:pt x="5199" y="18236"/>
                  <a:pt x="5457" y="18207"/>
                </a:cubicBezTo>
                <a:cubicBezTo>
                  <a:pt x="5576" y="18194"/>
                  <a:pt x="5687" y="18154"/>
                  <a:pt x="5804" y="18132"/>
                </a:cubicBezTo>
                <a:cubicBezTo>
                  <a:pt x="6063" y="18084"/>
                  <a:pt x="6315" y="17999"/>
                  <a:pt x="6573" y="17959"/>
                </a:cubicBezTo>
                <a:cubicBezTo>
                  <a:pt x="6738" y="17933"/>
                  <a:pt x="6877" y="17898"/>
                  <a:pt x="7045" y="17859"/>
                </a:cubicBezTo>
                <a:cubicBezTo>
                  <a:pt x="7219" y="17819"/>
                  <a:pt x="7391" y="17760"/>
                  <a:pt x="7565" y="17711"/>
                </a:cubicBezTo>
                <a:cubicBezTo>
                  <a:pt x="7661" y="17684"/>
                  <a:pt x="7765" y="17654"/>
                  <a:pt x="7863" y="17636"/>
                </a:cubicBezTo>
                <a:cubicBezTo>
                  <a:pt x="7962" y="17618"/>
                  <a:pt x="8060" y="17621"/>
                  <a:pt x="8161" y="17611"/>
                </a:cubicBezTo>
                <a:cubicBezTo>
                  <a:pt x="8260" y="17601"/>
                  <a:pt x="8360" y="17591"/>
                  <a:pt x="8458" y="17587"/>
                </a:cubicBezTo>
                <a:cubicBezTo>
                  <a:pt x="8728" y="17576"/>
                  <a:pt x="8964" y="17629"/>
                  <a:pt x="9227" y="17661"/>
                </a:cubicBezTo>
                <a:cubicBezTo>
                  <a:pt x="9321" y="17673"/>
                  <a:pt x="9408" y="17671"/>
                  <a:pt x="9500" y="17686"/>
                </a:cubicBezTo>
                <a:cubicBezTo>
                  <a:pt x="9578" y="17698"/>
                  <a:pt x="9668" y="17720"/>
                  <a:pt x="9748" y="17735"/>
                </a:cubicBezTo>
                <a:cubicBezTo>
                  <a:pt x="9827" y="17750"/>
                  <a:pt x="9916" y="17767"/>
                  <a:pt x="9996" y="17785"/>
                </a:cubicBezTo>
                <a:cubicBezTo>
                  <a:pt x="10071" y="17802"/>
                  <a:pt x="10144" y="17821"/>
                  <a:pt x="10220" y="17835"/>
                </a:cubicBezTo>
                <a:cubicBezTo>
                  <a:pt x="10362" y="17861"/>
                  <a:pt x="10468" y="17890"/>
                  <a:pt x="10592" y="17934"/>
                </a:cubicBezTo>
                <a:cubicBezTo>
                  <a:pt x="10685" y="17967"/>
                  <a:pt x="10799" y="18039"/>
                  <a:pt x="10889" y="18058"/>
                </a:cubicBezTo>
                <a:cubicBezTo>
                  <a:pt x="10975" y="18076"/>
                  <a:pt x="11027" y="18106"/>
                  <a:pt x="11112" y="18058"/>
                </a:cubicBezTo>
                <a:cubicBezTo>
                  <a:pt x="11145" y="18039"/>
                  <a:pt x="11158" y="17960"/>
                  <a:pt x="11187" y="17934"/>
                </a:cubicBezTo>
                <a:cubicBezTo>
                  <a:pt x="11235" y="17890"/>
                  <a:pt x="11267" y="17809"/>
                  <a:pt x="11311" y="17760"/>
                </a:cubicBezTo>
                <a:cubicBezTo>
                  <a:pt x="11463" y="17591"/>
                  <a:pt x="11643" y="17437"/>
                  <a:pt x="11832" y="17314"/>
                </a:cubicBezTo>
                <a:cubicBezTo>
                  <a:pt x="11939" y="17244"/>
                  <a:pt x="12038" y="17194"/>
                  <a:pt x="12154" y="17140"/>
                </a:cubicBezTo>
                <a:cubicBezTo>
                  <a:pt x="12314" y="17066"/>
                  <a:pt x="12500" y="17008"/>
                  <a:pt x="12675" y="16991"/>
                </a:cubicBezTo>
                <a:cubicBezTo>
                  <a:pt x="13037" y="16956"/>
                  <a:pt x="13389" y="17029"/>
                  <a:pt x="13742" y="17066"/>
                </a:cubicBezTo>
                <a:cubicBezTo>
                  <a:pt x="13914" y="17084"/>
                  <a:pt x="14090" y="17115"/>
                  <a:pt x="14263" y="17115"/>
                </a:cubicBezTo>
                <a:cubicBezTo>
                  <a:pt x="14385" y="17115"/>
                  <a:pt x="14517" y="17097"/>
                  <a:pt x="14635" y="17066"/>
                </a:cubicBezTo>
                <a:cubicBezTo>
                  <a:pt x="14762" y="17032"/>
                  <a:pt x="14842" y="16971"/>
                  <a:pt x="14957" y="16917"/>
                </a:cubicBezTo>
                <a:cubicBezTo>
                  <a:pt x="15261" y="16775"/>
                  <a:pt x="15521" y="16583"/>
                  <a:pt x="15701" y="16297"/>
                </a:cubicBezTo>
                <a:cubicBezTo>
                  <a:pt x="15734" y="16244"/>
                  <a:pt x="15811" y="16134"/>
                  <a:pt x="15801" y="16073"/>
                </a:cubicBezTo>
                <a:cubicBezTo>
                  <a:pt x="15794" y="16033"/>
                  <a:pt x="15789" y="16010"/>
                  <a:pt x="15776" y="15974"/>
                </a:cubicBezTo>
                <a:cubicBezTo>
                  <a:pt x="15761" y="15933"/>
                  <a:pt x="15661" y="15942"/>
                  <a:pt x="15652" y="15925"/>
                </a:cubicBezTo>
              </a:path>
              <a:path w="21333" h="8237">
                <a:moveTo>
                  <a:pt x="11633" y="17934"/>
                </a:moveTo>
                <a:cubicBezTo>
                  <a:pt x="11633" y="17977"/>
                  <a:pt x="11642" y="18020"/>
                  <a:pt x="11658" y="18058"/>
                </a:cubicBezTo>
                <a:cubicBezTo>
                  <a:pt x="11690" y="18137"/>
                  <a:pt x="11739" y="18210"/>
                  <a:pt x="11782" y="18281"/>
                </a:cubicBezTo>
                <a:cubicBezTo>
                  <a:pt x="11818" y="18340"/>
                  <a:pt x="11857" y="18380"/>
                  <a:pt x="11906" y="18430"/>
                </a:cubicBezTo>
              </a:path>
              <a:path w="21333" h="8237">
                <a:moveTo>
                  <a:pt x="12179" y="17859"/>
                </a:moveTo>
                <a:cubicBezTo>
                  <a:pt x="12160" y="17909"/>
                  <a:pt x="12150" y="17954"/>
                  <a:pt x="12129" y="18008"/>
                </a:cubicBezTo>
                <a:cubicBezTo>
                  <a:pt x="12088" y="18116"/>
                  <a:pt x="12017" y="18224"/>
                  <a:pt x="11981" y="18331"/>
                </a:cubicBezTo>
                <a:cubicBezTo>
                  <a:pt x="10646" y="22278"/>
                  <a:pt x="14379" y="15423"/>
                  <a:pt x="17760" y="10765"/>
                </a:cubicBezTo>
                <a:cubicBezTo>
                  <a:pt x="17760" y="10757"/>
                  <a:pt x="17760" y="10748"/>
                  <a:pt x="17760" y="10740"/>
                </a:cubicBezTo>
              </a:path>
              <a:path w="21333" h="8237">
                <a:moveTo>
                  <a:pt x="20290" y="13196"/>
                </a:moveTo>
                <a:cubicBezTo>
                  <a:pt x="20194" y="13189"/>
                  <a:pt x="20088" y="13189"/>
                  <a:pt x="19993" y="13171"/>
                </a:cubicBezTo>
                <a:cubicBezTo>
                  <a:pt x="19876" y="13149"/>
                  <a:pt x="19765" y="13125"/>
                  <a:pt x="19645" y="13122"/>
                </a:cubicBezTo>
                <a:cubicBezTo>
                  <a:pt x="19323" y="13113"/>
                  <a:pt x="18996" y="13115"/>
                  <a:pt x="18678" y="13146"/>
                </a:cubicBezTo>
                <a:cubicBezTo>
                  <a:pt x="18578" y="13156"/>
                  <a:pt x="18475" y="13159"/>
                  <a:pt x="18380" y="13171"/>
                </a:cubicBezTo>
                <a:cubicBezTo>
                  <a:pt x="18310" y="13180"/>
                  <a:pt x="18248" y="13186"/>
                  <a:pt x="18182" y="13196"/>
                </a:cubicBezTo>
                <a:cubicBezTo>
                  <a:pt x="18136" y="13203"/>
                  <a:pt x="18148" y="13196"/>
                  <a:pt x="18107" y="13221"/>
                </a:cubicBezTo>
              </a:path>
              <a:path w="21333" h="8237">
                <a:moveTo>
                  <a:pt x="18951" y="13295"/>
                </a:moveTo>
                <a:cubicBezTo>
                  <a:pt x="18974" y="13303"/>
                  <a:pt x="18989" y="13337"/>
                  <a:pt x="19000" y="13370"/>
                </a:cubicBezTo>
                <a:cubicBezTo>
                  <a:pt x="19011" y="13404"/>
                  <a:pt x="18976" y="13497"/>
                  <a:pt x="18976" y="13543"/>
                </a:cubicBezTo>
                <a:cubicBezTo>
                  <a:pt x="18976" y="13648"/>
                  <a:pt x="18987" y="13750"/>
                  <a:pt x="19000" y="13841"/>
                </a:cubicBezTo>
                <a:cubicBezTo>
                  <a:pt x="19000" y="13899"/>
                  <a:pt x="19000" y="13907"/>
                  <a:pt x="19000" y="13940"/>
                </a:cubicBezTo>
              </a:path>
              <a:path w="21333" h="8237">
                <a:moveTo>
                  <a:pt x="18703" y="13519"/>
                </a:moveTo>
                <a:cubicBezTo>
                  <a:pt x="18767" y="13527"/>
                  <a:pt x="18817" y="13540"/>
                  <a:pt x="18876" y="13568"/>
                </a:cubicBezTo>
                <a:cubicBezTo>
                  <a:pt x="18924" y="13592"/>
                  <a:pt x="18939" y="13600"/>
                  <a:pt x="18976" y="13593"/>
                </a:cubicBezTo>
              </a:path>
              <a:path w="21333" h="8237">
                <a:moveTo>
                  <a:pt x="19397" y="13643"/>
                </a:moveTo>
                <a:cubicBezTo>
                  <a:pt x="19348" y="13627"/>
                  <a:pt x="19362" y="13624"/>
                  <a:pt x="19298" y="13643"/>
                </a:cubicBezTo>
                <a:cubicBezTo>
                  <a:pt x="19272" y="13651"/>
                  <a:pt x="19206" y="13681"/>
                  <a:pt x="19199" y="13717"/>
                </a:cubicBezTo>
                <a:cubicBezTo>
                  <a:pt x="19183" y="13791"/>
                  <a:pt x="19215" y="13816"/>
                  <a:pt x="19248" y="13841"/>
                </a:cubicBezTo>
                <a:cubicBezTo>
                  <a:pt x="19260" y="13850"/>
                  <a:pt x="19327" y="13892"/>
                  <a:pt x="19348" y="13866"/>
                </a:cubicBezTo>
                <a:cubicBezTo>
                  <a:pt x="19366" y="13843"/>
                  <a:pt x="19372" y="13833"/>
                  <a:pt x="19372" y="13791"/>
                </a:cubicBezTo>
                <a:cubicBezTo>
                  <a:pt x="19372" y="13752"/>
                  <a:pt x="19397" y="13737"/>
                  <a:pt x="19397" y="13692"/>
                </a:cubicBezTo>
                <a:cubicBezTo>
                  <a:pt x="19397" y="13625"/>
                  <a:pt x="19397" y="13731"/>
                  <a:pt x="19397" y="13742"/>
                </a:cubicBezTo>
                <a:cubicBezTo>
                  <a:pt x="19397" y="13784"/>
                  <a:pt x="19444" y="13834"/>
                  <a:pt x="19472" y="13866"/>
                </a:cubicBezTo>
                <a:cubicBezTo>
                  <a:pt x="19497" y="13894"/>
                  <a:pt x="19516" y="13893"/>
                  <a:pt x="19546" y="13915"/>
                </a:cubicBezTo>
              </a:path>
              <a:path w="21333" h="8237">
                <a:moveTo>
                  <a:pt x="19571" y="13667"/>
                </a:moveTo>
                <a:cubicBezTo>
                  <a:pt x="19571" y="13735"/>
                  <a:pt x="19580" y="13778"/>
                  <a:pt x="19596" y="13841"/>
                </a:cubicBezTo>
                <a:cubicBezTo>
                  <a:pt x="19601" y="13862"/>
                  <a:pt x="19596" y="13893"/>
                  <a:pt x="19596" y="13915"/>
                </a:cubicBezTo>
                <a:cubicBezTo>
                  <a:pt x="19619" y="13907"/>
                  <a:pt x="19635" y="13874"/>
                  <a:pt x="19645" y="13841"/>
                </a:cubicBezTo>
                <a:cubicBezTo>
                  <a:pt x="19660" y="13794"/>
                  <a:pt x="19632" y="13784"/>
                  <a:pt x="19670" y="13742"/>
                </a:cubicBezTo>
                <a:cubicBezTo>
                  <a:pt x="19700" y="13708"/>
                  <a:pt x="19699" y="13683"/>
                  <a:pt x="19745" y="13667"/>
                </a:cubicBezTo>
                <a:cubicBezTo>
                  <a:pt x="19778" y="13656"/>
                  <a:pt x="19859" y="13708"/>
                  <a:pt x="19869" y="13742"/>
                </a:cubicBezTo>
                <a:cubicBezTo>
                  <a:pt x="19881" y="13785"/>
                  <a:pt x="19876" y="13850"/>
                  <a:pt x="19893" y="13891"/>
                </a:cubicBezTo>
                <a:cubicBezTo>
                  <a:pt x="19907" y="13924"/>
                  <a:pt x="19918" y="13957"/>
                  <a:pt x="19943" y="13965"/>
                </a:cubicBezTo>
              </a:path>
              <a:path w="21333" h="8237">
                <a:moveTo>
                  <a:pt x="20117" y="13444"/>
                </a:moveTo>
                <a:cubicBezTo>
                  <a:pt x="20159" y="13502"/>
                  <a:pt x="20128" y="13489"/>
                  <a:pt x="20117" y="13543"/>
                </a:cubicBezTo>
                <a:cubicBezTo>
                  <a:pt x="20110" y="13577"/>
                  <a:pt x="20083" y="13690"/>
                  <a:pt x="20092" y="13717"/>
                </a:cubicBezTo>
                <a:cubicBezTo>
                  <a:pt x="20105" y="13754"/>
                  <a:pt x="20113" y="13808"/>
                  <a:pt x="20141" y="13841"/>
                </a:cubicBezTo>
                <a:cubicBezTo>
                  <a:pt x="20155" y="13857"/>
                  <a:pt x="20221" y="13919"/>
                  <a:pt x="20241" y="13915"/>
                </a:cubicBezTo>
                <a:cubicBezTo>
                  <a:pt x="20258" y="13911"/>
                  <a:pt x="20326" y="13875"/>
                  <a:pt x="20340" y="13866"/>
                </a:cubicBezTo>
                <a:cubicBezTo>
                  <a:pt x="20377" y="13841"/>
                  <a:pt x="20386" y="13782"/>
                  <a:pt x="20389" y="13742"/>
                </a:cubicBezTo>
                <a:cubicBezTo>
                  <a:pt x="20391" y="13711"/>
                  <a:pt x="20372" y="13696"/>
                  <a:pt x="20365" y="13667"/>
                </a:cubicBezTo>
                <a:cubicBezTo>
                  <a:pt x="20321" y="13676"/>
                  <a:pt x="20275" y="13694"/>
                  <a:pt x="20265" y="13742"/>
                </a:cubicBezTo>
                <a:cubicBezTo>
                  <a:pt x="20252" y="13801"/>
                  <a:pt x="20276" y="13845"/>
                  <a:pt x="20290" y="13891"/>
                </a:cubicBezTo>
                <a:cubicBezTo>
                  <a:pt x="20303" y="13934"/>
                  <a:pt x="20331" y="13956"/>
                  <a:pt x="20365" y="13990"/>
                </a:cubicBezTo>
              </a:path>
              <a:path w="21333" h="8237">
                <a:moveTo>
                  <a:pt x="20563" y="13618"/>
                </a:moveTo>
                <a:cubicBezTo>
                  <a:pt x="20550" y="13663"/>
                  <a:pt x="20489" y="13785"/>
                  <a:pt x="20513" y="13841"/>
                </a:cubicBezTo>
                <a:cubicBezTo>
                  <a:pt x="20532" y="13887"/>
                  <a:pt x="20567" y="13948"/>
                  <a:pt x="20613" y="13965"/>
                </a:cubicBezTo>
                <a:cubicBezTo>
                  <a:pt x="20673" y="13987"/>
                  <a:pt x="20657" y="13983"/>
                  <a:pt x="20712" y="13965"/>
                </a:cubicBezTo>
                <a:cubicBezTo>
                  <a:pt x="20757" y="13950"/>
                  <a:pt x="20783" y="13894"/>
                  <a:pt x="20786" y="13841"/>
                </a:cubicBezTo>
                <a:cubicBezTo>
                  <a:pt x="20791" y="13765"/>
                  <a:pt x="20759" y="13737"/>
                  <a:pt x="20737" y="13667"/>
                </a:cubicBezTo>
                <a:cubicBezTo>
                  <a:pt x="20726" y="13632"/>
                  <a:pt x="20692" y="13579"/>
                  <a:pt x="20687" y="13568"/>
                </a:cubicBezTo>
                <a:cubicBezTo>
                  <a:pt x="20687" y="13540"/>
                  <a:pt x="20685" y="13529"/>
                  <a:pt x="20662" y="13519"/>
                </a:cubicBezTo>
              </a:path>
              <a:path w="21333" h="8237">
                <a:moveTo>
                  <a:pt x="21406" y="13469"/>
                </a:moveTo>
                <a:cubicBezTo>
                  <a:pt x="21608" y="13475"/>
                  <a:pt x="21701" y="13499"/>
                  <a:pt x="21878" y="13519"/>
                </a:cubicBezTo>
                <a:cubicBezTo>
                  <a:pt x="22066" y="13540"/>
                  <a:pt x="22302" y="13531"/>
                  <a:pt x="22473" y="13494"/>
                </a:cubicBezTo>
                <a:cubicBezTo>
                  <a:pt x="22514" y="13494"/>
                  <a:pt x="22522" y="13494"/>
                  <a:pt x="22547" y="13494"/>
                </a:cubicBezTo>
                <a:cubicBezTo>
                  <a:pt x="22537" y="13462"/>
                  <a:pt x="22514" y="13454"/>
                  <a:pt x="22473" y="13444"/>
                </a:cubicBezTo>
              </a:path>
              <a:path w="21333" h="8237">
                <a:moveTo>
                  <a:pt x="21878" y="13618"/>
                </a:moveTo>
                <a:cubicBezTo>
                  <a:pt x="21850" y="13721"/>
                  <a:pt x="21862" y="13745"/>
                  <a:pt x="21878" y="13841"/>
                </a:cubicBezTo>
                <a:cubicBezTo>
                  <a:pt x="21889" y="13908"/>
                  <a:pt x="21882" y="13975"/>
                  <a:pt x="21903" y="14039"/>
                </a:cubicBezTo>
                <a:cubicBezTo>
                  <a:pt x="21918" y="14084"/>
                  <a:pt x="21933" y="14120"/>
                  <a:pt x="21952" y="14163"/>
                </a:cubicBezTo>
              </a:path>
              <a:path w="21333" h="8237">
                <a:moveTo>
                  <a:pt x="21654" y="13692"/>
                </a:moveTo>
                <a:cubicBezTo>
                  <a:pt x="21721" y="13705"/>
                  <a:pt x="21789" y="13737"/>
                  <a:pt x="21853" y="13767"/>
                </a:cubicBezTo>
                <a:cubicBezTo>
                  <a:pt x="21901" y="13790"/>
                  <a:pt x="21916" y="13798"/>
                  <a:pt x="21952" y="13791"/>
                </a:cubicBezTo>
              </a:path>
              <a:path w="21333" h="8237">
                <a:moveTo>
                  <a:pt x="22250" y="13841"/>
                </a:moveTo>
                <a:cubicBezTo>
                  <a:pt x="22228" y="13857"/>
                  <a:pt x="22163" y="13876"/>
                  <a:pt x="22151" y="13891"/>
                </a:cubicBezTo>
                <a:cubicBezTo>
                  <a:pt x="22135" y="13911"/>
                  <a:pt x="22109" y="13985"/>
                  <a:pt x="22126" y="14015"/>
                </a:cubicBezTo>
                <a:cubicBezTo>
                  <a:pt x="22151" y="14058"/>
                  <a:pt x="22151" y="14064"/>
                  <a:pt x="22200" y="14064"/>
                </a:cubicBezTo>
                <a:cubicBezTo>
                  <a:pt x="22268" y="14064"/>
                  <a:pt x="22230" y="14025"/>
                  <a:pt x="22250" y="13990"/>
                </a:cubicBezTo>
                <a:cubicBezTo>
                  <a:pt x="22277" y="13941"/>
                  <a:pt x="22275" y="13929"/>
                  <a:pt x="22275" y="13866"/>
                </a:cubicBezTo>
                <a:cubicBezTo>
                  <a:pt x="22275" y="13924"/>
                  <a:pt x="22283" y="13903"/>
                  <a:pt x="22324" y="13940"/>
                </a:cubicBezTo>
                <a:cubicBezTo>
                  <a:pt x="22355" y="13968"/>
                  <a:pt x="22361" y="13981"/>
                  <a:pt x="22399" y="13990"/>
                </a:cubicBezTo>
              </a:path>
              <a:path w="21333" h="8237">
                <a:moveTo>
                  <a:pt x="22473" y="13816"/>
                </a:moveTo>
                <a:cubicBezTo>
                  <a:pt x="22438" y="13897"/>
                  <a:pt x="22451" y="13874"/>
                  <a:pt x="22473" y="13940"/>
                </a:cubicBezTo>
                <a:cubicBezTo>
                  <a:pt x="22487" y="13983"/>
                  <a:pt x="22478" y="13920"/>
                  <a:pt x="22498" y="13891"/>
                </a:cubicBezTo>
                <a:cubicBezTo>
                  <a:pt x="22524" y="13852"/>
                  <a:pt x="22521" y="13836"/>
                  <a:pt x="22547" y="13816"/>
                </a:cubicBezTo>
                <a:cubicBezTo>
                  <a:pt x="22555" y="13808"/>
                  <a:pt x="22564" y="13799"/>
                  <a:pt x="22572" y="13791"/>
                </a:cubicBezTo>
                <a:cubicBezTo>
                  <a:pt x="22617" y="13825"/>
                  <a:pt x="22610" y="13824"/>
                  <a:pt x="22647" y="13866"/>
                </a:cubicBezTo>
                <a:cubicBezTo>
                  <a:pt x="22680" y="13904"/>
                  <a:pt x="22712" y="13965"/>
                  <a:pt x="22721" y="14015"/>
                </a:cubicBezTo>
                <a:cubicBezTo>
                  <a:pt x="22721" y="14059"/>
                  <a:pt x="22718" y="14073"/>
                  <a:pt x="22746" y="14089"/>
                </a:cubicBezTo>
                <a:cubicBezTo>
                  <a:pt x="22769" y="14051"/>
                  <a:pt x="22771" y="14038"/>
                  <a:pt x="22771" y="13990"/>
                </a:cubicBezTo>
              </a:path>
              <a:path w="21333" h="8237">
                <a:moveTo>
                  <a:pt x="22895" y="13643"/>
                </a:moveTo>
                <a:cubicBezTo>
                  <a:pt x="22895" y="13736"/>
                  <a:pt x="22885" y="13806"/>
                  <a:pt x="22870" y="13891"/>
                </a:cubicBezTo>
                <a:cubicBezTo>
                  <a:pt x="22855" y="13976"/>
                  <a:pt x="22897" y="14015"/>
                  <a:pt x="22920" y="14089"/>
                </a:cubicBezTo>
                <a:cubicBezTo>
                  <a:pt x="22933" y="14130"/>
                  <a:pt x="22945" y="14191"/>
                  <a:pt x="22994" y="14213"/>
                </a:cubicBezTo>
                <a:cubicBezTo>
                  <a:pt x="23033" y="14230"/>
                  <a:pt x="23058" y="14194"/>
                  <a:pt x="23068" y="14163"/>
                </a:cubicBezTo>
                <a:cubicBezTo>
                  <a:pt x="23079" y="14128"/>
                  <a:pt x="23112" y="14084"/>
                  <a:pt x="23093" y="14039"/>
                </a:cubicBezTo>
                <a:cubicBezTo>
                  <a:pt x="23085" y="14031"/>
                  <a:pt x="23076" y="14023"/>
                  <a:pt x="23068" y="14015"/>
                </a:cubicBezTo>
                <a:cubicBezTo>
                  <a:pt x="23027" y="14025"/>
                  <a:pt x="22999" y="14043"/>
                  <a:pt x="22994" y="14089"/>
                </a:cubicBezTo>
                <a:cubicBezTo>
                  <a:pt x="22988" y="14141"/>
                  <a:pt x="23009" y="14153"/>
                  <a:pt x="23044" y="14188"/>
                </a:cubicBezTo>
              </a:path>
              <a:path w="21333" h="8237">
                <a:moveTo>
                  <a:pt x="23242" y="13841"/>
                </a:moveTo>
                <a:cubicBezTo>
                  <a:pt x="23202" y="13917"/>
                  <a:pt x="23132" y="14016"/>
                  <a:pt x="23168" y="14114"/>
                </a:cubicBezTo>
                <a:cubicBezTo>
                  <a:pt x="23183" y="14153"/>
                  <a:pt x="23196" y="14237"/>
                  <a:pt x="23242" y="14263"/>
                </a:cubicBezTo>
                <a:cubicBezTo>
                  <a:pt x="23269" y="14278"/>
                  <a:pt x="23352" y="14266"/>
                  <a:pt x="23366" y="14238"/>
                </a:cubicBezTo>
                <a:cubicBezTo>
                  <a:pt x="23388" y="14193"/>
                  <a:pt x="23404" y="14114"/>
                  <a:pt x="23416" y="14064"/>
                </a:cubicBezTo>
                <a:cubicBezTo>
                  <a:pt x="23425" y="14026"/>
                  <a:pt x="23386" y="13923"/>
                  <a:pt x="23366" y="13891"/>
                </a:cubicBezTo>
                <a:cubicBezTo>
                  <a:pt x="23350" y="13865"/>
                  <a:pt x="23316" y="13859"/>
                  <a:pt x="23292" y="13841"/>
                </a:cubicBezTo>
              </a:path>
              <a:path w="21333" h="8237">
                <a:moveTo>
                  <a:pt x="23440" y="13692"/>
                </a:moveTo>
                <a:cubicBezTo>
                  <a:pt x="23428" y="13757"/>
                  <a:pt x="23405" y="13807"/>
                  <a:pt x="23490" y="13816"/>
                </a:cubicBezTo>
                <a:cubicBezTo>
                  <a:pt x="23498" y="13816"/>
                  <a:pt x="23507" y="13816"/>
                  <a:pt x="23515" y="13816"/>
                </a:cubicBezTo>
                <a:cubicBezTo>
                  <a:pt x="23515" y="13749"/>
                  <a:pt x="23494" y="13713"/>
                  <a:pt x="23440" y="13667"/>
                </a:cubicBezTo>
                <a:cubicBezTo>
                  <a:pt x="23407" y="13642"/>
                  <a:pt x="23374" y="13618"/>
                  <a:pt x="23341" y="13593"/>
                </a:cubicBezTo>
              </a:path>
              <a:path w="21333" h="8237">
                <a:moveTo>
                  <a:pt x="19893" y="14585"/>
                </a:moveTo>
                <a:cubicBezTo>
                  <a:pt x="19967" y="14720"/>
                  <a:pt x="20028" y="14769"/>
                  <a:pt x="20117" y="14883"/>
                </a:cubicBezTo>
                <a:cubicBezTo>
                  <a:pt x="20202" y="14992"/>
                  <a:pt x="20302" y="15063"/>
                  <a:pt x="20439" y="15106"/>
                </a:cubicBezTo>
                <a:cubicBezTo>
                  <a:pt x="20447" y="15106"/>
                  <a:pt x="20456" y="15106"/>
                  <a:pt x="20464" y="15106"/>
                </a:cubicBezTo>
              </a:path>
              <a:path w="21333" h="8237">
                <a:moveTo>
                  <a:pt x="20290" y="14511"/>
                </a:moveTo>
                <a:cubicBezTo>
                  <a:pt x="20238" y="14593"/>
                  <a:pt x="20208" y="14672"/>
                  <a:pt x="20166" y="14759"/>
                </a:cubicBezTo>
                <a:cubicBezTo>
                  <a:pt x="20135" y="14823"/>
                  <a:pt x="20088" y="14890"/>
                  <a:pt x="20067" y="14957"/>
                </a:cubicBezTo>
                <a:cubicBezTo>
                  <a:pt x="20056" y="14994"/>
                  <a:pt x="20029" y="15021"/>
                  <a:pt x="20017" y="15056"/>
                </a:cubicBezTo>
                <a:cubicBezTo>
                  <a:pt x="20017" y="15064"/>
                  <a:pt x="20017" y="15073"/>
                  <a:pt x="20017" y="15081"/>
                </a:cubicBezTo>
              </a:path>
              <a:path w="21333" h="8237">
                <a:moveTo>
                  <a:pt x="20588" y="14660"/>
                </a:moveTo>
                <a:cubicBezTo>
                  <a:pt x="20768" y="14669"/>
                  <a:pt x="20691" y="14661"/>
                  <a:pt x="20786" y="14684"/>
                </a:cubicBezTo>
              </a:path>
              <a:path w="21333" h="8237">
                <a:moveTo>
                  <a:pt x="20563" y="14808"/>
                </a:moveTo>
                <a:cubicBezTo>
                  <a:pt x="20638" y="14856"/>
                  <a:pt x="20697" y="14903"/>
                  <a:pt x="20786" y="14908"/>
                </a:cubicBezTo>
                <a:cubicBezTo>
                  <a:pt x="20836" y="14908"/>
                  <a:pt x="20853" y="14908"/>
                  <a:pt x="20886" y="14908"/>
                </a:cubicBezTo>
              </a:path>
              <a:path w="21333" h="8237">
                <a:moveTo>
                  <a:pt x="21481" y="14511"/>
                </a:moveTo>
                <a:cubicBezTo>
                  <a:pt x="21481" y="14486"/>
                  <a:pt x="21481" y="14478"/>
                  <a:pt x="21506" y="14486"/>
                </a:cubicBezTo>
                <a:cubicBezTo>
                  <a:pt x="21495" y="14530"/>
                  <a:pt x="21465" y="14551"/>
                  <a:pt x="21431" y="14585"/>
                </a:cubicBezTo>
                <a:cubicBezTo>
                  <a:pt x="21388" y="14628"/>
                  <a:pt x="21383" y="14660"/>
                  <a:pt x="21357" y="14709"/>
                </a:cubicBezTo>
                <a:cubicBezTo>
                  <a:pt x="21317" y="14784"/>
                  <a:pt x="21311" y="14846"/>
                  <a:pt x="21307" y="14932"/>
                </a:cubicBezTo>
                <a:cubicBezTo>
                  <a:pt x="21304" y="15000"/>
                  <a:pt x="21303" y="15051"/>
                  <a:pt x="21332" y="15106"/>
                </a:cubicBezTo>
                <a:cubicBezTo>
                  <a:pt x="21356" y="15150"/>
                  <a:pt x="21390" y="15225"/>
                  <a:pt x="21431" y="15255"/>
                </a:cubicBezTo>
                <a:cubicBezTo>
                  <a:pt x="21456" y="15273"/>
                  <a:pt x="21551" y="15311"/>
                  <a:pt x="21580" y="15304"/>
                </a:cubicBezTo>
                <a:cubicBezTo>
                  <a:pt x="21648" y="15287"/>
                  <a:pt x="21649" y="15274"/>
                  <a:pt x="21679" y="15230"/>
                </a:cubicBezTo>
                <a:cubicBezTo>
                  <a:pt x="21714" y="15177"/>
                  <a:pt x="21710" y="15150"/>
                  <a:pt x="21704" y="15106"/>
                </a:cubicBezTo>
                <a:cubicBezTo>
                  <a:pt x="21698" y="15064"/>
                  <a:pt x="21707" y="15021"/>
                  <a:pt x="21679" y="15007"/>
                </a:cubicBezTo>
                <a:cubicBezTo>
                  <a:pt x="21644" y="14989"/>
                  <a:pt x="21612" y="15047"/>
                  <a:pt x="21605" y="15056"/>
                </a:cubicBezTo>
                <a:cubicBezTo>
                  <a:pt x="21564" y="15109"/>
                  <a:pt x="21577" y="15070"/>
                  <a:pt x="21555" y="15131"/>
                </a:cubicBezTo>
                <a:cubicBezTo>
                  <a:pt x="21525" y="15214"/>
                  <a:pt x="21532" y="15186"/>
                  <a:pt x="21555" y="15255"/>
                </a:cubicBezTo>
                <a:cubicBezTo>
                  <a:pt x="21555" y="15263"/>
                  <a:pt x="21555" y="15272"/>
                  <a:pt x="21555" y="15280"/>
                </a:cubicBezTo>
              </a:path>
              <a:path w="21333" h="8237">
                <a:moveTo>
                  <a:pt x="21853" y="15280"/>
                </a:moveTo>
                <a:lnTo>
                  <a:pt x="21853" y="15280"/>
                </a:lnTo>
              </a:path>
              <a:path w="21333" h="8237">
                <a:moveTo>
                  <a:pt x="22275" y="14858"/>
                </a:moveTo>
                <a:cubicBezTo>
                  <a:pt x="22355" y="14733"/>
                  <a:pt x="22358" y="14762"/>
                  <a:pt x="22324" y="14660"/>
                </a:cubicBezTo>
                <a:cubicBezTo>
                  <a:pt x="22312" y="14624"/>
                  <a:pt x="22290" y="14598"/>
                  <a:pt x="22250" y="14585"/>
                </a:cubicBezTo>
                <a:cubicBezTo>
                  <a:pt x="22195" y="14566"/>
                  <a:pt x="22143" y="14612"/>
                  <a:pt x="22101" y="14635"/>
                </a:cubicBezTo>
                <a:cubicBezTo>
                  <a:pt x="22039" y="14670"/>
                  <a:pt x="22020" y="14688"/>
                  <a:pt x="22002" y="14759"/>
                </a:cubicBezTo>
                <a:cubicBezTo>
                  <a:pt x="21986" y="14824"/>
                  <a:pt x="22000" y="14906"/>
                  <a:pt x="22027" y="14957"/>
                </a:cubicBezTo>
                <a:cubicBezTo>
                  <a:pt x="22050" y="15001"/>
                  <a:pt x="22071" y="15053"/>
                  <a:pt x="22126" y="15056"/>
                </a:cubicBezTo>
                <a:cubicBezTo>
                  <a:pt x="22226" y="15061"/>
                  <a:pt x="22210" y="15042"/>
                  <a:pt x="22250" y="14982"/>
                </a:cubicBezTo>
                <a:cubicBezTo>
                  <a:pt x="22274" y="14947"/>
                  <a:pt x="22311" y="14922"/>
                  <a:pt x="22324" y="14883"/>
                </a:cubicBezTo>
                <a:cubicBezTo>
                  <a:pt x="22335" y="14851"/>
                  <a:pt x="22334" y="14778"/>
                  <a:pt x="22349" y="14808"/>
                </a:cubicBezTo>
                <a:cubicBezTo>
                  <a:pt x="22422" y="14955"/>
                  <a:pt x="22349" y="15309"/>
                  <a:pt x="22349" y="15478"/>
                </a:cubicBezTo>
              </a:path>
              <a:path w="21333" h="8237">
                <a:moveTo>
                  <a:pt x="17041" y="15180"/>
                </a:moveTo>
                <a:cubicBezTo>
                  <a:pt x="17061" y="15258"/>
                  <a:pt x="17087" y="15338"/>
                  <a:pt x="17090" y="15429"/>
                </a:cubicBezTo>
                <a:cubicBezTo>
                  <a:pt x="17095" y="15566"/>
                  <a:pt x="17080" y="15693"/>
                  <a:pt x="17066" y="15825"/>
                </a:cubicBezTo>
                <a:cubicBezTo>
                  <a:pt x="17055" y="15930"/>
                  <a:pt x="17077" y="16023"/>
                  <a:pt x="17090" y="16123"/>
                </a:cubicBezTo>
                <a:cubicBezTo>
                  <a:pt x="17092" y="16137"/>
                  <a:pt x="17088" y="16333"/>
                  <a:pt x="17115" y="16297"/>
                </a:cubicBezTo>
                <a:cubicBezTo>
                  <a:pt x="17115" y="16289"/>
                  <a:pt x="17115" y="16280"/>
                  <a:pt x="17115" y="16272"/>
                </a:cubicBezTo>
              </a:path>
              <a:path w="21333" h="8237">
                <a:moveTo>
                  <a:pt x="16768" y="15701"/>
                </a:moveTo>
                <a:cubicBezTo>
                  <a:pt x="16829" y="15679"/>
                  <a:pt x="16899" y="15663"/>
                  <a:pt x="16966" y="15677"/>
                </a:cubicBezTo>
                <a:cubicBezTo>
                  <a:pt x="17065" y="15698"/>
                  <a:pt x="17161" y="15717"/>
                  <a:pt x="17264" y="15726"/>
                </a:cubicBezTo>
              </a:path>
              <a:path w="21333" h="8237">
                <a:moveTo>
                  <a:pt x="17512" y="15875"/>
                </a:moveTo>
                <a:cubicBezTo>
                  <a:pt x="17537" y="15900"/>
                  <a:pt x="17545" y="15908"/>
                  <a:pt x="17562" y="15925"/>
                </a:cubicBezTo>
                <a:cubicBezTo>
                  <a:pt x="17562" y="15874"/>
                  <a:pt x="17571" y="15839"/>
                  <a:pt x="17537" y="15801"/>
                </a:cubicBezTo>
                <a:cubicBezTo>
                  <a:pt x="17482" y="15740"/>
                  <a:pt x="17467" y="15758"/>
                  <a:pt x="17413" y="15776"/>
                </a:cubicBezTo>
                <a:cubicBezTo>
                  <a:pt x="17353" y="15796"/>
                  <a:pt x="17353" y="15823"/>
                  <a:pt x="17314" y="15875"/>
                </a:cubicBezTo>
                <a:cubicBezTo>
                  <a:pt x="17294" y="15902"/>
                  <a:pt x="17254" y="15987"/>
                  <a:pt x="17264" y="16024"/>
                </a:cubicBezTo>
                <a:cubicBezTo>
                  <a:pt x="17276" y="16069"/>
                  <a:pt x="17309" y="16140"/>
                  <a:pt x="17338" y="16173"/>
                </a:cubicBezTo>
                <a:cubicBezTo>
                  <a:pt x="17368" y="16206"/>
                  <a:pt x="17437" y="16203"/>
                  <a:pt x="17462" y="16173"/>
                </a:cubicBezTo>
                <a:cubicBezTo>
                  <a:pt x="17489" y="16139"/>
                  <a:pt x="17499" y="16062"/>
                  <a:pt x="17512" y="16024"/>
                </a:cubicBezTo>
                <a:cubicBezTo>
                  <a:pt x="17533" y="15962"/>
                  <a:pt x="17487" y="15980"/>
                  <a:pt x="17512" y="16024"/>
                </a:cubicBezTo>
                <a:cubicBezTo>
                  <a:pt x="17540" y="16074"/>
                  <a:pt x="17549" y="16122"/>
                  <a:pt x="17587" y="16173"/>
                </a:cubicBezTo>
                <a:cubicBezTo>
                  <a:pt x="17610" y="16204"/>
                  <a:pt x="17613" y="16216"/>
                  <a:pt x="17636" y="16247"/>
                </a:cubicBezTo>
              </a:path>
              <a:path w="21333" h="8237">
                <a:moveTo>
                  <a:pt x="17735" y="15900"/>
                </a:moveTo>
                <a:cubicBezTo>
                  <a:pt x="17735" y="15965"/>
                  <a:pt x="17745" y="15990"/>
                  <a:pt x="17760" y="16049"/>
                </a:cubicBezTo>
                <a:cubicBezTo>
                  <a:pt x="17773" y="16099"/>
                  <a:pt x="17760" y="16170"/>
                  <a:pt x="17760" y="16222"/>
                </a:cubicBezTo>
                <a:cubicBezTo>
                  <a:pt x="17760" y="16167"/>
                  <a:pt x="17772" y="16151"/>
                  <a:pt x="17785" y="16098"/>
                </a:cubicBezTo>
                <a:cubicBezTo>
                  <a:pt x="17796" y="16055"/>
                  <a:pt x="17825" y="16011"/>
                  <a:pt x="17835" y="15974"/>
                </a:cubicBezTo>
                <a:cubicBezTo>
                  <a:pt x="17843" y="15945"/>
                  <a:pt x="17858" y="15867"/>
                  <a:pt x="17884" y="15850"/>
                </a:cubicBezTo>
                <a:cubicBezTo>
                  <a:pt x="17908" y="15834"/>
                  <a:pt x="17971" y="15851"/>
                  <a:pt x="17983" y="15875"/>
                </a:cubicBezTo>
                <a:cubicBezTo>
                  <a:pt x="18007" y="15924"/>
                  <a:pt x="18040" y="15991"/>
                  <a:pt x="18058" y="16049"/>
                </a:cubicBezTo>
                <a:cubicBezTo>
                  <a:pt x="18081" y="16123"/>
                  <a:pt x="18088" y="16206"/>
                  <a:pt x="18107" y="16272"/>
                </a:cubicBezTo>
                <a:cubicBezTo>
                  <a:pt x="18107" y="16297"/>
                  <a:pt x="18107" y="16305"/>
                  <a:pt x="18107" y="16321"/>
                </a:cubicBezTo>
              </a:path>
              <a:path w="21333" h="8237">
                <a:moveTo>
                  <a:pt x="18281" y="15602"/>
                </a:moveTo>
                <a:cubicBezTo>
                  <a:pt x="18319" y="15589"/>
                  <a:pt x="18302" y="15577"/>
                  <a:pt x="18355" y="15577"/>
                </a:cubicBezTo>
                <a:cubicBezTo>
                  <a:pt x="18399" y="15577"/>
                  <a:pt x="18405" y="15583"/>
                  <a:pt x="18430" y="15602"/>
                </a:cubicBezTo>
                <a:cubicBezTo>
                  <a:pt x="18464" y="15627"/>
                  <a:pt x="18503" y="15637"/>
                  <a:pt x="18529" y="15677"/>
                </a:cubicBezTo>
                <a:cubicBezTo>
                  <a:pt x="18568" y="15737"/>
                  <a:pt x="18600" y="15805"/>
                  <a:pt x="18604" y="15875"/>
                </a:cubicBezTo>
                <a:cubicBezTo>
                  <a:pt x="18608" y="15949"/>
                  <a:pt x="18602" y="16030"/>
                  <a:pt x="18579" y="16098"/>
                </a:cubicBezTo>
                <a:cubicBezTo>
                  <a:pt x="18555" y="16170"/>
                  <a:pt x="18496" y="16261"/>
                  <a:pt x="18430" y="16297"/>
                </a:cubicBezTo>
                <a:cubicBezTo>
                  <a:pt x="18400" y="16313"/>
                  <a:pt x="18369" y="16321"/>
                  <a:pt x="18331" y="16321"/>
                </a:cubicBezTo>
                <a:cubicBezTo>
                  <a:pt x="18331" y="16282"/>
                  <a:pt x="18313" y="16194"/>
                  <a:pt x="18355" y="16173"/>
                </a:cubicBezTo>
                <a:cubicBezTo>
                  <a:pt x="18374" y="16164"/>
                  <a:pt x="18427" y="16132"/>
                  <a:pt x="18455" y="16148"/>
                </a:cubicBezTo>
                <a:cubicBezTo>
                  <a:pt x="18507" y="16178"/>
                  <a:pt x="18572" y="16251"/>
                  <a:pt x="18604" y="16297"/>
                </a:cubicBezTo>
                <a:cubicBezTo>
                  <a:pt x="18641" y="16351"/>
                  <a:pt x="18682" y="16374"/>
                  <a:pt x="18728" y="16421"/>
                </a:cubicBezTo>
                <a:cubicBezTo>
                  <a:pt x="18750" y="16444"/>
                  <a:pt x="18758" y="16455"/>
                  <a:pt x="18752" y="16421"/>
                </a:cubicBezTo>
              </a:path>
              <a:path w="21333" h="8237">
                <a:moveTo>
                  <a:pt x="18802" y="15577"/>
                </a:moveTo>
                <a:cubicBezTo>
                  <a:pt x="18835" y="15570"/>
                  <a:pt x="18956" y="15532"/>
                  <a:pt x="19000" y="15553"/>
                </a:cubicBezTo>
                <a:cubicBezTo>
                  <a:pt x="19023" y="15575"/>
                  <a:pt x="19028" y="15583"/>
                  <a:pt x="19050" y="15577"/>
                </a:cubicBezTo>
              </a:path>
              <a:path w="21333" h="8237">
                <a:moveTo>
                  <a:pt x="18827" y="15627"/>
                </a:moveTo>
                <a:cubicBezTo>
                  <a:pt x="18804" y="15685"/>
                  <a:pt x="18777" y="15718"/>
                  <a:pt x="18777" y="15776"/>
                </a:cubicBezTo>
                <a:cubicBezTo>
                  <a:pt x="18777" y="15802"/>
                  <a:pt x="18785" y="15863"/>
                  <a:pt x="18802" y="15875"/>
                </a:cubicBezTo>
                <a:cubicBezTo>
                  <a:pt x="18823" y="15889"/>
                  <a:pt x="18917" y="15895"/>
                  <a:pt x="18926" y="15900"/>
                </a:cubicBezTo>
                <a:cubicBezTo>
                  <a:pt x="18982" y="15928"/>
                  <a:pt x="18993" y="15960"/>
                  <a:pt x="19025" y="16024"/>
                </a:cubicBezTo>
                <a:cubicBezTo>
                  <a:pt x="19055" y="16083"/>
                  <a:pt x="19071" y="16156"/>
                  <a:pt x="19075" y="16222"/>
                </a:cubicBezTo>
                <a:cubicBezTo>
                  <a:pt x="19080" y="16317"/>
                  <a:pt x="19087" y="16353"/>
                  <a:pt x="19025" y="16421"/>
                </a:cubicBezTo>
                <a:cubicBezTo>
                  <a:pt x="18991" y="16459"/>
                  <a:pt x="18950" y="16446"/>
                  <a:pt x="18901" y="16446"/>
                </a:cubicBezTo>
                <a:cubicBezTo>
                  <a:pt x="18857" y="16446"/>
                  <a:pt x="18808" y="16423"/>
                  <a:pt x="18777" y="16396"/>
                </a:cubicBezTo>
                <a:cubicBezTo>
                  <a:pt x="18735" y="16359"/>
                  <a:pt x="18736" y="16313"/>
                  <a:pt x="18752" y="16272"/>
                </a:cubicBezTo>
              </a:path>
              <a:path w="21333" h="8237">
                <a:moveTo>
                  <a:pt x="19224" y="15478"/>
                </a:moveTo>
                <a:cubicBezTo>
                  <a:pt x="19187" y="15503"/>
                  <a:pt x="19128" y="15541"/>
                  <a:pt x="19149" y="15602"/>
                </a:cubicBezTo>
                <a:cubicBezTo>
                  <a:pt x="19164" y="15647"/>
                  <a:pt x="19193" y="15656"/>
                  <a:pt x="19224" y="15677"/>
                </a:cubicBezTo>
                <a:cubicBezTo>
                  <a:pt x="19252" y="15695"/>
                  <a:pt x="19297" y="15728"/>
                  <a:pt x="19323" y="15677"/>
                </a:cubicBezTo>
                <a:cubicBezTo>
                  <a:pt x="19335" y="15654"/>
                  <a:pt x="19360" y="15609"/>
                  <a:pt x="19348" y="15577"/>
                </a:cubicBezTo>
                <a:cubicBezTo>
                  <a:pt x="19319" y="15496"/>
                  <a:pt x="19313" y="15512"/>
                  <a:pt x="19273" y="15453"/>
                </a:cubicBezTo>
                <a:cubicBezTo>
                  <a:pt x="19273" y="15429"/>
                  <a:pt x="19273" y="15421"/>
                  <a:pt x="19248" y="15429"/>
                </a:cubicBezTo>
              </a:path>
              <a:path w="21333" h="8237">
                <a:moveTo>
                  <a:pt x="19348" y="16024"/>
                </a:moveTo>
                <a:cubicBezTo>
                  <a:pt x="19405" y="16049"/>
                  <a:pt x="19441" y="16067"/>
                  <a:pt x="19496" y="16098"/>
                </a:cubicBezTo>
              </a:path>
              <a:path w="21333" h="8237">
                <a:moveTo>
                  <a:pt x="19323" y="16247"/>
                </a:moveTo>
                <a:cubicBezTo>
                  <a:pt x="19398" y="16300"/>
                  <a:pt x="19410" y="16321"/>
                  <a:pt x="19496" y="16321"/>
                </a:cubicBezTo>
              </a:path>
              <a:path w="21333" h="8237">
                <a:moveTo>
                  <a:pt x="19844" y="15776"/>
                </a:moveTo>
                <a:cubicBezTo>
                  <a:pt x="19875" y="15847"/>
                  <a:pt x="19869" y="15894"/>
                  <a:pt x="19869" y="15974"/>
                </a:cubicBezTo>
                <a:cubicBezTo>
                  <a:pt x="19869" y="16058"/>
                  <a:pt x="19844" y="16135"/>
                  <a:pt x="19844" y="16222"/>
                </a:cubicBezTo>
                <a:cubicBezTo>
                  <a:pt x="19844" y="16297"/>
                  <a:pt x="19844" y="16371"/>
                  <a:pt x="19844" y="16446"/>
                </a:cubicBezTo>
              </a:path>
              <a:path w="21333" h="8237">
                <a:moveTo>
                  <a:pt x="4862" y="15478"/>
                </a:moveTo>
                <a:cubicBezTo>
                  <a:pt x="4883" y="15451"/>
                  <a:pt x="4930" y="15369"/>
                  <a:pt x="4961" y="15354"/>
                </a:cubicBezTo>
                <a:cubicBezTo>
                  <a:pt x="5004" y="15333"/>
                  <a:pt x="5005" y="15357"/>
                  <a:pt x="4961" y="15379"/>
                </a:cubicBezTo>
                <a:cubicBezTo>
                  <a:pt x="4926" y="15396"/>
                  <a:pt x="4935" y="15416"/>
                  <a:pt x="4911" y="15453"/>
                </a:cubicBezTo>
                <a:cubicBezTo>
                  <a:pt x="4882" y="15498"/>
                  <a:pt x="4846" y="15555"/>
                  <a:pt x="4837" y="15602"/>
                </a:cubicBezTo>
                <a:cubicBezTo>
                  <a:pt x="4821" y="15683"/>
                  <a:pt x="4830" y="15749"/>
                  <a:pt x="4837" y="15825"/>
                </a:cubicBezTo>
                <a:cubicBezTo>
                  <a:pt x="4843" y="15891"/>
                  <a:pt x="4859" y="15945"/>
                  <a:pt x="4887" y="15999"/>
                </a:cubicBezTo>
                <a:cubicBezTo>
                  <a:pt x="4921" y="16065"/>
                  <a:pt x="4965" y="16092"/>
                  <a:pt x="5035" y="16098"/>
                </a:cubicBezTo>
                <a:cubicBezTo>
                  <a:pt x="5100" y="16103"/>
                  <a:pt x="5116" y="16092"/>
                  <a:pt x="5159" y="16049"/>
                </a:cubicBezTo>
                <a:cubicBezTo>
                  <a:pt x="5197" y="16011"/>
                  <a:pt x="5230" y="15982"/>
                  <a:pt x="5234" y="15925"/>
                </a:cubicBezTo>
                <a:cubicBezTo>
                  <a:pt x="5236" y="15891"/>
                  <a:pt x="5248" y="15820"/>
                  <a:pt x="5209" y="15801"/>
                </a:cubicBezTo>
                <a:cubicBezTo>
                  <a:pt x="5172" y="15783"/>
                  <a:pt x="5142" y="15822"/>
                  <a:pt x="5110" y="15825"/>
                </a:cubicBezTo>
                <a:cubicBezTo>
                  <a:pt x="5072" y="15829"/>
                  <a:pt x="5075" y="15866"/>
                  <a:pt x="5060" y="15900"/>
                </a:cubicBezTo>
                <a:cubicBezTo>
                  <a:pt x="5031" y="15967"/>
                  <a:pt x="5060" y="15958"/>
                  <a:pt x="5060" y="16024"/>
                </a:cubicBezTo>
              </a:path>
              <a:path w="21333" h="8237">
                <a:moveTo>
                  <a:pt x="5383" y="16049"/>
                </a:moveTo>
                <a:cubicBezTo>
                  <a:pt x="5428" y="16094"/>
                  <a:pt x="5433" y="16041"/>
                  <a:pt x="5457" y="15999"/>
                </a:cubicBezTo>
              </a:path>
              <a:path w="21333" h="8237">
                <a:moveTo>
                  <a:pt x="5904" y="15429"/>
                </a:moveTo>
                <a:cubicBezTo>
                  <a:pt x="5888" y="15375"/>
                  <a:pt x="5886" y="15316"/>
                  <a:pt x="5829" y="15304"/>
                </a:cubicBezTo>
                <a:cubicBezTo>
                  <a:pt x="5787" y="15295"/>
                  <a:pt x="5713" y="15309"/>
                  <a:pt x="5680" y="15329"/>
                </a:cubicBezTo>
                <a:cubicBezTo>
                  <a:pt x="5650" y="15347"/>
                  <a:pt x="5589" y="15443"/>
                  <a:pt x="5581" y="15478"/>
                </a:cubicBezTo>
                <a:cubicBezTo>
                  <a:pt x="5567" y="15535"/>
                  <a:pt x="5629" y="15659"/>
                  <a:pt x="5655" y="15701"/>
                </a:cubicBezTo>
                <a:cubicBezTo>
                  <a:pt x="5681" y="15744"/>
                  <a:pt x="5710" y="15751"/>
                  <a:pt x="5755" y="15751"/>
                </a:cubicBezTo>
                <a:cubicBezTo>
                  <a:pt x="5796" y="15751"/>
                  <a:pt x="5834" y="15745"/>
                  <a:pt x="5854" y="15701"/>
                </a:cubicBezTo>
                <a:cubicBezTo>
                  <a:pt x="5874" y="15657"/>
                  <a:pt x="5904" y="15529"/>
                  <a:pt x="5904" y="15577"/>
                </a:cubicBezTo>
                <a:cubicBezTo>
                  <a:pt x="5904" y="15631"/>
                  <a:pt x="5882" y="15647"/>
                  <a:pt x="5879" y="15701"/>
                </a:cubicBezTo>
                <a:cubicBezTo>
                  <a:pt x="5873" y="15806"/>
                  <a:pt x="5871" y="15900"/>
                  <a:pt x="5854" y="15999"/>
                </a:cubicBezTo>
                <a:cubicBezTo>
                  <a:pt x="5851" y="16020"/>
                  <a:pt x="5843" y="16178"/>
                  <a:pt x="5804" y="16173"/>
                </a:cubicBezTo>
                <a:cubicBezTo>
                  <a:pt x="5796" y="16165"/>
                  <a:pt x="5787" y="16156"/>
                  <a:pt x="5779" y="16148"/>
                </a:cubicBezTo>
              </a:path>
              <a:path w="21333" h="8237">
                <a:moveTo>
                  <a:pt x="2356" y="16123"/>
                </a:moveTo>
                <a:cubicBezTo>
                  <a:pt x="2347" y="16162"/>
                  <a:pt x="2332" y="16178"/>
                  <a:pt x="2332" y="16222"/>
                </a:cubicBezTo>
                <a:cubicBezTo>
                  <a:pt x="2332" y="16230"/>
                  <a:pt x="2332" y="16239"/>
                  <a:pt x="2332" y="16247"/>
                </a:cubicBezTo>
                <a:cubicBezTo>
                  <a:pt x="2392" y="16262"/>
                  <a:pt x="2409" y="16252"/>
                  <a:pt x="2480" y="16247"/>
                </a:cubicBezTo>
                <a:cubicBezTo>
                  <a:pt x="2522" y="16244"/>
                  <a:pt x="2491" y="16235"/>
                  <a:pt x="2530" y="16222"/>
                </a:cubicBezTo>
                <a:cubicBezTo>
                  <a:pt x="2497" y="16178"/>
                  <a:pt x="2495" y="16144"/>
                  <a:pt x="2431" y="16123"/>
                </a:cubicBezTo>
                <a:cubicBezTo>
                  <a:pt x="2347" y="16095"/>
                  <a:pt x="2291" y="16159"/>
                  <a:pt x="2232" y="16197"/>
                </a:cubicBezTo>
                <a:cubicBezTo>
                  <a:pt x="2187" y="16225"/>
                  <a:pt x="2149" y="16298"/>
                  <a:pt x="2232" y="16321"/>
                </a:cubicBezTo>
                <a:cubicBezTo>
                  <a:pt x="2299" y="16340"/>
                  <a:pt x="2366" y="16302"/>
                  <a:pt x="2431" y="16297"/>
                </a:cubicBezTo>
                <a:cubicBezTo>
                  <a:pt x="2476" y="16294"/>
                  <a:pt x="2485" y="16317"/>
                  <a:pt x="2456" y="16272"/>
                </a:cubicBezTo>
                <a:cubicBezTo>
                  <a:pt x="2418" y="16272"/>
                  <a:pt x="2376" y="16279"/>
                  <a:pt x="2431" y="16297"/>
                </a:cubicBezTo>
              </a:path>
              <a:path w="21333" h="8237">
                <a:moveTo>
                  <a:pt x="2381" y="16098"/>
                </a:moveTo>
                <a:cubicBezTo>
                  <a:pt x="2372" y="16135"/>
                  <a:pt x="2358" y="16167"/>
                  <a:pt x="2332" y="16197"/>
                </a:cubicBezTo>
                <a:cubicBezTo>
                  <a:pt x="2309" y="16220"/>
                  <a:pt x="2301" y="16224"/>
                  <a:pt x="2307" y="16247"/>
                </a:cubicBezTo>
                <a:cubicBezTo>
                  <a:pt x="2397" y="16247"/>
                  <a:pt x="2293" y="16245"/>
                  <a:pt x="2356" y="16272"/>
                </a:cubicBezTo>
                <a:cubicBezTo>
                  <a:pt x="2419" y="16299"/>
                  <a:pt x="2490" y="16247"/>
                  <a:pt x="2480" y="16272"/>
                </a:cubicBezTo>
                <a:cubicBezTo>
                  <a:pt x="2468" y="16302"/>
                  <a:pt x="2440" y="16303"/>
                  <a:pt x="2431" y="16321"/>
                </a:cubicBezTo>
                <a:cubicBezTo>
                  <a:pt x="2416" y="16350"/>
                  <a:pt x="2393" y="16412"/>
                  <a:pt x="2381" y="16446"/>
                </a:cubicBezTo>
                <a:cubicBezTo>
                  <a:pt x="2381" y="16470"/>
                  <a:pt x="2381" y="16479"/>
                  <a:pt x="2381" y="164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17960" y="4232160"/>
            <a:ext cx="1241280" cy="376200"/>
          </a:xfrm>
          <a:custGeom>
            <a:avLst/>
            <a:gdLst/>
            <a:ahLst/>
            <a:rect l="l" t="t" r="r" b="b"/>
            <a:pathLst>
              <a:path w="3449" h="1043">
                <a:moveTo>
                  <a:pt x="11162" y="11757"/>
                </a:moveTo>
                <a:cubicBezTo>
                  <a:pt x="11201" y="11809"/>
                  <a:pt x="11170" y="11844"/>
                  <a:pt x="11187" y="11906"/>
                </a:cubicBezTo>
                <a:cubicBezTo>
                  <a:pt x="11211" y="11990"/>
                  <a:pt x="11212" y="12063"/>
                  <a:pt x="11212" y="12154"/>
                </a:cubicBezTo>
                <a:cubicBezTo>
                  <a:pt x="11212" y="12252"/>
                  <a:pt x="11194" y="12370"/>
                  <a:pt x="11237" y="12452"/>
                </a:cubicBezTo>
                <a:cubicBezTo>
                  <a:pt x="11258" y="12496"/>
                  <a:pt x="11261" y="12517"/>
                  <a:pt x="11286" y="12477"/>
                </a:cubicBezTo>
              </a:path>
              <a:path w="3449" h="1043">
                <a:moveTo>
                  <a:pt x="11534" y="11782"/>
                </a:moveTo>
                <a:cubicBezTo>
                  <a:pt x="11526" y="11814"/>
                  <a:pt x="11522" y="11875"/>
                  <a:pt x="11509" y="11906"/>
                </a:cubicBezTo>
                <a:cubicBezTo>
                  <a:pt x="11485" y="11965"/>
                  <a:pt x="11477" y="11974"/>
                  <a:pt x="11509" y="12030"/>
                </a:cubicBezTo>
                <a:cubicBezTo>
                  <a:pt x="11524" y="12057"/>
                  <a:pt x="11572" y="12119"/>
                  <a:pt x="11609" y="12129"/>
                </a:cubicBezTo>
                <a:cubicBezTo>
                  <a:pt x="11671" y="12147"/>
                  <a:pt x="11733" y="12119"/>
                  <a:pt x="11782" y="12105"/>
                </a:cubicBezTo>
                <a:cubicBezTo>
                  <a:pt x="11862" y="12082"/>
                  <a:pt x="11875" y="12067"/>
                  <a:pt x="11881" y="11981"/>
                </a:cubicBezTo>
                <a:cubicBezTo>
                  <a:pt x="11886" y="11912"/>
                  <a:pt x="11859" y="11919"/>
                  <a:pt x="11807" y="11881"/>
                </a:cubicBezTo>
                <a:cubicBezTo>
                  <a:pt x="11764" y="11849"/>
                  <a:pt x="11704" y="11816"/>
                  <a:pt x="11658" y="11807"/>
                </a:cubicBezTo>
                <a:cubicBezTo>
                  <a:pt x="11607" y="11797"/>
                  <a:pt x="11570" y="11805"/>
                  <a:pt x="11534" y="11832"/>
                </a:cubicBezTo>
              </a:path>
              <a:path w="3449" h="1043">
                <a:moveTo>
                  <a:pt x="11584" y="12105"/>
                </a:moveTo>
                <a:cubicBezTo>
                  <a:pt x="11569" y="12168"/>
                  <a:pt x="11557" y="12245"/>
                  <a:pt x="11534" y="12303"/>
                </a:cubicBezTo>
                <a:cubicBezTo>
                  <a:pt x="11505" y="12376"/>
                  <a:pt x="11472" y="12362"/>
                  <a:pt x="11509" y="12427"/>
                </a:cubicBezTo>
                <a:cubicBezTo>
                  <a:pt x="11561" y="12519"/>
                  <a:pt x="11548" y="12478"/>
                  <a:pt x="11633" y="12502"/>
                </a:cubicBezTo>
                <a:cubicBezTo>
                  <a:pt x="11676" y="12514"/>
                  <a:pt x="11760" y="12526"/>
                  <a:pt x="11807" y="12502"/>
                </a:cubicBezTo>
                <a:cubicBezTo>
                  <a:pt x="11844" y="12484"/>
                  <a:pt x="11902" y="12415"/>
                  <a:pt x="11906" y="12378"/>
                </a:cubicBezTo>
                <a:cubicBezTo>
                  <a:pt x="11913" y="12314"/>
                  <a:pt x="11900" y="12297"/>
                  <a:pt x="11857" y="12254"/>
                </a:cubicBezTo>
                <a:cubicBezTo>
                  <a:pt x="11825" y="12222"/>
                  <a:pt x="11801" y="12184"/>
                  <a:pt x="11757" y="12179"/>
                </a:cubicBezTo>
                <a:cubicBezTo>
                  <a:pt x="11733" y="12179"/>
                  <a:pt x="11724" y="12179"/>
                  <a:pt x="11708" y="12179"/>
                </a:cubicBezTo>
              </a:path>
              <a:path w="3449" h="1043">
                <a:moveTo>
                  <a:pt x="12080" y="12452"/>
                </a:moveTo>
                <a:cubicBezTo>
                  <a:pt x="12121" y="12431"/>
                  <a:pt x="12129" y="12402"/>
                  <a:pt x="12154" y="12353"/>
                </a:cubicBezTo>
              </a:path>
              <a:path w="3449" h="1043">
                <a:moveTo>
                  <a:pt x="12477" y="11757"/>
                </a:moveTo>
                <a:cubicBezTo>
                  <a:pt x="12439" y="11795"/>
                  <a:pt x="12395" y="11828"/>
                  <a:pt x="12378" y="11881"/>
                </a:cubicBezTo>
                <a:cubicBezTo>
                  <a:pt x="12364" y="11925"/>
                  <a:pt x="12375" y="11974"/>
                  <a:pt x="12402" y="12005"/>
                </a:cubicBezTo>
                <a:cubicBezTo>
                  <a:pt x="12433" y="12040"/>
                  <a:pt x="12484" y="12038"/>
                  <a:pt x="12526" y="12055"/>
                </a:cubicBezTo>
                <a:cubicBezTo>
                  <a:pt x="12581" y="12077"/>
                  <a:pt x="12640" y="12067"/>
                  <a:pt x="12700" y="12030"/>
                </a:cubicBezTo>
                <a:cubicBezTo>
                  <a:pt x="12722" y="12016"/>
                  <a:pt x="12787" y="11961"/>
                  <a:pt x="12774" y="11931"/>
                </a:cubicBezTo>
                <a:cubicBezTo>
                  <a:pt x="12758" y="11893"/>
                  <a:pt x="12732" y="11864"/>
                  <a:pt x="12700" y="11832"/>
                </a:cubicBezTo>
                <a:cubicBezTo>
                  <a:pt x="12670" y="11802"/>
                  <a:pt x="12613" y="11769"/>
                  <a:pt x="12576" y="11757"/>
                </a:cubicBezTo>
                <a:cubicBezTo>
                  <a:pt x="12540" y="11745"/>
                  <a:pt x="12507" y="11769"/>
                  <a:pt x="12477" y="11782"/>
                </a:cubicBezTo>
              </a:path>
              <a:path w="3449" h="1043">
                <a:moveTo>
                  <a:pt x="12452" y="12129"/>
                </a:moveTo>
                <a:cubicBezTo>
                  <a:pt x="12432" y="12194"/>
                  <a:pt x="12370" y="12343"/>
                  <a:pt x="12402" y="12427"/>
                </a:cubicBezTo>
                <a:cubicBezTo>
                  <a:pt x="12419" y="12470"/>
                  <a:pt x="12487" y="12499"/>
                  <a:pt x="12526" y="12502"/>
                </a:cubicBezTo>
                <a:cubicBezTo>
                  <a:pt x="12604" y="12507"/>
                  <a:pt x="12687" y="12511"/>
                  <a:pt x="12750" y="12477"/>
                </a:cubicBezTo>
                <a:cubicBezTo>
                  <a:pt x="12807" y="12446"/>
                  <a:pt x="12844" y="12423"/>
                  <a:pt x="12849" y="12353"/>
                </a:cubicBezTo>
                <a:cubicBezTo>
                  <a:pt x="12853" y="12296"/>
                  <a:pt x="12850" y="12241"/>
                  <a:pt x="12799" y="12204"/>
                </a:cubicBezTo>
                <a:cubicBezTo>
                  <a:pt x="12753" y="12171"/>
                  <a:pt x="12693" y="12155"/>
                  <a:pt x="12650" y="12129"/>
                </a:cubicBezTo>
                <a:cubicBezTo>
                  <a:pt x="12625" y="12114"/>
                  <a:pt x="12581" y="12105"/>
                  <a:pt x="12626" y="12105"/>
                </a:cubicBezTo>
              </a:path>
              <a:path w="3449" h="1043">
                <a:moveTo>
                  <a:pt x="13171" y="11832"/>
                </a:moveTo>
                <a:cubicBezTo>
                  <a:pt x="13188" y="11964"/>
                  <a:pt x="13196" y="12073"/>
                  <a:pt x="13196" y="12204"/>
                </a:cubicBezTo>
                <a:cubicBezTo>
                  <a:pt x="13196" y="12263"/>
                  <a:pt x="13189" y="12593"/>
                  <a:pt x="13171" y="12551"/>
                </a:cubicBezTo>
                <a:cubicBezTo>
                  <a:pt x="13171" y="12543"/>
                  <a:pt x="13171" y="12534"/>
                  <a:pt x="13171" y="12526"/>
                </a:cubicBezTo>
              </a:path>
              <a:path w="3449" h="1043">
                <a:moveTo>
                  <a:pt x="13419" y="11782"/>
                </a:moveTo>
                <a:cubicBezTo>
                  <a:pt x="13316" y="11842"/>
                  <a:pt x="13287" y="11868"/>
                  <a:pt x="13221" y="11956"/>
                </a:cubicBezTo>
                <a:cubicBezTo>
                  <a:pt x="13181" y="12009"/>
                  <a:pt x="13171" y="12008"/>
                  <a:pt x="13171" y="12080"/>
                </a:cubicBezTo>
                <a:cubicBezTo>
                  <a:pt x="13171" y="12155"/>
                  <a:pt x="13212" y="12191"/>
                  <a:pt x="13246" y="12254"/>
                </a:cubicBezTo>
                <a:cubicBezTo>
                  <a:pt x="13285" y="12327"/>
                  <a:pt x="13351" y="12382"/>
                  <a:pt x="13419" y="12427"/>
                </a:cubicBezTo>
                <a:cubicBezTo>
                  <a:pt x="13459" y="12454"/>
                  <a:pt x="13526" y="12508"/>
                  <a:pt x="13568" y="12526"/>
                </a:cubicBezTo>
                <a:cubicBezTo>
                  <a:pt x="13593" y="12526"/>
                  <a:pt x="13601" y="12526"/>
                  <a:pt x="13618" y="12526"/>
                </a:cubicBezTo>
              </a:path>
              <a:path w="3449" h="1043">
                <a:moveTo>
                  <a:pt x="13717" y="12303"/>
                </a:moveTo>
                <a:cubicBezTo>
                  <a:pt x="13709" y="12337"/>
                  <a:pt x="13672" y="12455"/>
                  <a:pt x="13692" y="12502"/>
                </a:cubicBezTo>
                <a:cubicBezTo>
                  <a:pt x="13703" y="12527"/>
                  <a:pt x="13725" y="12553"/>
                  <a:pt x="13742" y="12576"/>
                </a:cubicBezTo>
                <a:cubicBezTo>
                  <a:pt x="13775" y="12522"/>
                  <a:pt x="13787" y="12448"/>
                  <a:pt x="13791" y="12378"/>
                </a:cubicBezTo>
                <a:cubicBezTo>
                  <a:pt x="13794" y="12321"/>
                  <a:pt x="13811" y="12283"/>
                  <a:pt x="13816" y="12229"/>
                </a:cubicBezTo>
                <a:cubicBezTo>
                  <a:pt x="13820" y="12188"/>
                  <a:pt x="13837" y="12164"/>
                  <a:pt x="13866" y="12154"/>
                </a:cubicBezTo>
                <a:cubicBezTo>
                  <a:pt x="13893" y="12190"/>
                  <a:pt x="13921" y="12232"/>
                  <a:pt x="13940" y="12278"/>
                </a:cubicBezTo>
                <a:cubicBezTo>
                  <a:pt x="13960" y="12326"/>
                  <a:pt x="13964" y="12410"/>
                  <a:pt x="13990" y="12452"/>
                </a:cubicBezTo>
                <a:cubicBezTo>
                  <a:pt x="14014" y="12492"/>
                  <a:pt x="14062" y="12498"/>
                  <a:pt x="14089" y="12477"/>
                </a:cubicBezTo>
                <a:cubicBezTo>
                  <a:pt x="14115" y="12457"/>
                  <a:pt x="14129" y="12384"/>
                  <a:pt x="14139" y="12353"/>
                </a:cubicBezTo>
                <a:cubicBezTo>
                  <a:pt x="14153" y="12310"/>
                  <a:pt x="14159" y="12249"/>
                  <a:pt x="14163" y="12204"/>
                </a:cubicBezTo>
                <a:cubicBezTo>
                  <a:pt x="14165" y="12180"/>
                  <a:pt x="14208" y="12130"/>
                  <a:pt x="14213" y="12129"/>
                </a:cubicBezTo>
                <a:cubicBezTo>
                  <a:pt x="14270" y="12114"/>
                  <a:pt x="14333" y="12188"/>
                  <a:pt x="14362" y="12229"/>
                </a:cubicBezTo>
                <a:cubicBezTo>
                  <a:pt x="14413" y="12300"/>
                  <a:pt x="14476" y="12370"/>
                  <a:pt x="14511" y="12452"/>
                </a:cubicBezTo>
                <a:cubicBezTo>
                  <a:pt x="14547" y="12538"/>
                  <a:pt x="14588" y="12634"/>
                  <a:pt x="14610" y="12725"/>
                </a:cubicBezTo>
                <a:cubicBezTo>
                  <a:pt x="14610" y="12758"/>
                  <a:pt x="14610" y="12774"/>
                  <a:pt x="14610" y="127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27880" y="4456080"/>
            <a:ext cx="1401840" cy="492120"/>
          </a:xfrm>
          <a:custGeom>
            <a:avLst/>
            <a:gdLst/>
            <a:ahLst/>
            <a:rect l="l" t="t" r="r" b="b"/>
            <a:pathLst>
              <a:path w="3896" h="1365">
                <a:moveTo>
                  <a:pt x="18132" y="12427"/>
                </a:moveTo>
                <a:cubicBezTo>
                  <a:pt x="18153" y="12523"/>
                  <a:pt x="18164" y="12588"/>
                  <a:pt x="18207" y="12675"/>
                </a:cubicBezTo>
                <a:cubicBezTo>
                  <a:pt x="18245" y="12752"/>
                  <a:pt x="18308" y="12791"/>
                  <a:pt x="18355" y="12849"/>
                </a:cubicBezTo>
                <a:cubicBezTo>
                  <a:pt x="18390" y="12893"/>
                  <a:pt x="18428" y="12940"/>
                  <a:pt x="18479" y="12973"/>
                </a:cubicBezTo>
                <a:cubicBezTo>
                  <a:pt x="18536" y="13010"/>
                  <a:pt x="18564" y="13009"/>
                  <a:pt x="18579" y="12948"/>
                </a:cubicBezTo>
              </a:path>
              <a:path w="3896" h="1365">
                <a:moveTo>
                  <a:pt x="18455" y="12378"/>
                </a:moveTo>
                <a:cubicBezTo>
                  <a:pt x="18408" y="12472"/>
                  <a:pt x="18358" y="12559"/>
                  <a:pt x="18306" y="12650"/>
                </a:cubicBezTo>
                <a:cubicBezTo>
                  <a:pt x="18264" y="12724"/>
                  <a:pt x="18234" y="12801"/>
                  <a:pt x="18207" y="12874"/>
                </a:cubicBezTo>
                <a:cubicBezTo>
                  <a:pt x="18186" y="12932"/>
                  <a:pt x="18157" y="12938"/>
                  <a:pt x="18157" y="12998"/>
                </a:cubicBezTo>
                <a:cubicBezTo>
                  <a:pt x="18157" y="13006"/>
                  <a:pt x="18157" y="13014"/>
                  <a:pt x="18157" y="13022"/>
                </a:cubicBezTo>
              </a:path>
              <a:path w="3896" h="1365">
                <a:moveTo>
                  <a:pt x="18802" y="12526"/>
                </a:moveTo>
                <a:cubicBezTo>
                  <a:pt x="18795" y="12613"/>
                  <a:pt x="18750" y="12737"/>
                  <a:pt x="18777" y="12824"/>
                </a:cubicBezTo>
                <a:cubicBezTo>
                  <a:pt x="18792" y="12872"/>
                  <a:pt x="18795" y="12930"/>
                  <a:pt x="18827" y="12973"/>
                </a:cubicBezTo>
              </a:path>
              <a:path w="3896" h="1365">
                <a:moveTo>
                  <a:pt x="18628" y="12700"/>
                </a:moveTo>
                <a:cubicBezTo>
                  <a:pt x="18693" y="12661"/>
                  <a:pt x="18707" y="12694"/>
                  <a:pt x="18777" y="12700"/>
                </a:cubicBezTo>
                <a:cubicBezTo>
                  <a:pt x="18833" y="12705"/>
                  <a:pt x="18896" y="12700"/>
                  <a:pt x="18951" y="12700"/>
                </a:cubicBezTo>
              </a:path>
              <a:path w="3896" h="1365">
                <a:moveTo>
                  <a:pt x="19149" y="12700"/>
                </a:moveTo>
                <a:cubicBezTo>
                  <a:pt x="19209" y="12700"/>
                  <a:pt x="19112" y="12719"/>
                  <a:pt x="19100" y="12725"/>
                </a:cubicBezTo>
                <a:cubicBezTo>
                  <a:pt x="19076" y="12738"/>
                  <a:pt x="19011" y="12799"/>
                  <a:pt x="19000" y="12824"/>
                </a:cubicBezTo>
                <a:cubicBezTo>
                  <a:pt x="18981" y="12867"/>
                  <a:pt x="18982" y="12880"/>
                  <a:pt x="19000" y="12923"/>
                </a:cubicBezTo>
                <a:cubicBezTo>
                  <a:pt x="19010" y="12947"/>
                  <a:pt x="19061" y="13016"/>
                  <a:pt x="19100" y="12998"/>
                </a:cubicBezTo>
                <a:cubicBezTo>
                  <a:pt x="19117" y="12990"/>
                  <a:pt x="19172" y="12951"/>
                  <a:pt x="19174" y="12948"/>
                </a:cubicBezTo>
                <a:cubicBezTo>
                  <a:pt x="19184" y="12927"/>
                  <a:pt x="19197" y="12871"/>
                  <a:pt x="19199" y="12849"/>
                </a:cubicBezTo>
                <a:cubicBezTo>
                  <a:pt x="19202" y="12825"/>
                  <a:pt x="19199" y="12798"/>
                  <a:pt x="19199" y="12774"/>
                </a:cubicBezTo>
                <a:cubicBezTo>
                  <a:pt x="19205" y="12798"/>
                  <a:pt x="19212" y="12852"/>
                  <a:pt x="19224" y="12874"/>
                </a:cubicBezTo>
                <a:cubicBezTo>
                  <a:pt x="19245" y="12912"/>
                  <a:pt x="19262" y="12949"/>
                  <a:pt x="19298" y="12973"/>
                </a:cubicBezTo>
                <a:cubicBezTo>
                  <a:pt x="19323" y="12973"/>
                  <a:pt x="19331" y="12973"/>
                  <a:pt x="19348" y="12973"/>
                </a:cubicBezTo>
              </a:path>
              <a:path w="3896" h="1365">
                <a:moveTo>
                  <a:pt x="19397" y="12725"/>
                </a:moveTo>
                <a:cubicBezTo>
                  <a:pt x="19384" y="12759"/>
                  <a:pt x="19349" y="12834"/>
                  <a:pt x="19372" y="12874"/>
                </a:cubicBezTo>
                <a:cubicBezTo>
                  <a:pt x="19390" y="12906"/>
                  <a:pt x="19368" y="12950"/>
                  <a:pt x="19397" y="12973"/>
                </a:cubicBezTo>
                <a:cubicBezTo>
                  <a:pt x="19422" y="12993"/>
                  <a:pt x="19430" y="12999"/>
                  <a:pt x="19447" y="12948"/>
                </a:cubicBezTo>
                <a:cubicBezTo>
                  <a:pt x="19458" y="12916"/>
                  <a:pt x="19462" y="12879"/>
                  <a:pt x="19472" y="12849"/>
                </a:cubicBezTo>
                <a:cubicBezTo>
                  <a:pt x="19486" y="12807"/>
                  <a:pt x="19505" y="12766"/>
                  <a:pt x="19521" y="12725"/>
                </a:cubicBezTo>
                <a:cubicBezTo>
                  <a:pt x="19525" y="12714"/>
                  <a:pt x="19572" y="12669"/>
                  <a:pt x="19596" y="12700"/>
                </a:cubicBezTo>
                <a:cubicBezTo>
                  <a:pt x="19611" y="12718"/>
                  <a:pt x="19639" y="12798"/>
                  <a:pt x="19645" y="12824"/>
                </a:cubicBezTo>
                <a:cubicBezTo>
                  <a:pt x="19656" y="12868"/>
                  <a:pt x="19683" y="12899"/>
                  <a:pt x="19695" y="12948"/>
                </a:cubicBezTo>
                <a:cubicBezTo>
                  <a:pt x="19705" y="12990"/>
                  <a:pt x="19711" y="13004"/>
                  <a:pt x="19720" y="13022"/>
                </a:cubicBezTo>
                <a:cubicBezTo>
                  <a:pt x="19720" y="13030"/>
                  <a:pt x="19720" y="13039"/>
                  <a:pt x="19720" y="13047"/>
                </a:cubicBezTo>
              </a:path>
              <a:path w="3896" h="1365">
                <a:moveTo>
                  <a:pt x="19918" y="12551"/>
                </a:moveTo>
                <a:cubicBezTo>
                  <a:pt x="19918" y="12634"/>
                  <a:pt x="19907" y="12697"/>
                  <a:pt x="19893" y="12774"/>
                </a:cubicBezTo>
                <a:cubicBezTo>
                  <a:pt x="19881" y="12844"/>
                  <a:pt x="19902" y="12886"/>
                  <a:pt x="19918" y="12948"/>
                </a:cubicBezTo>
                <a:cubicBezTo>
                  <a:pt x="19929" y="12990"/>
                  <a:pt x="19946" y="13051"/>
                  <a:pt x="19993" y="13072"/>
                </a:cubicBezTo>
                <a:cubicBezTo>
                  <a:pt x="20034" y="13091"/>
                  <a:pt x="20063" y="13057"/>
                  <a:pt x="20092" y="13047"/>
                </a:cubicBezTo>
                <a:cubicBezTo>
                  <a:pt x="20135" y="13033"/>
                  <a:pt x="20159" y="12993"/>
                  <a:pt x="20166" y="12948"/>
                </a:cubicBezTo>
                <a:cubicBezTo>
                  <a:pt x="20170" y="12919"/>
                  <a:pt x="20169" y="12818"/>
                  <a:pt x="20141" y="12799"/>
                </a:cubicBezTo>
                <a:cubicBezTo>
                  <a:pt x="20133" y="12799"/>
                  <a:pt x="20125" y="12799"/>
                  <a:pt x="20117" y="12799"/>
                </a:cubicBezTo>
                <a:cubicBezTo>
                  <a:pt x="20086" y="12841"/>
                  <a:pt x="20071" y="12896"/>
                  <a:pt x="20067" y="12948"/>
                </a:cubicBezTo>
                <a:cubicBezTo>
                  <a:pt x="20066" y="12957"/>
                  <a:pt x="20090" y="13070"/>
                  <a:pt x="20092" y="13072"/>
                </a:cubicBezTo>
                <a:cubicBezTo>
                  <a:pt x="20120" y="13072"/>
                  <a:pt x="20131" y="13074"/>
                  <a:pt x="20141" y="13097"/>
                </a:cubicBezTo>
              </a:path>
              <a:path w="3896" h="1365">
                <a:moveTo>
                  <a:pt x="20265" y="12626"/>
                </a:moveTo>
                <a:cubicBezTo>
                  <a:pt x="20243" y="12694"/>
                  <a:pt x="20220" y="12757"/>
                  <a:pt x="20216" y="12824"/>
                </a:cubicBezTo>
                <a:cubicBezTo>
                  <a:pt x="20212" y="12885"/>
                  <a:pt x="20209" y="12945"/>
                  <a:pt x="20241" y="12998"/>
                </a:cubicBezTo>
                <a:cubicBezTo>
                  <a:pt x="20266" y="13039"/>
                  <a:pt x="20324" y="13089"/>
                  <a:pt x="20365" y="13097"/>
                </a:cubicBezTo>
                <a:cubicBezTo>
                  <a:pt x="20406" y="13105"/>
                  <a:pt x="20435" y="13098"/>
                  <a:pt x="20464" y="13072"/>
                </a:cubicBezTo>
                <a:cubicBezTo>
                  <a:pt x="20500" y="13040"/>
                  <a:pt x="20510" y="12995"/>
                  <a:pt x="20513" y="12948"/>
                </a:cubicBezTo>
                <a:cubicBezTo>
                  <a:pt x="20517" y="12871"/>
                  <a:pt x="20530" y="12767"/>
                  <a:pt x="20489" y="12700"/>
                </a:cubicBezTo>
                <a:cubicBezTo>
                  <a:pt x="20462" y="12655"/>
                  <a:pt x="20427" y="12614"/>
                  <a:pt x="20389" y="12576"/>
                </a:cubicBezTo>
                <a:cubicBezTo>
                  <a:pt x="20365" y="12551"/>
                  <a:pt x="20340" y="12526"/>
                  <a:pt x="20315" y="12502"/>
                </a:cubicBezTo>
              </a:path>
              <a:path w="3896" h="1365">
                <a:moveTo>
                  <a:pt x="20538" y="12526"/>
                </a:moveTo>
                <a:cubicBezTo>
                  <a:pt x="20538" y="12604"/>
                  <a:pt x="20534" y="12586"/>
                  <a:pt x="20588" y="12626"/>
                </a:cubicBezTo>
                <a:cubicBezTo>
                  <a:pt x="20591" y="12625"/>
                  <a:pt x="20659" y="12604"/>
                  <a:pt x="20662" y="12601"/>
                </a:cubicBezTo>
                <a:cubicBezTo>
                  <a:pt x="20662" y="12573"/>
                  <a:pt x="20664" y="12562"/>
                  <a:pt x="20687" y="12551"/>
                </a:cubicBezTo>
                <a:cubicBezTo>
                  <a:pt x="20649" y="12522"/>
                  <a:pt x="20636" y="12526"/>
                  <a:pt x="20588" y="12526"/>
                </a:cubicBezTo>
              </a:path>
              <a:path w="3896" h="1365">
                <a:moveTo>
                  <a:pt x="20960" y="12898"/>
                </a:moveTo>
                <a:cubicBezTo>
                  <a:pt x="21018" y="12898"/>
                  <a:pt x="21026" y="12898"/>
                  <a:pt x="21059" y="12898"/>
                </a:cubicBezTo>
              </a:path>
              <a:path w="3896" h="1365">
                <a:moveTo>
                  <a:pt x="20886" y="12973"/>
                </a:moveTo>
                <a:cubicBezTo>
                  <a:pt x="20961" y="13018"/>
                  <a:pt x="20999" y="13036"/>
                  <a:pt x="21084" y="13047"/>
                </a:cubicBezTo>
              </a:path>
              <a:path w="3896" h="1365">
                <a:moveTo>
                  <a:pt x="21382" y="12601"/>
                </a:moveTo>
                <a:cubicBezTo>
                  <a:pt x="21382" y="12674"/>
                  <a:pt x="21404" y="12729"/>
                  <a:pt x="21406" y="12799"/>
                </a:cubicBezTo>
                <a:cubicBezTo>
                  <a:pt x="21409" y="12889"/>
                  <a:pt x="21426" y="12944"/>
                  <a:pt x="21431" y="13022"/>
                </a:cubicBezTo>
                <a:cubicBezTo>
                  <a:pt x="21434" y="13077"/>
                  <a:pt x="21456" y="13093"/>
                  <a:pt x="21456" y="13146"/>
                </a:cubicBezTo>
                <a:cubicBezTo>
                  <a:pt x="21456" y="13171"/>
                  <a:pt x="21456" y="13179"/>
                  <a:pt x="21481" y="13171"/>
                </a:cubicBezTo>
              </a:path>
              <a:path w="3896" h="1365">
                <a:moveTo>
                  <a:pt x="21630" y="12725"/>
                </a:moveTo>
                <a:cubicBezTo>
                  <a:pt x="21677" y="12669"/>
                  <a:pt x="21667" y="12650"/>
                  <a:pt x="21729" y="12650"/>
                </a:cubicBezTo>
                <a:cubicBezTo>
                  <a:pt x="21809" y="12650"/>
                  <a:pt x="21794" y="12674"/>
                  <a:pt x="21828" y="12750"/>
                </a:cubicBezTo>
                <a:cubicBezTo>
                  <a:pt x="21870" y="12842"/>
                  <a:pt x="21848" y="12907"/>
                  <a:pt x="21828" y="12998"/>
                </a:cubicBezTo>
                <a:cubicBezTo>
                  <a:pt x="21820" y="13036"/>
                  <a:pt x="21799" y="13092"/>
                  <a:pt x="21779" y="13122"/>
                </a:cubicBezTo>
                <a:cubicBezTo>
                  <a:pt x="21758" y="13154"/>
                  <a:pt x="21699" y="13162"/>
                  <a:pt x="21679" y="13122"/>
                </a:cubicBezTo>
                <a:cubicBezTo>
                  <a:pt x="21664" y="13092"/>
                  <a:pt x="21667" y="13103"/>
                  <a:pt x="21679" y="13072"/>
                </a:cubicBezTo>
                <a:cubicBezTo>
                  <a:pt x="21687" y="13051"/>
                  <a:pt x="21717" y="13027"/>
                  <a:pt x="21754" y="13047"/>
                </a:cubicBezTo>
                <a:cubicBezTo>
                  <a:pt x="21790" y="13067"/>
                  <a:pt x="21840" y="13135"/>
                  <a:pt x="21878" y="13146"/>
                </a:cubicBezTo>
                <a:cubicBezTo>
                  <a:pt x="21924" y="13159"/>
                  <a:pt x="21963" y="13170"/>
                  <a:pt x="22002" y="13196"/>
                </a:cubicBezTo>
                <a:cubicBezTo>
                  <a:pt x="22025" y="13219"/>
                  <a:pt x="22033" y="13230"/>
                  <a:pt x="22027" y="13196"/>
                </a:cubicBezTo>
              </a:path>
              <a:path w="3896" h="1365">
                <a:moveTo>
                  <a:pt x="19000" y="12948"/>
                </a:moveTo>
                <a:cubicBezTo>
                  <a:pt x="19057" y="12903"/>
                  <a:pt x="19107" y="12897"/>
                  <a:pt x="19174" y="12874"/>
                </a:cubicBezTo>
                <a:cubicBezTo>
                  <a:pt x="19272" y="12840"/>
                  <a:pt x="19347" y="12779"/>
                  <a:pt x="19447" y="12750"/>
                </a:cubicBezTo>
                <a:cubicBezTo>
                  <a:pt x="19570" y="12714"/>
                  <a:pt x="19694" y="12681"/>
                  <a:pt x="19819" y="12650"/>
                </a:cubicBezTo>
                <a:cubicBezTo>
                  <a:pt x="19958" y="12616"/>
                  <a:pt x="20108" y="12588"/>
                  <a:pt x="20241" y="12551"/>
                </a:cubicBezTo>
                <a:cubicBezTo>
                  <a:pt x="20290" y="12537"/>
                  <a:pt x="20314" y="12531"/>
                  <a:pt x="20365" y="12526"/>
                </a:cubicBezTo>
                <a:cubicBezTo>
                  <a:pt x="20326" y="12514"/>
                  <a:pt x="20346" y="12490"/>
                  <a:pt x="20265" y="12526"/>
                </a:cubicBezTo>
                <a:cubicBezTo>
                  <a:pt x="20249" y="12534"/>
                  <a:pt x="20232" y="12543"/>
                  <a:pt x="20216" y="12551"/>
                </a:cubicBezTo>
              </a:path>
              <a:path w="3896" h="1365">
                <a:moveTo>
                  <a:pt x="18926" y="13742"/>
                </a:moveTo>
                <a:cubicBezTo>
                  <a:pt x="19012" y="13718"/>
                  <a:pt x="19087" y="13692"/>
                  <a:pt x="19174" y="13667"/>
                </a:cubicBezTo>
                <a:cubicBezTo>
                  <a:pt x="19314" y="13627"/>
                  <a:pt x="19456" y="13603"/>
                  <a:pt x="19596" y="13568"/>
                </a:cubicBezTo>
                <a:cubicBezTo>
                  <a:pt x="19712" y="13539"/>
                  <a:pt x="19825" y="13498"/>
                  <a:pt x="19943" y="13494"/>
                </a:cubicBezTo>
                <a:cubicBezTo>
                  <a:pt x="20042" y="13490"/>
                  <a:pt x="20142" y="13494"/>
                  <a:pt x="20241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47800" y="5749920"/>
            <a:ext cx="2733480" cy="438120"/>
          </a:xfrm>
          <a:custGeom>
            <a:avLst/>
            <a:gdLst/>
            <a:ahLst/>
            <a:rect l="l" t="t" r="r" b="b"/>
            <a:pathLst>
              <a:path w="7592" h="1217">
                <a:moveTo>
                  <a:pt x="2356" y="16421"/>
                </a:moveTo>
                <a:cubicBezTo>
                  <a:pt x="2394" y="16469"/>
                  <a:pt x="2382" y="16501"/>
                  <a:pt x="2431" y="16545"/>
                </a:cubicBezTo>
                <a:cubicBezTo>
                  <a:pt x="2499" y="16606"/>
                  <a:pt x="2542" y="16634"/>
                  <a:pt x="2629" y="16669"/>
                </a:cubicBezTo>
                <a:cubicBezTo>
                  <a:pt x="2722" y="16707"/>
                  <a:pt x="2784" y="16724"/>
                  <a:pt x="2877" y="16743"/>
                </a:cubicBezTo>
                <a:cubicBezTo>
                  <a:pt x="2952" y="16758"/>
                  <a:pt x="3020" y="16774"/>
                  <a:pt x="3101" y="16768"/>
                </a:cubicBezTo>
                <a:cubicBezTo>
                  <a:pt x="3172" y="16762"/>
                  <a:pt x="3230" y="16755"/>
                  <a:pt x="3299" y="16743"/>
                </a:cubicBezTo>
                <a:cubicBezTo>
                  <a:pt x="3360" y="16733"/>
                  <a:pt x="3407" y="16728"/>
                  <a:pt x="3473" y="16718"/>
                </a:cubicBezTo>
                <a:cubicBezTo>
                  <a:pt x="3548" y="16706"/>
                  <a:pt x="3614" y="16696"/>
                  <a:pt x="3696" y="16694"/>
                </a:cubicBezTo>
                <a:cubicBezTo>
                  <a:pt x="3802" y="16692"/>
                  <a:pt x="3892" y="16701"/>
                  <a:pt x="3994" y="16718"/>
                </a:cubicBezTo>
                <a:cubicBezTo>
                  <a:pt x="4095" y="16734"/>
                  <a:pt x="4191" y="16765"/>
                  <a:pt x="4291" y="16793"/>
                </a:cubicBezTo>
                <a:cubicBezTo>
                  <a:pt x="4446" y="16836"/>
                  <a:pt x="4549" y="16893"/>
                  <a:pt x="4688" y="16966"/>
                </a:cubicBezTo>
                <a:cubicBezTo>
                  <a:pt x="4785" y="17017"/>
                  <a:pt x="4897" y="17074"/>
                  <a:pt x="4986" y="17140"/>
                </a:cubicBezTo>
                <a:cubicBezTo>
                  <a:pt x="5011" y="17165"/>
                  <a:pt x="5019" y="17173"/>
                  <a:pt x="5035" y="17190"/>
                </a:cubicBezTo>
                <a:cubicBezTo>
                  <a:pt x="5065" y="17155"/>
                  <a:pt x="5080" y="17118"/>
                  <a:pt x="5110" y="17090"/>
                </a:cubicBezTo>
                <a:cubicBezTo>
                  <a:pt x="5144" y="17058"/>
                  <a:pt x="5177" y="17037"/>
                  <a:pt x="5209" y="17016"/>
                </a:cubicBezTo>
                <a:cubicBezTo>
                  <a:pt x="5265" y="16979"/>
                  <a:pt x="5288" y="16962"/>
                  <a:pt x="5358" y="16942"/>
                </a:cubicBezTo>
                <a:cubicBezTo>
                  <a:pt x="5422" y="16924"/>
                  <a:pt x="5487" y="16916"/>
                  <a:pt x="5556" y="16917"/>
                </a:cubicBezTo>
                <a:cubicBezTo>
                  <a:pt x="5660" y="16919"/>
                  <a:pt x="5753" y="16953"/>
                  <a:pt x="5854" y="16966"/>
                </a:cubicBezTo>
                <a:cubicBezTo>
                  <a:pt x="6019" y="16987"/>
                  <a:pt x="6185" y="17014"/>
                  <a:pt x="6350" y="17041"/>
                </a:cubicBezTo>
                <a:cubicBezTo>
                  <a:pt x="6486" y="17063"/>
                  <a:pt x="6609" y="17055"/>
                  <a:pt x="6747" y="17066"/>
                </a:cubicBezTo>
                <a:cubicBezTo>
                  <a:pt x="6894" y="17077"/>
                  <a:pt x="7020" y="17070"/>
                  <a:pt x="7169" y="17066"/>
                </a:cubicBezTo>
                <a:cubicBezTo>
                  <a:pt x="7320" y="17062"/>
                  <a:pt x="7465" y="17049"/>
                  <a:pt x="7615" y="17041"/>
                </a:cubicBezTo>
                <a:cubicBezTo>
                  <a:pt x="7773" y="17033"/>
                  <a:pt x="7929" y="17032"/>
                  <a:pt x="8086" y="17016"/>
                </a:cubicBezTo>
                <a:cubicBezTo>
                  <a:pt x="8229" y="17002"/>
                  <a:pt x="8367" y="16978"/>
                  <a:pt x="8508" y="16942"/>
                </a:cubicBezTo>
                <a:cubicBezTo>
                  <a:pt x="8632" y="16910"/>
                  <a:pt x="8709" y="16874"/>
                  <a:pt x="8806" y="16793"/>
                </a:cubicBezTo>
                <a:cubicBezTo>
                  <a:pt x="8890" y="16724"/>
                  <a:pt x="8975" y="16644"/>
                  <a:pt x="9029" y="16545"/>
                </a:cubicBezTo>
                <a:cubicBezTo>
                  <a:pt x="9086" y="16440"/>
                  <a:pt x="9105" y="16299"/>
                  <a:pt x="9153" y="16197"/>
                </a:cubicBezTo>
                <a:cubicBezTo>
                  <a:pt x="9164" y="16173"/>
                  <a:pt x="9201" y="16128"/>
                  <a:pt x="9203" y="16123"/>
                </a:cubicBezTo>
                <a:cubicBezTo>
                  <a:pt x="9204" y="16126"/>
                  <a:pt x="9225" y="16162"/>
                  <a:pt x="9227" y="16197"/>
                </a:cubicBezTo>
                <a:cubicBezTo>
                  <a:pt x="9227" y="16222"/>
                  <a:pt x="9227" y="16230"/>
                  <a:pt x="9227" y="16247"/>
                </a:cubicBezTo>
              </a:path>
              <a:path w="7592" h="1217">
                <a:moveTo>
                  <a:pt x="9922" y="15974"/>
                </a:moveTo>
                <a:cubicBezTo>
                  <a:pt x="9964" y="15974"/>
                  <a:pt x="9947" y="16014"/>
                  <a:pt x="9947" y="16049"/>
                </a:cubicBezTo>
              </a:path>
              <a:path w="7592" h="1217">
                <a:moveTo>
                  <a:pt x="9922" y="15974"/>
                </a:moveTo>
                <a:cubicBezTo>
                  <a:pt x="9922" y="16007"/>
                  <a:pt x="9922" y="16040"/>
                  <a:pt x="9922" y="16073"/>
                </a:cubicBezTo>
              </a:path>
              <a:path w="7592" h="1217">
                <a:moveTo>
                  <a:pt x="9922" y="16073"/>
                </a:moveTo>
                <a:lnTo>
                  <a:pt x="9922" y="16073"/>
                </a:lnTo>
              </a:path>
              <a:path w="7592" h="1217">
                <a:moveTo>
                  <a:pt x="9922" y="16073"/>
                </a:moveTo>
                <a:cubicBezTo>
                  <a:pt x="9905" y="16057"/>
                  <a:pt x="9889" y="16040"/>
                  <a:pt x="9872" y="16024"/>
                </a:cubicBezTo>
              </a:path>
              <a:path w="7592" h="1217">
                <a:moveTo>
                  <a:pt x="9872" y="16024"/>
                </a:moveTo>
                <a:cubicBezTo>
                  <a:pt x="9864" y="16024"/>
                  <a:pt x="9855" y="16024"/>
                  <a:pt x="9847" y="16024"/>
                </a:cubicBezTo>
              </a:path>
              <a:path w="7592" h="1217">
                <a:moveTo>
                  <a:pt x="9872" y="16024"/>
                </a:moveTo>
                <a:cubicBezTo>
                  <a:pt x="9856" y="16032"/>
                  <a:pt x="9839" y="16041"/>
                  <a:pt x="9823" y="16049"/>
                </a:cubicBezTo>
              </a:path>
              <a:path w="7592" h="1217">
                <a:moveTo>
                  <a:pt x="9823" y="16049"/>
                </a:moveTo>
                <a:cubicBezTo>
                  <a:pt x="9815" y="16049"/>
                  <a:pt x="9806" y="16049"/>
                  <a:pt x="9798" y="160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688000"/>
            <a:ext cx="206280" cy="223920"/>
          </a:xfrm>
          <a:custGeom>
            <a:avLst/>
            <a:gdLst/>
            <a:ahLst/>
            <a:rect l="l" t="t" r="r" b="b"/>
            <a:pathLst>
              <a:path w="572" h="621">
                <a:moveTo>
                  <a:pt x="9947" y="15801"/>
                </a:moveTo>
                <a:cubicBezTo>
                  <a:pt x="9947" y="15976"/>
                  <a:pt x="9936" y="16154"/>
                  <a:pt x="9971" y="16321"/>
                </a:cubicBezTo>
                <a:cubicBezTo>
                  <a:pt x="9973" y="16332"/>
                  <a:pt x="9959" y="16433"/>
                  <a:pt x="9996" y="16421"/>
                </a:cubicBezTo>
                <a:cubicBezTo>
                  <a:pt x="9996" y="16413"/>
                  <a:pt x="9996" y="16404"/>
                  <a:pt x="9996" y="16396"/>
                </a:cubicBezTo>
              </a:path>
              <a:path w="572" h="621">
                <a:moveTo>
                  <a:pt x="10096" y="15900"/>
                </a:moveTo>
                <a:cubicBezTo>
                  <a:pt x="10036" y="15900"/>
                  <a:pt x="10045" y="15928"/>
                  <a:pt x="9996" y="15949"/>
                </a:cubicBezTo>
                <a:cubicBezTo>
                  <a:pt x="9942" y="15972"/>
                  <a:pt x="9875" y="15988"/>
                  <a:pt x="9823" y="16024"/>
                </a:cubicBezTo>
                <a:cubicBezTo>
                  <a:pt x="9776" y="16057"/>
                  <a:pt x="9712" y="16073"/>
                  <a:pt x="9674" y="16098"/>
                </a:cubicBezTo>
                <a:cubicBezTo>
                  <a:pt x="9665" y="16104"/>
                  <a:pt x="9556" y="16184"/>
                  <a:pt x="9550" y="16197"/>
                </a:cubicBezTo>
                <a:cubicBezTo>
                  <a:pt x="9534" y="16229"/>
                  <a:pt x="9525" y="16257"/>
                  <a:pt x="9525" y="16297"/>
                </a:cubicBezTo>
                <a:cubicBezTo>
                  <a:pt x="9560" y="16285"/>
                  <a:pt x="9550" y="16290"/>
                  <a:pt x="9550" y="16247"/>
                </a:cubicBezTo>
              </a:path>
              <a:path w="572" h="621">
                <a:moveTo>
                  <a:pt x="9847" y="16073"/>
                </a:moveTo>
                <a:cubicBezTo>
                  <a:pt x="9826" y="16137"/>
                  <a:pt x="9825" y="16069"/>
                  <a:pt x="9872" y="16049"/>
                </a:cubicBezTo>
                <a:cubicBezTo>
                  <a:pt x="9905" y="16035"/>
                  <a:pt x="9917" y="16029"/>
                  <a:pt x="9947" y="15999"/>
                </a:cubicBezTo>
                <a:cubicBezTo>
                  <a:pt x="9908" y="15999"/>
                  <a:pt x="9844" y="15981"/>
                  <a:pt x="9823" y="16024"/>
                </a:cubicBezTo>
                <a:cubicBezTo>
                  <a:pt x="9776" y="16118"/>
                  <a:pt x="9776" y="16110"/>
                  <a:pt x="9798" y="16197"/>
                </a:cubicBezTo>
                <a:cubicBezTo>
                  <a:pt x="9804" y="16222"/>
                  <a:pt x="9836" y="16267"/>
                  <a:pt x="9847" y="16272"/>
                </a:cubicBezTo>
                <a:cubicBezTo>
                  <a:pt x="9882" y="16290"/>
                  <a:pt x="9923" y="16265"/>
                  <a:pt x="9947" y="16247"/>
                </a:cubicBezTo>
                <a:cubicBezTo>
                  <a:pt x="9908" y="16170"/>
                  <a:pt x="9837" y="16133"/>
                  <a:pt x="9773" y="16073"/>
                </a:cubicBezTo>
                <a:cubicBezTo>
                  <a:pt x="9721" y="16022"/>
                  <a:pt x="9702" y="16005"/>
                  <a:pt x="9649" y="159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13120" y="6634080"/>
            <a:ext cx="465120" cy="216000"/>
          </a:xfrm>
          <a:custGeom>
            <a:avLst/>
            <a:gdLst/>
            <a:ahLst/>
            <a:rect l="l" t="t" r="r" b="b"/>
            <a:pathLst>
              <a:path w="1290" h="596">
                <a:moveTo>
                  <a:pt x="10765" y="18504"/>
                </a:moveTo>
                <a:cubicBezTo>
                  <a:pt x="10822" y="18504"/>
                  <a:pt x="10843" y="18514"/>
                  <a:pt x="10889" y="18529"/>
                </a:cubicBezTo>
                <a:cubicBezTo>
                  <a:pt x="10915" y="18538"/>
                  <a:pt x="10957" y="18555"/>
                  <a:pt x="10939" y="18604"/>
                </a:cubicBezTo>
                <a:cubicBezTo>
                  <a:pt x="10912" y="18677"/>
                  <a:pt x="10853" y="18771"/>
                  <a:pt x="10790" y="18827"/>
                </a:cubicBezTo>
                <a:cubicBezTo>
                  <a:pt x="10750" y="18863"/>
                  <a:pt x="10692" y="18876"/>
                  <a:pt x="10641" y="18876"/>
                </a:cubicBezTo>
                <a:cubicBezTo>
                  <a:pt x="10589" y="18876"/>
                  <a:pt x="10592" y="18844"/>
                  <a:pt x="10592" y="18802"/>
                </a:cubicBezTo>
                <a:cubicBezTo>
                  <a:pt x="10592" y="18771"/>
                  <a:pt x="10599" y="18736"/>
                  <a:pt x="10616" y="18728"/>
                </a:cubicBezTo>
                <a:cubicBezTo>
                  <a:pt x="10649" y="18712"/>
                  <a:pt x="10694" y="18732"/>
                  <a:pt x="10716" y="18752"/>
                </a:cubicBezTo>
                <a:cubicBezTo>
                  <a:pt x="10801" y="18831"/>
                  <a:pt x="10826" y="18860"/>
                  <a:pt x="10939" y="18901"/>
                </a:cubicBezTo>
              </a:path>
              <a:path w="1290" h="596">
                <a:moveTo>
                  <a:pt x="11261" y="18529"/>
                </a:moveTo>
                <a:cubicBezTo>
                  <a:pt x="11313" y="18529"/>
                  <a:pt x="11396" y="18547"/>
                  <a:pt x="11410" y="18504"/>
                </a:cubicBezTo>
              </a:path>
              <a:path w="1290" h="596">
                <a:moveTo>
                  <a:pt x="11286" y="18430"/>
                </a:moveTo>
                <a:cubicBezTo>
                  <a:pt x="11209" y="18453"/>
                  <a:pt x="11187" y="18436"/>
                  <a:pt x="11187" y="18504"/>
                </a:cubicBezTo>
                <a:cubicBezTo>
                  <a:pt x="11187" y="18571"/>
                  <a:pt x="11202" y="18616"/>
                  <a:pt x="11212" y="18678"/>
                </a:cubicBezTo>
                <a:cubicBezTo>
                  <a:pt x="11223" y="18745"/>
                  <a:pt x="11256" y="18788"/>
                  <a:pt x="11261" y="18852"/>
                </a:cubicBezTo>
                <a:cubicBezTo>
                  <a:pt x="11265" y="18899"/>
                  <a:pt x="11252" y="18948"/>
                  <a:pt x="11187" y="18926"/>
                </a:cubicBezTo>
                <a:cubicBezTo>
                  <a:pt x="11166" y="18919"/>
                  <a:pt x="11138" y="18862"/>
                  <a:pt x="11137" y="18852"/>
                </a:cubicBezTo>
                <a:cubicBezTo>
                  <a:pt x="11137" y="18844"/>
                  <a:pt x="11137" y="18835"/>
                  <a:pt x="11137" y="18827"/>
                </a:cubicBezTo>
              </a:path>
              <a:path w="1290" h="596">
                <a:moveTo>
                  <a:pt x="11385" y="18827"/>
                </a:moveTo>
                <a:cubicBezTo>
                  <a:pt x="11413" y="18827"/>
                  <a:pt x="11424" y="18825"/>
                  <a:pt x="11435" y="18802"/>
                </a:cubicBezTo>
              </a:path>
              <a:path w="1290" h="596">
                <a:moveTo>
                  <a:pt x="11609" y="18430"/>
                </a:moveTo>
                <a:cubicBezTo>
                  <a:pt x="11651" y="18430"/>
                  <a:pt x="11706" y="18415"/>
                  <a:pt x="11733" y="18455"/>
                </a:cubicBezTo>
                <a:cubicBezTo>
                  <a:pt x="11763" y="18499"/>
                  <a:pt x="11802" y="18551"/>
                  <a:pt x="11807" y="18604"/>
                </a:cubicBezTo>
                <a:cubicBezTo>
                  <a:pt x="11813" y="18662"/>
                  <a:pt x="11791" y="18700"/>
                  <a:pt x="11782" y="18752"/>
                </a:cubicBezTo>
                <a:cubicBezTo>
                  <a:pt x="11770" y="18826"/>
                  <a:pt x="11761" y="18903"/>
                  <a:pt x="11733" y="18976"/>
                </a:cubicBezTo>
                <a:cubicBezTo>
                  <a:pt x="11689" y="19062"/>
                  <a:pt x="11721" y="19067"/>
                  <a:pt x="11881" y="189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97840" y="5670720"/>
            <a:ext cx="276120" cy="768240"/>
          </a:xfrm>
          <a:custGeom>
            <a:avLst/>
            <a:gdLst/>
            <a:ahLst/>
            <a:rect l="l" t="t" r="r" b="b"/>
            <a:pathLst>
              <a:path w="770" h="2134">
                <a:moveTo>
                  <a:pt x="20042" y="15925"/>
                </a:moveTo>
                <a:cubicBezTo>
                  <a:pt x="20098" y="15869"/>
                  <a:pt x="20095" y="15844"/>
                  <a:pt x="20141" y="15850"/>
                </a:cubicBezTo>
                <a:cubicBezTo>
                  <a:pt x="20176" y="15885"/>
                  <a:pt x="20229" y="15923"/>
                  <a:pt x="20241" y="15974"/>
                </a:cubicBezTo>
                <a:cubicBezTo>
                  <a:pt x="20260" y="16054"/>
                  <a:pt x="20240" y="16149"/>
                  <a:pt x="20216" y="16222"/>
                </a:cubicBezTo>
                <a:cubicBezTo>
                  <a:pt x="20194" y="16288"/>
                  <a:pt x="20164" y="16343"/>
                  <a:pt x="20117" y="16396"/>
                </a:cubicBezTo>
                <a:cubicBezTo>
                  <a:pt x="20087" y="16430"/>
                  <a:pt x="20060" y="16421"/>
                  <a:pt x="20017" y="16421"/>
                </a:cubicBezTo>
                <a:cubicBezTo>
                  <a:pt x="20017" y="16383"/>
                  <a:pt x="20016" y="16353"/>
                  <a:pt x="20067" y="16371"/>
                </a:cubicBezTo>
                <a:cubicBezTo>
                  <a:pt x="20130" y="16393"/>
                  <a:pt x="20140" y="16459"/>
                  <a:pt x="20191" y="16470"/>
                </a:cubicBezTo>
                <a:cubicBezTo>
                  <a:pt x="20216" y="16470"/>
                  <a:pt x="20224" y="16470"/>
                  <a:pt x="20241" y="16470"/>
                </a:cubicBezTo>
              </a:path>
              <a:path w="770" h="2134">
                <a:moveTo>
                  <a:pt x="20638" y="15751"/>
                </a:moveTo>
                <a:cubicBezTo>
                  <a:pt x="20596" y="15864"/>
                  <a:pt x="20545" y="15968"/>
                  <a:pt x="20489" y="16073"/>
                </a:cubicBezTo>
                <a:cubicBezTo>
                  <a:pt x="20420" y="16203"/>
                  <a:pt x="20371" y="16335"/>
                  <a:pt x="20315" y="16470"/>
                </a:cubicBezTo>
                <a:cubicBezTo>
                  <a:pt x="20243" y="16642"/>
                  <a:pt x="20183" y="16819"/>
                  <a:pt x="20117" y="16991"/>
                </a:cubicBezTo>
                <a:cubicBezTo>
                  <a:pt x="20077" y="17096"/>
                  <a:pt x="20049" y="17228"/>
                  <a:pt x="19993" y="17314"/>
                </a:cubicBezTo>
                <a:cubicBezTo>
                  <a:pt x="19993" y="17306"/>
                  <a:pt x="19993" y="17297"/>
                  <a:pt x="19993" y="17289"/>
                </a:cubicBezTo>
              </a:path>
              <a:path w="770" h="2134">
                <a:moveTo>
                  <a:pt x="20365" y="16743"/>
                </a:moveTo>
                <a:cubicBezTo>
                  <a:pt x="20443" y="16805"/>
                  <a:pt x="20495" y="16872"/>
                  <a:pt x="20538" y="16966"/>
                </a:cubicBezTo>
                <a:cubicBezTo>
                  <a:pt x="20574" y="17045"/>
                  <a:pt x="20587" y="17136"/>
                  <a:pt x="20613" y="17214"/>
                </a:cubicBezTo>
                <a:cubicBezTo>
                  <a:pt x="20633" y="17254"/>
                  <a:pt x="20631" y="17271"/>
                  <a:pt x="20662" y="17264"/>
                </a:cubicBezTo>
              </a:path>
              <a:path w="770" h="2134">
                <a:moveTo>
                  <a:pt x="20762" y="16718"/>
                </a:moveTo>
                <a:cubicBezTo>
                  <a:pt x="20730" y="16813"/>
                  <a:pt x="20713" y="16915"/>
                  <a:pt x="20687" y="17016"/>
                </a:cubicBezTo>
                <a:cubicBezTo>
                  <a:pt x="20644" y="17182"/>
                  <a:pt x="20595" y="17344"/>
                  <a:pt x="20563" y="17512"/>
                </a:cubicBezTo>
                <a:cubicBezTo>
                  <a:pt x="20532" y="17673"/>
                  <a:pt x="20519" y="17747"/>
                  <a:pt x="20439" y="178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43880" y="6180120"/>
            <a:ext cx="884160" cy="480960"/>
          </a:xfrm>
          <a:custGeom>
            <a:avLst/>
            <a:gdLst/>
            <a:ahLst/>
            <a:rect l="l" t="t" r="r" b="b"/>
            <a:pathLst>
              <a:path w="2456" h="1340">
                <a:moveTo>
                  <a:pt x="21233" y="17413"/>
                </a:moveTo>
                <a:cubicBezTo>
                  <a:pt x="21262" y="17452"/>
                  <a:pt x="21282" y="17490"/>
                  <a:pt x="21307" y="17537"/>
                </a:cubicBezTo>
                <a:cubicBezTo>
                  <a:pt x="21344" y="17606"/>
                  <a:pt x="21381" y="17676"/>
                  <a:pt x="21431" y="17735"/>
                </a:cubicBezTo>
                <a:cubicBezTo>
                  <a:pt x="21484" y="17799"/>
                  <a:pt x="21560" y="17894"/>
                  <a:pt x="21605" y="17934"/>
                </a:cubicBezTo>
                <a:cubicBezTo>
                  <a:pt x="21640" y="17965"/>
                  <a:pt x="21642" y="17973"/>
                  <a:pt x="21654" y="17934"/>
                </a:cubicBezTo>
              </a:path>
              <a:path w="2456" h="1340">
                <a:moveTo>
                  <a:pt x="21704" y="17413"/>
                </a:moveTo>
                <a:cubicBezTo>
                  <a:pt x="21685" y="17489"/>
                  <a:pt x="21634" y="17582"/>
                  <a:pt x="21605" y="17661"/>
                </a:cubicBezTo>
                <a:cubicBezTo>
                  <a:pt x="21569" y="17761"/>
                  <a:pt x="21537" y="17858"/>
                  <a:pt x="21506" y="17959"/>
                </a:cubicBezTo>
                <a:cubicBezTo>
                  <a:pt x="21473" y="18067"/>
                  <a:pt x="21455" y="18174"/>
                  <a:pt x="21431" y="18281"/>
                </a:cubicBezTo>
                <a:cubicBezTo>
                  <a:pt x="21416" y="18347"/>
                  <a:pt x="21388" y="18413"/>
                  <a:pt x="21382" y="18479"/>
                </a:cubicBezTo>
                <a:cubicBezTo>
                  <a:pt x="21382" y="18487"/>
                  <a:pt x="21382" y="18496"/>
                  <a:pt x="21382" y="18504"/>
                </a:cubicBezTo>
              </a:path>
              <a:path w="2456" h="1340">
                <a:moveTo>
                  <a:pt x="21853" y="17363"/>
                </a:moveTo>
                <a:cubicBezTo>
                  <a:pt x="21915" y="17387"/>
                  <a:pt x="21964" y="17408"/>
                  <a:pt x="22027" y="17413"/>
                </a:cubicBezTo>
                <a:cubicBezTo>
                  <a:pt x="22051" y="17413"/>
                  <a:pt x="22060" y="17413"/>
                  <a:pt x="22076" y="17413"/>
                </a:cubicBezTo>
              </a:path>
              <a:path w="2456" h="1340">
                <a:moveTo>
                  <a:pt x="21853" y="17587"/>
                </a:moveTo>
                <a:cubicBezTo>
                  <a:pt x="21886" y="17633"/>
                  <a:pt x="21930" y="17691"/>
                  <a:pt x="22002" y="17661"/>
                </a:cubicBezTo>
                <a:cubicBezTo>
                  <a:pt x="22032" y="17631"/>
                  <a:pt x="22046" y="17620"/>
                  <a:pt x="22076" y="17611"/>
                </a:cubicBezTo>
              </a:path>
              <a:path w="2456" h="1340">
                <a:moveTo>
                  <a:pt x="22299" y="17190"/>
                </a:moveTo>
                <a:cubicBezTo>
                  <a:pt x="22366" y="17170"/>
                  <a:pt x="22441" y="17143"/>
                  <a:pt x="22473" y="17239"/>
                </a:cubicBezTo>
                <a:cubicBezTo>
                  <a:pt x="22500" y="17319"/>
                  <a:pt x="22483" y="17362"/>
                  <a:pt x="22473" y="17438"/>
                </a:cubicBezTo>
                <a:cubicBezTo>
                  <a:pt x="22461" y="17527"/>
                  <a:pt x="22453" y="17588"/>
                  <a:pt x="22399" y="17661"/>
                </a:cubicBezTo>
                <a:cubicBezTo>
                  <a:pt x="22374" y="17695"/>
                  <a:pt x="22339" y="17731"/>
                  <a:pt x="22299" y="17735"/>
                </a:cubicBezTo>
                <a:cubicBezTo>
                  <a:pt x="22291" y="17735"/>
                  <a:pt x="22283" y="17735"/>
                  <a:pt x="22275" y="17735"/>
                </a:cubicBezTo>
                <a:cubicBezTo>
                  <a:pt x="22275" y="17682"/>
                  <a:pt x="22269" y="17653"/>
                  <a:pt x="22299" y="17611"/>
                </a:cubicBezTo>
                <a:cubicBezTo>
                  <a:pt x="22324" y="17619"/>
                  <a:pt x="22365" y="17643"/>
                  <a:pt x="22399" y="17661"/>
                </a:cubicBezTo>
                <a:cubicBezTo>
                  <a:pt x="22507" y="17716"/>
                  <a:pt x="22457" y="17788"/>
                  <a:pt x="22597" y="17760"/>
                </a:cubicBezTo>
              </a:path>
              <a:path w="2456" h="1340">
                <a:moveTo>
                  <a:pt x="22721" y="17214"/>
                </a:moveTo>
                <a:cubicBezTo>
                  <a:pt x="22855" y="17163"/>
                  <a:pt x="22802" y="17190"/>
                  <a:pt x="22920" y="17190"/>
                </a:cubicBezTo>
              </a:path>
              <a:path w="2456" h="1340">
                <a:moveTo>
                  <a:pt x="22696" y="17165"/>
                </a:moveTo>
                <a:cubicBezTo>
                  <a:pt x="22672" y="17244"/>
                  <a:pt x="22647" y="17286"/>
                  <a:pt x="22647" y="17363"/>
                </a:cubicBezTo>
                <a:cubicBezTo>
                  <a:pt x="22647" y="17399"/>
                  <a:pt x="22653" y="17436"/>
                  <a:pt x="22671" y="17462"/>
                </a:cubicBezTo>
                <a:cubicBezTo>
                  <a:pt x="22710" y="17520"/>
                  <a:pt x="22697" y="17485"/>
                  <a:pt x="22746" y="17512"/>
                </a:cubicBezTo>
                <a:cubicBezTo>
                  <a:pt x="22776" y="17529"/>
                  <a:pt x="22819" y="17545"/>
                  <a:pt x="22845" y="17562"/>
                </a:cubicBezTo>
                <a:cubicBezTo>
                  <a:pt x="22879" y="17585"/>
                  <a:pt x="22919" y="17597"/>
                  <a:pt x="22944" y="17636"/>
                </a:cubicBezTo>
                <a:cubicBezTo>
                  <a:pt x="22987" y="17704"/>
                  <a:pt x="22962" y="17770"/>
                  <a:pt x="22920" y="17835"/>
                </a:cubicBezTo>
                <a:cubicBezTo>
                  <a:pt x="22905" y="17858"/>
                  <a:pt x="22847" y="17874"/>
                  <a:pt x="22820" y="17859"/>
                </a:cubicBezTo>
                <a:cubicBezTo>
                  <a:pt x="22806" y="17851"/>
                  <a:pt x="22725" y="17816"/>
                  <a:pt x="22721" y="17810"/>
                </a:cubicBezTo>
                <a:cubicBezTo>
                  <a:pt x="22721" y="17785"/>
                  <a:pt x="22721" y="17777"/>
                  <a:pt x="22696" y="17785"/>
                </a:cubicBezTo>
              </a:path>
              <a:path w="2456" h="1340">
                <a:moveTo>
                  <a:pt x="23093" y="17810"/>
                </a:moveTo>
                <a:cubicBezTo>
                  <a:pt x="23121" y="17773"/>
                  <a:pt x="23143" y="17728"/>
                  <a:pt x="23168" y="17686"/>
                </a:cubicBezTo>
                <a:cubicBezTo>
                  <a:pt x="23176" y="17669"/>
                  <a:pt x="23184" y="17653"/>
                  <a:pt x="23192" y="17636"/>
                </a:cubicBezTo>
              </a:path>
              <a:path w="2456" h="1340">
                <a:moveTo>
                  <a:pt x="23341" y="17190"/>
                </a:moveTo>
                <a:cubicBezTo>
                  <a:pt x="23452" y="17190"/>
                  <a:pt x="23455" y="17187"/>
                  <a:pt x="23540" y="17239"/>
                </a:cubicBezTo>
                <a:cubicBezTo>
                  <a:pt x="23579" y="17263"/>
                  <a:pt x="23631" y="17267"/>
                  <a:pt x="23664" y="17289"/>
                </a:cubicBezTo>
                <a:cubicBezTo>
                  <a:pt x="23720" y="17327"/>
                  <a:pt x="23670" y="17367"/>
                  <a:pt x="23664" y="17413"/>
                </a:cubicBezTo>
                <a:cubicBezTo>
                  <a:pt x="23649" y="17529"/>
                  <a:pt x="23632" y="17645"/>
                  <a:pt x="23614" y="17760"/>
                </a:cubicBezTo>
                <a:cubicBezTo>
                  <a:pt x="23591" y="17852"/>
                  <a:pt x="23585" y="17877"/>
                  <a:pt x="23564" y="179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040" y="4732200"/>
            <a:ext cx="223920" cy="277920"/>
          </a:xfrm>
          <a:custGeom>
            <a:avLst/>
            <a:gdLst/>
            <a:ahLst/>
            <a:rect l="l" t="t" r="r" b="b"/>
            <a:pathLst>
              <a:path w="621" h="770">
                <a:moveTo>
                  <a:pt x="1240" y="13146"/>
                </a:moveTo>
                <a:cubicBezTo>
                  <a:pt x="1211" y="13184"/>
                  <a:pt x="1215" y="13197"/>
                  <a:pt x="1215" y="13246"/>
                </a:cubicBezTo>
                <a:cubicBezTo>
                  <a:pt x="1215" y="13308"/>
                  <a:pt x="1191" y="13350"/>
                  <a:pt x="1191" y="13419"/>
                </a:cubicBezTo>
                <a:cubicBezTo>
                  <a:pt x="1191" y="13476"/>
                  <a:pt x="1170" y="13515"/>
                  <a:pt x="1166" y="13568"/>
                </a:cubicBezTo>
                <a:cubicBezTo>
                  <a:pt x="1159" y="13666"/>
                  <a:pt x="1166" y="13767"/>
                  <a:pt x="1166" y="13866"/>
                </a:cubicBezTo>
                <a:cubicBezTo>
                  <a:pt x="1200" y="13855"/>
                  <a:pt x="1189" y="13853"/>
                  <a:pt x="1215" y="13816"/>
                </a:cubicBezTo>
              </a:path>
              <a:path w="621" h="770">
                <a:moveTo>
                  <a:pt x="1414" y="13345"/>
                </a:moveTo>
                <a:cubicBezTo>
                  <a:pt x="1443" y="13316"/>
                  <a:pt x="1476" y="13283"/>
                  <a:pt x="1513" y="13271"/>
                </a:cubicBezTo>
                <a:cubicBezTo>
                  <a:pt x="1581" y="13249"/>
                  <a:pt x="1583" y="13253"/>
                  <a:pt x="1637" y="13271"/>
                </a:cubicBezTo>
                <a:cubicBezTo>
                  <a:pt x="1667" y="13281"/>
                  <a:pt x="1701" y="13273"/>
                  <a:pt x="1712" y="13295"/>
                </a:cubicBezTo>
                <a:cubicBezTo>
                  <a:pt x="1722" y="13314"/>
                  <a:pt x="1751" y="13368"/>
                  <a:pt x="1736" y="13395"/>
                </a:cubicBezTo>
                <a:cubicBezTo>
                  <a:pt x="1720" y="13425"/>
                  <a:pt x="1704" y="13469"/>
                  <a:pt x="1687" y="13494"/>
                </a:cubicBezTo>
                <a:cubicBezTo>
                  <a:pt x="1659" y="13535"/>
                  <a:pt x="1635" y="13578"/>
                  <a:pt x="1612" y="13618"/>
                </a:cubicBezTo>
                <a:cubicBezTo>
                  <a:pt x="1584" y="13666"/>
                  <a:pt x="1510" y="13692"/>
                  <a:pt x="1488" y="13742"/>
                </a:cubicBezTo>
                <a:cubicBezTo>
                  <a:pt x="1471" y="13780"/>
                  <a:pt x="1449" y="13785"/>
                  <a:pt x="1439" y="13816"/>
                </a:cubicBezTo>
                <a:cubicBezTo>
                  <a:pt x="1448" y="13843"/>
                  <a:pt x="1456" y="13862"/>
                  <a:pt x="1488" y="13866"/>
                </a:cubicBezTo>
                <a:cubicBezTo>
                  <a:pt x="1539" y="13872"/>
                  <a:pt x="1560" y="13887"/>
                  <a:pt x="1612" y="13891"/>
                </a:cubicBezTo>
                <a:cubicBezTo>
                  <a:pt x="1652" y="13894"/>
                  <a:pt x="1721" y="13937"/>
                  <a:pt x="1761" y="13915"/>
                </a:cubicBezTo>
                <a:cubicBezTo>
                  <a:pt x="1769" y="13907"/>
                  <a:pt x="1778" y="13899"/>
                  <a:pt x="1786" y="138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onfunction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os 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sin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ot 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tan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sc 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sec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fc08d"/>
                </a:solidFill>
                <a:latin typeface="Arial"/>
              </a:rPr>
              <a:t>Using given values to find remaining trig functions</a:t>
            </a:r>
            <a:endParaRPr b="0" lang="en-US" sz="5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1.  Tan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¾ and Csc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</a:t>
            </a:r>
            <a:r>
              <a:rPr b="0" lang="en-US" sz="4400" spc="-1" strike="noStrike" baseline="30000">
                <a:solidFill>
                  <a:srgbClr val="dfc08d"/>
                </a:solidFill>
                <a:latin typeface="Arial"/>
                <a:ea typeface="Arial"/>
              </a:rPr>
              <a:t>5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/</a:t>
            </a:r>
            <a:r>
              <a:rPr b="0" lang="en-US" sz="4400" spc="-1" strike="noStrike" baseline="-25000">
                <a:solidFill>
                  <a:srgbClr val="dfc08d"/>
                </a:solidFill>
                <a:latin typeface="Arial"/>
                <a:ea typeface="Arial"/>
              </a:rPr>
              <a:t>3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52800" y="2490840"/>
            <a:ext cx="1535040" cy="358560"/>
          </a:xfrm>
          <a:custGeom>
            <a:avLst/>
            <a:gdLst/>
            <a:ahLst/>
            <a:rect l="l" t="t" r="r" b="b"/>
            <a:pathLst>
              <a:path w="4267" h="993">
                <a:moveTo>
                  <a:pt x="6499" y="7094"/>
                </a:moveTo>
                <a:cubicBezTo>
                  <a:pt x="6491" y="7102"/>
                  <a:pt x="6482" y="7111"/>
                  <a:pt x="6474" y="7119"/>
                </a:cubicBezTo>
                <a:cubicBezTo>
                  <a:pt x="6474" y="7080"/>
                  <a:pt x="6490" y="7050"/>
                  <a:pt x="6449" y="7045"/>
                </a:cubicBezTo>
                <a:cubicBezTo>
                  <a:pt x="6400" y="7039"/>
                  <a:pt x="6389" y="7057"/>
                  <a:pt x="6350" y="7069"/>
                </a:cubicBezTo>
                <a:cubicBezTo>
                  <a:pt x="6308" y="7083"/>
                  <a:pt x="6262" y="7088"/>
                  <a:pt x="6226" y="7119"/>
                </a:cubicBezTo>
                <a:cubicBezTo>
                  <a:pt x="6173" y="7165"/>
                  <a:pt x="6177" y="7185"/>
                  <a:pt x="6152" y="7218"/>
                </a:cubicBezTo>
                <a:cubicBezTo>
                  <a:pt x="6110" y="7274"/>
                  <a:pt x="6134" y="7264"/>
                  <a:pt x="6152" y="7317"/>
                </a:cubicBezTo>
                <a:cubicBezTo>
                  <a:pt x="6164" y="7353"/>
                  <a:pt x="6187" y="7350"/>
                  <a:pt x="6226" y="7367"/>
                </a:cubicBezTo>
                <a:cubicBezTo>
                  <a:pt x="6289" y="7394"/>
                  <a:pt x="6344" y="7388"/>
                  <a:pt x="6400" y="7417"/>
                </a:cubicBezTo>
                <a:cubicBezTo>
                  <a:pt x="6453" y="7445"/>
                  <a:pt x="6537" y="7465"/>
                  <a:pt x="6573" y="7516"/>
                </a:cubicBezTo>
                <a:cubicBezTo>
                  <a:pt x="6610" y="7568"/>
                  <a:pt x="6643" y="7604"/>
                  <a:pt x="6648" y="7665"/>
                </a:cubicBezTo>
                <a:cubicBezTo>
                  <a:pt x="6653" y="7720"/>
                  <a:pt x="6608" y="7755"/>
                  <a:pt x="6573" y="7789"/>
                </a:cubicBezTo>
                <a:cubicBezTo>
                  <a:pt x="6534" y="7827"/>
                  <a:pt x="6454" y="7876"/>
                  <a:pt x="6400" y="7888"/>
                </a:cubicBezTo>
                <a:cubicBezTo>
                  <a:pt x="6294" y="7912"/>
                  <a:pt x="6198" y="7880"/>
                  <a:pt x="6102" y="7863"/>
                </a:cubicBezTo>
                <a:cubicBezTo>
                  <a:pt x="6067" y="7857"/>
                  <a:pt x="5998" y="7852"/>
                  <a:pt x="5978" y="7813"/>
                </a:cubicBezTo>
                <a:cubicBezTo>
                  <a:pt x="5962" y="7782"/>
                  <a:pt x="5988" y="7759"/>
                  <a:pt x="6003" y="7739"/>
                </a:cubicBezTo>
              </a:path>
              <a:path w="4267" h="993">
                <a:moveTo>
                  <a:pt x="6995" y="7317"/>
                </a:moveTo>
                <a:cubicBezTo>
                  <a:pt x="7002" y="7397"/>
                  <a:pt x="7020" y="7459"/>
                  <a:pt x="7020" y="7541"/>
                </a:cubicBezTo>
                <a:cubicBezTo>
                  <a:pt x="7020" y="7615"/>
                  <a:pt x="7041" y="7669"/>
                  <a:pt x="7045" y="7739"/>
                </a:cubicBezTo>
                <a:cubicBezTo>
                  <a:pt x="7048" y="7797"/>
                  <a:pt x="7057" y="7813"/>
                  <a:pt x="7069" y="7863"/>
                </a:cubicBezTo>
                <a:cubicBezTo>
                  <a:pt x="7060" y="7799"/>
                  <a:pt x="7045" y="7760"/>
                  <a:pt x="7045" y="7689"/>
                </a:cubicBezTo>
              </a:path>
              <a:path w="4267" h="993">
                <a:moveTo>
                  <a:pt x="7119" y="6995"/>
                </a:moveTo>
                <a:cubicBezTo>
                  <a:pt x="7136" y="6970"/>
                  <a:pt x="7152" y="6946"/>
                  <a:pt x="7169" y="6921"/>
                </a:cubicBezTo>
              </a:path>
              <a:path w="4267" h="993">
                <a:moveTo>
                  <a:pt x="7342" y="7491"/>
                </a:moveTo>
                <a:cubicBezTo>
                  <a:pt x="7342" y="7541"/>
                  <a:pt x="7342" y="7771"/>
                  <a:pt x="7342" y="7739"/>
                </a:cubicBezTo>
                <a:cubicBezTo>
                  <a:pt x="7342" y="7640"/>
                  <a:pt x="7351" y="7558"/>
                  <a:pt x="7367" y="7466"/>
                </a:cubicBezTo>
                <a:cubicBezTo>
                  <a:pt x="7376" y="7413"/>
                  <a:pt x="7371" y="7368"/>
                  <a:pt x="7392" y="7317"/>
                </a:cubicBezTo>
                <a:cubicBezTo>
                  <a:pt x="7415" y="7261"/>
                  <a:pt x="7458" y="7212"/>
                  <a:pt x="7516" y="7193"/>
                </a:cubicBezTo>
                <a:cubicBezTo>
                  <a:pt x="7586" y="7170"/>
                  <a:pt x="7624" y="7173"/>
                  <a:pt x="7689" y="7218"/>
                </a:cubicBezTo>
                <a:cubicBezTo>
                  <a:pt x="7720" y="7240"/>
                  <a:pt x="7780" y="7329"/>
                  <a:pt x="7789" y="7367"/>
                </a:cubicBezTo>
                <a:cubicBezTo>
                  <a:pt x="7806" y="7439"/>
                  <a:pt x="7813" y="7514"/>
                  <a:pt x="7813" y="7590"/>
                </a:cubicBezTo>
                <a:cubicBezTo>
                  <a:pt x="7813" y="7668"/>
                  <a:pt x="7816" y="7725"/>
                  <a:pt x="7838" y="7789"/>
                </a:cubicBezTo>
                <a:cubicBezTo>
                  <a:pt x="7854" y="7836"/>
                  <a:pt x="7818" y="7847"/>
                  <a:pt x="7863" y="7789"/>
                </a:cubicBezTo>
              </a:path>
              <a:path w="4267" h="993">
                <a:moveTo>
                  <a:pt x="8483" y="7094"/>
                </a:moveTo>
                <a:cubicBezTo>
                  <a:pt x="8424" y="7188"/>
                  <a:pt x="8422" y="7243"/>
                  <a:pt x="8384" y="7342"/>
                </a:cubicBezTo>
                <a:cubicBezTo>
                  <a:pt x="8356" y="7416"/>
                  <a:pt x="8345" y="7510"/>
                  <a:pt x="8334" y="7590"/>
                </a:cubicBezTo>
                <a:cubicBezTo>
                  <a:pt x="8325" y="7650"/>
                  <a:pt x="8352" y="7761"/>
                  <a:pt x="8384" y="7813"/>
                </a:cubicBezTo>
                <a:cubicBezTo>
                  <a:pt x="8416" y="7865"/>
                  <a:pt x="8442" y="7909"/>
                  <a:pt x="8508" y="7913"/>
                </a:cubicBezTo>
                <a:cubicBezTo>
                  <a:pt x="8580" y="7918"/>
                  <a:pt x="8647" y="7909"/>
                  <a:pt x="8706" y="7863"/>
                </a:cubicBezTo>
                <a:cubicBezTo>
                  <a:pt x="8782" y="7804"/>
                  <a:pt x="8794" y="7750"/>
                  <a:pt x="8830" y="7665"/>
                </a:cubicBezTo>
                <a:cubicBezTo>
                  <a:pt x="8857" y="7602"/>
                  <a:pt x="8874" y="7511"/>
                  <a:pt x="8855" y="7441"/>
                </a:cubicBezTo>
                <a:cubicBezTo>
                  <a:pt x="8840" y="7386"/>
                  <a:pt x="8791" y="7288"/>
                  <a:pt x="8756" y="7243"/>
                </a:cubicBezTo>
                <a:cubicBezTo>
                  <a:pt x="8680" y="7145"/>
                  <a:pt x="8606" y="7124"/>
                  <a:pt x="8508" y="7094"/>
                </a:cubicBezTo>
                <a:cubicBezTo>
                  <a:pt x="8448" y="7076"/>
                  <a:pt x="8425" y="7069"/>
                  <a:pt x="8359" y="7069"/>
                </a:cubicBezTo>
                <a:cubicBezTo>
                  <a:pt x="8316" y="7069"/>
                  <a:pt x="8318" y="7085"/>
                  <a:pt x="8310" y="7119"/>
                </a:cubicBezTo>
              </a:path>
              <a:path w="4267" h="993">
                <a:moveTo>
                  <a:pt x="8235" y="7516"/>
                </a:moveTo>
                <a:cubicBezTo>
                  <a:pt x="8312" y="7490"/>
                  <a:pt x="8376" y="7491"/>
                  <a:pt x="8458" y="7491"/>
                </a:cubicBezTo>
                <a:cubicBezTo>
                  <a:pt x="8607" y="7491"/>
                  <a:pt x="8751" y="7466"/>
                  <a:pt x="8905" y="7466"/>
                </a:cubicBezTo>
                <a:cubicBezTo>
                  <a:pt x="8935" y="7466"/>
                  <a:pt x="9067" y="7459"/>
                  <a:pt x="9004" y="7491"/>
                </a:cubicBezTo>
              </a:path>
              <a:path w="4267" h="993">
                <a:moveTo>
                  <a:pt x="9401" y="7367"/>
                </a:moveTo>
                <a:cubicBezTo>
                  <a:pt x="9518" y="7342"/>
                  <a:pt x="9561" y="7361"/>
                  <a:pt x="9674" y="7367"/>
                </a:cubicBezTo>
                <a:cubicBezTo>
                  <a:pt x="9789" y="7373"/>
                  <a:pt x="9906" y="7367"/>
                  <a:pt x="10021" y="7367"/>
                </a:cubicBezTo>
              </a:path>
              <a:path w="4267" h="993">
                <a:moveTo>
                  <a:pt x="9599" y="7615"/>
                </a:moveTo>
                <a:cubicBezTo>
                  <a:pt x="9789" y="7615"/>
                  <a:pt x="9989" y="7598"/>
                  <a:pt x="10170" y="7640"/>
                </a:cubicBezTo>
                <a:cubicBezTo>
                  <a:pt x="10180" y="7642"/>
                  <a:pt x="10285" y="7640"/>
                  <a:pt x="10220" y="7640"/>
                </a:cubicBezTo>
                <a:cubicBezTo>
                  <a:pt x="10178" y="7640"/>
                  <a:pt x="10170" y="7640"/>
                  <a:pt x="10145" y="76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81160" y="3652920"/>
            <a:ext cx="1428840" cy="330120"/>
          </a:xfrm>
          <a:custGeom>
            <a:avLst/>
            <a:gdLst/>
            <a:ahLst/>
            <a:rect l="l" t="t" r="r" b="b"/>
            <a:pathLst>
              <a:path w="3970" h="919">
                <a:moveTo>
                  <a:pt x="6276" y="10195"/>
                </a:moveTo>
                <a:cubicBezTo>
                  <a:pt x="6276" y="10228"/>
                  <a:pt x="6276" y="10261"/>
                  <a:pt x="6276" y="10294"/>
                </a:cubicBezTo>
                <a:cubicBezTo>
                  <a:pt x="6276" y="10268"/>
                  <a:pt x="6269" y="10207"/>
                  <a:pt x="6251" y="10195"/>
                </a:cubicBezTo>
                <a:cubicBezTo>
                  <a:pt x="6215" y="10171"/>
                  <a:pt x="6176" y="10145"/>
                  <a:pt x="6127" y="10145"/>
                </a:cubicBezTo>
                <a:cubicBezTo>
                  <a:pt x="6046" y="10145"/>
                  <a:pt x="6064" y="10155"/>
                  <a:pt x="6003" y="10195"/>
                </a:cubicBezTo>
                <a:cubicBezTo>
                  <a:pt x="5927" y="10244"/>
                  <a:pt x="5933" y="10275"/>
                  <a:pt x="5879" y="10344"/>
                </a:cubicBezTo>
                <a:cubicBezTo>
                  <a:pt x="5810" y="10431"/>
                  <a:pt x="5783" y="10475"/>
                  <a:pt x="5779" y="10592"/>
                </a:cubicBezTo>
                <a:cubicBezTo>
                  <a:pt x="5776" y="10686"/>
                  <a:pt x="5770" y="10776"/>
                  <a:pt x="5804" y="10864"/>
                </a:cubicBezTo>
                <a:cubicBezTo>
                  <a:pt x="5824" y="10916"/>
                  <a:pt x="5873" y="10997"/>
                  <a:pt x="5928" y="11013"/>
                </a:cubicBezTo>
                <a:cubicBezTo>
                  <a:pt x="6001" y="11034"/>
                  <a:pt x="6055" y="11045"/>
                  <a:pt x="6127" y="11013"/>
                </a:cubicBezTo>
                <a:cubicBezTo>
                  <a:pt x="6186" y="10986"/>
                  <a:pt x="6239" y="10961"/>
                  <a:pt x="6300" y="10939"/>
                </a:cubicBezTo>
              </a:path>
              <a:path w="3970" h="919">
                <a:moveTo>
                  <a:pt x="6548" y="10492"/>
                </a:moveTo>
                <a:cubicBezTo>
                  <a:pt x="6514" y="10586"/>
                  <a:pt x="6504" y="10688"/>
                  <a:pt x="6499" y="10790"/>
                </a:cubicBezTo>
                <a:cubicBezTo>
                  <a:pt x="6496" y="10847"/>
                  <a:pt x="6518" y="10939"/>
                  <a:pt x="6548" y="10988"/>
                </a:cubicBezTo>
                <a:cubicBezTo>
                  <a:pt x="6567" y="11019"/>
                  <a:pt x="6648" y="11066"/>
                  <a:pt x="6672" y="11063"/>
                </a:cubicBezTo>
                <a:cubicBezTo>
                  <a:pt x="6774" y="11049"/>
                  <a:pt x="6810" y="10991"/>
                  <a:pt x="6871" y="10914"/>
                </a:cubicBezTo>
                <a:cubicBezTo>
                  <a:pt x="6908" y="10867"/>
                  <a:pt x="6951" y="10779"/>
                  <a:pt x="6945" y="10716"/>
                </a:cubicBezTo>
                <a:cubicBezTo>
                  <a:pt x="6940" y="10657"/>
                  <a:pt x="6906" y="10568"/>
                  <a:pt x="6871" y="10517"/>
                </a:cubicBezTo>
                <a:cubicBezTo>
                  <a:pt x="6849" y="10485"/>
                  <a:pt x="6780" y="10427"/>
                  <a:pt x="6747" y="10418"/>
                </a:cubicBezTo>
                <a:cubicBezTo>
                  <a:pt x="6707" y="10407"/>
                  <a:pt x="6603" y="10407"/>
                  <a:pt x="6598" y="10443"/>
                </a:cubicBezTo>
                <a:cubicBezTo>
                  <a:pt x="6598" y="10468"/>
                  <a:pt x="6598" y="10476"/>
                  <a:pt x="6623" y="10468"/>
                </a:cubicBezTo>
              </a:path>
              <a:path w="3970" h="919">
                <a:moveTo>
                  <a:pt x="7615" y="10294"/>
                </a:moveTo>
                <a:cubicBezTo>
                  <a:pt x="7552" y="10281"/>
                  <a:pt x="7487" y="10274"/>
                  <a:pt x="7417" y="10294"/>
                </a:cubicBezTo>
                <a:cubicBezTo>
                  <a:pt x="7362" y="10309"/>
                  <a:pt x="7332" y="10329"/>
                  <a:pt x="7293" y="10368"/>
                </a:cubicBezTo>
                <a:cubicBezTo>
                  <a:pt x="7256" y="10405"/>
                  <a:pt x="7260" y="10431"/>
                  <a:pt x="7293" y="10468"/>
                </a:cubicBezTo>
                <a:cubicBezTo>
                  <a:pt x="7334" y="10514"/>
                  <a:pt x="7362" y="10516"/>
                  <a:pt x="7417" y="10542"/>
                </a:cubicBezTo>
                <a:cubicBezTo>
                  <a:pt x="7507" y="10585"/>
                  <a:pt x="7604" y="10638"/>
                  <a:pt x="7665" y="10716"/>
                </a:cubicBezTo>
                <a:cubicBezTo>
                  <a:pt x="7693" y="10751"/>
                  <a:pt x="7634" y="10796"/>
                  <a:pt x="7615" y="10815"/>
                </a:cubicBezTo>
                <a:cubicBezTo>
                  <a:pt x="7562" y="10868"/>
                  <a:pt x="7532" y="10867"/>
                  <a:pt x="7466" y="10889"/>
                </a:cubicBezTo>
                <a:cubicBezTo>
                  <a:pt x="7410" y="10908"/>
                  <a:pt x="7376" y="10914"/>
                  <a:pt x="7317" y="10914"/>
                </a:cubicBezTo>
                <a:cubicBezTo>
                  <a:pt x="7271" y="10914"/>
                  <a:pt x="7247" y="10879"/>
                  <a:pt x="7293" y="10864"/>
                </a:cubicBezTo>
              </a:path>
              <a:path w="3970" h="919">
                <a:moveTo>
                  <a:pt x="8210" y="10517"/>
                </a:moveTo>
                <a:cubicBezTo>
                  <a:pt x="8174" y="10602"/>
                  <a:pt x="8141" y="10674"/>
                  <a:pt x="8136" y="10765"/>
                </a:cubicBezTo>
                <a:cubicBezTo>
                  <a:pt x="8131" y="10857"/>
                  <a:pt x="8149" y="10915"/>
                  <a:pt x="8210" y="10988"/>
                </a:cubicBezTo>
                <a:cubicBezTo>
                  <a:pt x="8253" y="11040"/>
                  <a:pt x="8321" y="11060"/>
                  <a:pt x="8384" y="11063"/>
                </a:cubicBezTo>
                <a:cubicBezTo>
                  <a:pt x="8467" y="11068"/>
                  <a:pt x="8504" y="11019"/>
                  <a:pt x="8558" y="10964"/>
                </a:cubicBezTo>
                <a:cubicBezTo>
                  <a:pt x="8591" y="10931"/>
                  <a:pt x="8636" y="10835"/>
                  <a:pt x="8632" y="10790"/>
                </a:cubicBezTo>
                <a:cubicBezTo>
                  <a:pt x="8627" y="10737"/>
                  <a:pt x="8601" y="10607"/>
                  <a:pt x="8558" y="10567"/>
                </a:cubicBezTo>
                <a:cubicBezTo>
                  <a:pt x="8503" y="10516"/>
                  <a:pt x="8456" y="10479"/>
                  <a:pt x="8384" y="10443"/>
                </a:cubicBezTo>
                <a:cubicBezTo>
                  <a:pt x="8339" y="10421"/>
                  <a:pt x="8284" y="10398"/>
                  <a:pt x="8235" y="10393"/>
                </a:cubicBezTo>
                <a:cubicBezTo>
                  <a:pt x="8180" y="10387"/>
                  <a:pt x="8221" y="10425"/>
                  <a:pt x="8235" y="10443"/>
                </a:cubicBezTo>
              </a:path>
              <a:path w="3970" h="919">
                <a:moveTo>
                  <a:pt x="7987" y="10740"/>
                </a:moveTo>
                <a:cubicBezTo>
                  <a:pt x="8117" y="10740"/>
                  <a:pt x="8234" y="10748"/>
                  <a:pt x="8359" y="10765"/>
                </a:cubicBezTo>
                <a:cubicBezTo>
                  <a:pt x="8431" y="10775"/>
                  <a:pt x="8787" y="10775"/>
                  <a:pt x="8756" y="10740"/>
                </a:cubicBezTo>
                <a:cubicBezTo>
                  <a:pt x="8748" y="10732"/>
                  <a:pt x="8739" y="10724"/>
                  <a:pt x="8731" y="10716"/>
                </a:cubicBezTo>
              </a:path>
              <a:path w="3970" h="919">
                <a:moveTo>
                  <a:pt x="9203" y="10592"/>
                </a:moveTo>
                <a:cubicBezTo>
                  <a:pt x="9287" y="10600"/>
                  <a:pt x="9366" y="10616"/>
                  <a:pt x="9451" y="10616"/>
                </a:cubicBezTo>
                <a:cubicBezTo>
                  <a:pt x="9525" y="10616"/>
                  <a:pt x="9582" y="10632"/>
                  <a:pt x="9649" y="10641"/>
                </a:cubicBezTo>
                <a:cubicBezTo>
                  <a:pt x="9707" y="10641"/>
                  <a:pt x="9715" y="10641"/>
                  <a:pt x="9748" y="10641"/>
                </a:cubicBezTo>
              </a:path>
              <a:path w="3970" h="919">
                <a:moveTo>
                  <a:pt x="9103" y="10864"/>
                </a:moveTo>
                <a:cubicBezTo>
                  <a:pt x="9208" y="10864"/>
                  <a:pt x="9310" y="10871"/>
                  <a:pt x="9401" y="10889"/>
                </a:cubicBezTo>
                <a:cubicBezTo>
                  <a:pt x="9469" y="10903"/>
                  <a:pt x="9537" y="10894"/>
                  <a:pt x="9575" y="10914"/>
                </a:cubicBezTo>
                <a:cubicBezTo>
                  <a:pt x="9599" y="10914"/>
                  <a:pt x="9607" y="10914"/>
                  <a:pt x="9575" y="109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76880" y="4616280"/>
            <a:ext cx="1073160" cy="312840"/>
          </a:xfrm>
          <a:custGeom>
            <a:avLst/>
            <a:gdLst/>
            <a:ahLst/>
            <a:rect l="l" t="t" r="r" b="b"/>
            <a:pathLst>
              <a:path w="2977" h="869">
                <a:moveTo>
                  <a:pt x="14957" y="13122"/>
                </a:moveTo>
                <a:cubicBezTo>
                  <a:pt x="14950" y="13143"/>
                  <a:pt x="14908" y="13179"/>
                  <a:pt x="14932" y="13146"/>
                </a:cubicBezTo>
                <a:cubicBezTo>
                  <a:pt x="14972" y="13092"/>
                  <a:pt x="14939" y="13088"/>
                  <a:pt x="14932" y="13022"/>
                </a:cubicBezTo>
                <a:cubicBezTo>
                  <a:pt x="14929" y="12996"/>
                  <a:pt x="14892" y="12952"/>
                  <a:pt x="14883" y="12948"/>
                </a:cubicBezTo>
                <a:cubicBezTo>
                  <a:pt x="14863" y="12938"/>
                  <a:pt x="14795" y="12982"/>
                  <a:pt x="14784" y="12998"/>
                </a:cubicBezTo>
                <a:cubicBezTo>
                  <a:pt x="14751" y="13045"/>
                  <a:pt x="14697" y="13114"/>
                  <a:pt x="14684" y="13171"/>
                </a:cubicBezTo>
                <a:cubicBezTo>
                  <a:pt x="14665" y="13254"/>
                  <a:pt x="14671" y="13290"/>
                  <a:pt x="14684" y="13370"/>
                </a:cubicBezTo>
                <a:cubicBezTo>
                  <a:pt x="14694" y="13430"/>
                  <a:pt x="14701" y="13482"/>
                  <a:pt x="14759" y="13519"/>
                </a:cubicBezTo>
                <a:cubicBezTo>
                  <a:pt x="14818" y="13556"/>
                  <a:pt x="14865" y="13568"/>
                  <a:pt x="14932" y="13568"/>
                </a:cubicBezTo>
              </a:path>
              <a:path w="2977" h="869">
                <a:moveTo>
                  <a:pt x="15255" y="13146"/>
                </a:moveTo>
                <a:cubicBezTo>
                  <a:pt x="15224" y="13197"/>
                  <a:pt x="15218" y="13237"/>
                  <a:pt x="15205" y="13295"/>
                </a:cubicBezTo>
                <a:cubicBezTo>
                  <a:pt x="15186" y="13379"/>
                  <a:pt x="15180" y="13445"/>
                  <a:pt x="15230" y="13519"/>
                </a:cubicBezTo>
                <a:cubicBezTo>
                  <a:pt x="15280" y="13593"/>
                  <a:pt x="15345" y="13614"/>
                  <a:pt x="15429" y="13618"/>
                </a:cubicBezTo>
                <a:cubicBezTo>
                  <a:pt x="15486" y="13621"/>
                  <a:pt x="15567" y="13592"/>
                  <a:pt x="15602" y="13543"/>
                </a:cubicBezTo>
                <a:cubicBezTo>
                  <a:pt x="15634" y="13499"/>
                  <a:pt x="15642" y="13398"/>
                  <a:pt x="15627" y="13345"/>
                </a:cubicBezTo>
                <a:cubicBezTo>
                  <a:pt x="15607" y="13271"/>
                  <a:pt x="15553" y="13200"/>
                  <a:pt x="15503" y="13146"/>
                </a:cubicBezTo>
                <a:cubicBezTo>
                  <a:pt x="15460" y="13100"/>
                  <a:pt x="15411" y="13077"/>
                  <a:pt x="15354" y="13072"/>
                </a:cubicBezTo>
                <a:cubicBezTo>
                  <a:pt x="15303" y="13068"/>
                  <a:pt x="15300" y="13070"/>
                  <a:pt x="15280" y="13097"/>
                </a:cubicBezTo>
                <a:cubicBezTo>
                  <a:pt x="15243" y="13147"/>
                  <a:pt x="15252" y="13131"/>
                  <a:pt x="15280" y="13196"/>
                </a:cubicBezTo>
              </a:path>
              <a:path w="2977" h="869">
                <a:moveTo>
                  <a:pt x="15925" y="12824"/>
                </a:moveTo>
                <a:cubicBezTo>
                  <a:pt x="15925" y="12924"/>
                  <a:pt x="15912" y="12999"/>
                  <a:pt x="15900" y="13097"/>
                </a:cubicBezTo>
                <a:cubicBezTo>
                  <a:pt x="15884" y="13220"/>
                  <a:pt x="15900" y="13354"/>
                  <a:pt x="15925" y="13469"/>
                </a:cubicBezTo>
                <a:cubicBezTo>
                  <a:pt x="15934" y="13512"/>
                  <a:pt x="15945" y="13554"/>
                  <a:pt x="15949" y="13593"/>
                </a:cubicBezTo>
                <a:cubicBezTo>
                  <a:pt x="15956" y="13658"/>
                  <a:pt x="15949" y="13578"/>
                  <a:pt x="15949" y="13568"/>
                </a:cubicBezTo>
              </a:path>
              <a:path w="2977" h="869">
                <a:moveTo>
                  <a:pt x="15726" y="13221"/>
                </a:moveTo>
                <a:cubicBezTo>
                  <a:pt x="15801" y="13241"/>
                  <a:pt x="15873" y="13267"/>
                  <a:pt x="15949" y="13271"/>
                </a:cubicBezTo>
                <a:cubicBezTo>
                  <a:pt x="16009" y="13274"/>
                  <a:pt x="16063" y="13289"/>
                  <a:pt x="16123" y="13295"/>
                </a:cubicBezTo>
              </a:path>
              <a:path w="2977" h="869">
                <a:moveTo>
                  <a:pt x="16520" y="13097"/>
                </a:moveTo>
                <a:cubicBezTo>
                  <a:pt x="16496" y="13175"/>
                  <a:pt x="16450" y="13241"/>
                  <a:pt x="16446" y="13320"/>
                </a:cubicBezTo>
                <a:cubicBezTo>
                  <a:pt x="16442" y="13402"/>
                  <a:pt x="16444" y="13468"/>
                  <a:pt x="16470" y="13543"/>
                </a:cubicBezTo>
                <a:cubicBezTo>
                  <a:pt x="16492" y="13607"/>
                  <a:pt x="16548" y="13673"/>
                  <a:pt x="16619" y="13692"/>
                </a:cubicBezTo>
                <a:cubicBezTo>
                  <a:pt x="16679" y="13708"/>
                  <a:pt x="16747" y="13691"/>
                  <a:pt x="16793" y="13667"/>
                </a:cubicBezTo>
                <a:cubicBezTo>
                  <a:pt x="16877" y="13623"/>
                  <a:pt x="16866" y="13572"/>
                  <a:pt x="16892" y="13494"/>
                </a:cubicBezTo>
                <a:cubicBezTo>
                  <a:pt x="16920" y="13412"/>
                  <a:pt x="16881" y="13357"/>
                  <a:pt x="16867" y="13271"/>
                </a:cubicBezTo>
                <a:cubicBezTo>
                  <a:pt x="16856" y="13200"/>
                  <a:pt x="16825" y="13121"/>
                  <a:pt x="16768" y="13072"/>
                </a:cubicBezTo>
                <a:cubicBezTo>
                  <a:pt x="16721" y="13031"/>
                  <a:pt x="16669" y="13039"/>
                  <a:pt x="16619" y="13022"/>
                </a:cubicBezTo>
                <a:cubicBezTo>
                  <a:pt x="16554" y="12999"/>
                  <a:pt x="16523" y="13007"/>
                  <a:pt x="16470" y="13047"/>
                </a:cubicBezTo>
              </a:path>
              <a:path w="2977" h="869">
                <a:moveTo>
                  <a:pt x="16272" y="13246"/>
                </a:moveTo>
                <a:cubicBezTo>
                  <a:pt x="16340" y="13272"/>
                  <a:pt x="16422" y="13285"/>
                  <a:pt x="16495" y="13295"/>
                </a:cubicBezTo>
                <a:cubicBezTo>
                  <a:pt x="16579" y="13307"/>
                  <a:pt x="16656" y="13320"/>
                  <a:pt x="16743" y="13320"/>
                </a:cubicBezTo>
                <a:cubicBezTo>
                  <a:pt x="16801" y="13320"/>
                  <a:pt x="16859" y="13320"/>
                  <a:pt x="16917" y="13320"/>
                </a:cubicBezTo>
              </a:path>
              <a:path w="2977" h="869">
                <a:moveTo>
                  <a:pt x="17239" y="13221"/>
                </a:moveTo>
                <a:cubicBezTo>
                  <a:pt x="17311" y="13241"/>
                  <a:pt x="17391" y="13259"/>
                  <a:pt x="17462" y="13271"/>
                </a:cubicBezTo>
                <a:cubicBezTo>
                  <a:pt x="17501" y="13278"/>
                  <a:pt x="17547" y="13271"/>
                  <a:pt x="17587" y="13271"/>
                </a:cubicBezTo>
              </a:path>
              <a:path w="2977" h="869">
                <a:moveTo>
                  <a:pt x="17190" y="13370"/>
                </a:moveTo>
                <a:cubicBezTo>
                  <a:pt x="17240" y="13421"/>
                  <a:pt x="17274" y="13415"/>
                  <a:pt x="17338" y="13444"/>
                </a:cubicBezTo>
                <a:cubicBezTo>
                  <a:pt x="17400" y="13472"/>
                  <a:pt x="17455" y="13471"/>
                  <a:pt x="17512" y="13494"/>
                </a:cubicBezTo>
                <a:cubicBezTo>
                  <a:pt x="17569" y="13517"/>
                  <a:pt x="17684" y="13532"/>
                  <a:pt x="17636" y="13494"/>
                </a:cubicBezTo>
                <a:cubicBezTo>
                  <a:pt x="17628" y="13494"/>
                  <a:pt x="17619" y="13494"/>
                  <a:pt x="17611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27880" y="4527720"/>
            <a:ext cx="384120" cy="625320"/>
          </a:xfrm>
          <a:custGeom>
            <a:avLst/>
            <a:gdLst/>
            <a:ahLst/>
            <a:rect l="l" t="t" r="r" b="b"/>
            <a:pathLst>
              <a:path w="1068" h="1737">
                <a:moveTo>
                  <a:pt x="18281" y="12675"/>
                </a:moveTo>
                <a:cubicBezTo>
                  <a:pt x="18259" y="12726"/>
                  <a:pt x="18238" y="12796"/>
                  <a:pt x="18231" y="12849"/>
                </a:cubicBezTo>
                <a:cubicBezTo>
                  <a:pt x="18220" y="12932"/>
                  <a:pt x="18204" y="12933"/>
                  <a:pt x="18182" y="12998"/>
                </a:cubicBezTo>
                <a:cubicBezTo>
                  <a:pt x="18168" y="13038"/>
                  <a:pt x="18166" y="13061"/>
                  <a:pt x="18132" y="13072"/>
                </a:cubicBezTo>
                <a:cubicBezTo>
                  <a:pt x="18181" y="13072"/>
                  <a:pt x="18218" y="13089"/>
                  <a:pt x="18256" y="13097"/>
                </a:cubicBezTo>
                <a:cubicBezTo>
                  <a:pt x="18315" y="13109"/>
                  <a:pt x="18541" y="13121"/>
                  <a:pt x="18579" y="13072"/>
                </a:cubicBezTo>
                <a:cubicBezTo>
                  <a:pt x="18587" y="13055"/>
                  <a:pt x="18596" y="13039"/>
                  <a:pt x="18604" y="13022"/>
                </a:cubicBezTo>
              </a:path>
              <a:path w="1068" h="1737">
                <a:moveTo>
                  <a:pt x="18529" y="12576"/>
                </a:moveTo>
                <a:cubicBezTo>
                  <a:pt x="18511" y="12661"/>
                  <a:pt x="18499" y="12744"/>
                  <a:pt x="18479" y="12824"/>
                </a:cubicBezTo>
                <a:cubicBezTo>
                  <a:pt x="18457" y="12911"/>
                  <a:pt x="18441" y="13011"/>
                  <a:pt x="18430" y="13097"/>
                </a:cubicBezTo>
                <a:cubicBezTo>
                  <a:pt x="18420" y="13179"/>
                  <a:pt x="18437" y="13223"/>
                  <a:pt x="18455" y="13295"/>
                </a:cubicBezTo>
                <a:cubicBezTo>
                  <a:pt x="18455" y="13303"/>
                  <a:pt x="18455" y="13312"/>
                  <a:pt x="18455" y="13320"/>
                </a:cubicBezTo>
              </a:path>
              <a:path w="1068" h="1737">
                <a:moveTo>
                  <a:pt x="18901" y="12650"/>
                </a:moveTo>
                <a:cubicBezTo>
                  <a:pt x="18872" y="12751"/>
                  <a:pt x="18831" y="12846"/>
                  <a:pt x="18802" y="12948"/>
                </a:cubicBezTo>
                <a:cubicBezTo>
                  <a:pt x="18764" y="13082"/>
                  <a:pt x="18711" y="13210"/>
                  <a:pt x="18678" y="13345"/>
                </a:cubicBezTo>
                <a:cubicBezTo>
                  <a:pt x="18640" y="13500"/>
                  <a:pt x="18604" y="13635"/>
                  <a:pt x="18579" y="13791"/>
                </a:cubicBezTo>
                <a:cubicBezTo>
                  <a:pt x="18564" y="13884"/>
                  <a:pt x="18534" y="14029"/>
                  <a:pt x="18504" y="14114"/>
                </a:cubicBezTo>
                <a:cubicBezTo>
                  <a:pt x="18485" y="14167"/>
                  <a:pt x="18432" y="14236"/>
                  <a:pt x="18504" y="14163"/>
                </a:cubicBezTo>
              </a:path>
              <a:path w="1068" h="1737">
                <a:moveTo>
                  <a:pt x="18852" y="13543"/>
                </a:moveTo>
                <a:cubicBezTo>
                  <a:pt x="18938" y="13531"/>
                  <a:pt x="18985" y="13511"/>
                  <a:pt x="19050" y="13568"/>
                </a:cubicBezTo>
                <a:cubicBezTo>
                  <a:pt x="19091" y="13604"/>
                  <a:pt x="19119" y="13637"/>
                  <a:pt x="19124" y="13692"/>
                </a:cubicBezTo>
                <a:cubicBezTo>
                  <a:pt x="19128" y="13730"/>
                  <a:pt x="19053" y="13800"/>
                  <a:pt x="19025" y="13816"/>
                </a:cubicBezTo>
                <a:cubicBezTo>
                  <a:pt x="19013" y="13823"/>
                  <a:pt x="18931" y="13835"/>
                  <a:pt x="18926" y="13841"/>
                </a:cubicBezTo>
                <a:cubicBezTo>
                  <a:pt x="18899" y="13875"/>
                  <a:pt x="18903" y="13866"/>
                  <a:pt x="18951" y="13866"/>
                </a:cubicBezTo>
                <a:cubicBezTo>
                  <a:pt x="19002" y="13866"/>
                  <a:pt x="19036" y="13857"/>
                  <a:pt x="19075" y="13891"/>
                </a:cubicBezTo>
                <a:cubicBezTo>
                  <a:pt x="19134" y="13943"/>
                  <a:pt x="19151" y="13974"/>
                  <a:pt x="19174" y="14039"/>
                </a:cubicBezTo>
                <a:cubicBezTo>
                  <a:pt x="19204" y="14123"/>
                  <a:pt x="19194" y="14127"/>
                  <a:pt x="19174" y="14213"/>
                </a:cubicBezTo>
                <a:cubicBezTo>
                  <a:pt x="19163" y="14262"/>
                  <a:pt x="19142" y="14270"/>
                  <a:pt x="19100" y="14288"/>
                </a:cubicBezTo>
                <a:cubicBezTo>
                  <a:pt x="19048" y="14310"/>
                  <a:pt x="19029" y="14312"/>
                  <a:pt x="18976" y="14312"/>
                </a:cubicBezTo>
                <a:cubicBezTo>
                  <a:pt x="18935" y="14312"/>
                  <a:pt x="18947" y="14274"/>
                  <a:pt x="18926" y="14263"/>
                </a:cubicBezTo>
                <a:cubicBezTo>
                  <a:pt x="18898" y="14263"/>
                  <a:pt x="18887" y="14261"/>
                  <a:pt x="18876" y="142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11880" y="3483000"/>
            <a:ext cx="1581120" cy="544320"/>
          </a:xfrm>
          <a:custGeom>
            <a:avLst/>
            <a:gdLst/>
            <a:ahLst/>
            <a:rect l="l" t="t" r="r" b="b"/>
            <a:pathLst>
              <a:path w="4391" h="1514">
                <a:moveTo>
                  <a:pt x="15429" y="9947"/>
                </a:moveTo>
                <a:cubicBezTo>
                  <a:pt x="15421" y="9924"/>
                  <a:pt x="15386" y="9908"/>
                  <a:pt x="15354" y="9897"/>
                </a:cubicBezTo>
                <a:cubicBezTo>
                  <a:pt x="15298" y="9878"/>
                  <a:pt x="15269" y="9914"/>
                  <a:pt x="15230" y="9922"/>
                </a:cubicBezTo>
                <a:cubicBezTo>
                  <a:pt x="15174" y="9934"/>
                  <a:pt x="15130" y="9955"/>
                  <a:pt x="15081" y="9971"/>
                </a:cubicBezTo>
                <a:cubicBezTo>
                  <a:pt x="15039" y="9985"/>
                  <a:pt x="15051" y="10012"/>
                  <a:pt x="15081" y="10046"/>
                </a:cubicBezTo>
                <a:cubicBezTo>
                  <a:pt x="15123" y="10093"/>
                  <a:pt x="15159" y="10158"/>
                  <a:pt x="15205" y="10195"/>
                </a:cubicBezTo>
                <a:cubicBezTo>
                  <a:pt x="15261" y="10240"/>
                  <a:pt x="15322" y="10274"/>
                  <a:pt x="15354" y="10344"/>
                </a:cubicBezTo>
                <a:cubicBezTo>
                  <a:pt x="15374" y="10388"/>
                  <a:pt x="15386" y="10489"/>
                  <a:pt x="15329" y="10517"/>
                </a:cubicBezTo>
                <a:cubicBezTo>
                  <a:pt x="15284" y="10539"/>
                  <a:pt x="15232" y="10542"/>
                  <a:pt x="15180" y="10542"/>
                </a:cubicBezTo>
                <a:cubicBezTo>
                  <a:pt x="15096" y="10542"/>
                  <a:pt x="15121" y="10522"/>
                  <a:pt x="15056" y="10492"/>
                </a:cubicBezTo>
                <a:cubicBezTo>
                  <a:pt x="15032" y="10492"/>
                  <a:pt x="15024" y="10492"/>
                  <a:pt x="15032" y="10468"/>
                </a:cubicBezTo>
              </a:path>
              <a:path w="4391" h="1514">
                <a:moveTo>
                  <a:pt x="15528" y="10294"/>
                </a:moveTo>
                <a:cubicBezTo>
                  <a:pt x="15627" y="10273"/>
                  <a:pt x="15668" y="10263"/>
                  <a:pt x="15751" y="10220"/>
                </a:cubicBezTo>
                <a:cubicBezTo>
                  <a:pt x="15791" y="10199"/>
                  <a:pt x="15854" y="10193"/>
                  <a:pt x="15875" y="10145"/>
                </a:cubicBezTo>
                <a:cubicBezTo>
                  <a:pt x="15887" y="10119"/>
                  <a:pt x="15905" y="10066"/>
                  <a:pt x="15875" y="10046"/>
                </a:cubicBezTo>
                <a:cubicBezTo>
                  <a:pt x="15837" y="10021"/>
                  <a:pt x="15785" y="10040"/>
                  <a:pt x="15751" y="10046"/>
                </a:cubicBezTo>
                <a:cubicBezTo>
                  <a:pt x="15683" y="10057"/>
                  <a:pt x="15653" y="10074"/>
                  <a:pt x="15602" y="10120"/>
                </a:cubicBezTo>
                <a:cubicBezTo>
                  <a:pt x="15540" y="10176"/>
                  <a:pt x="15514" y="10237"/>
                  <a:pt x="15503" y="10319"/>
                </a:cubicBezTo>
                <a:cubicBezTo>
                  <a:pt x="15498" y="10360"/>
                  <a:pt x="15506" y="10415"/>
                  <a:pt x="15528" y="10443"/>
                </a:cubicBezTo>
                <a:cubicBezTo>
                  <a:pt x="15573" y="10500"/>
                  <a:pt x="15632" y="10512"/>
                  <a:pt x="15701" y="10517"/>
                </a:cubicBezTo>
                <a:cubicBezTo>
                  <a:pt x="15777" y="10523"/>
                  <a:pt x="15832" y="10497"/>
                  <a:pt x="15900" y="10468"/>
                </a:cubicBezTo>
              </a:path>
              <a:path w="4391" h="1514">
                <a:moveTo>
                  <a:pt x="16421" y="10096"/>
                </a:moveTo>
                <a:cubicBezTo>
                  <a:pt x="16447" y="10061"/>
                  <a:pt x="16446" y="10065"/>
                  <a:pt x="16446" y="10021"/>
                </a:cubicBezTo>
                <a:cubicBezTo>
                  <a:pt x="16391" y="10021"/>
                  <a:pt x="16350" y="10017"/>
                  <a:pt x="16297" y="10046"/>
                </a:cubicBezTo>
                <a:cubicBezTo>
                  <a:pt x="16275" y="10058"/>
                  <a:pt x="16186" y="10129"/>
                  <a:pt x="16173" y="10145"/>
                </a:cubicBezTo>
                <a:cubicBezTo>
                  <a:pt x="16142" y="10181"/>
                  <a:pt x="16101" y="10247"/>
                  <a:pt x="16098" y="10294"/>
                </a:cubicBezTo>
                <a:cubicBezTo>
                  <a:pt x="16093" y="10363"/>
                  <a:pt x="16083" y="10427"/>
                  <a:pt x="16148" y="10468"/>
                </a:cubicBezTo>
                <a:cubicBezTo>
                  <a:pt x="16195" y="10498"/>
                  <a:pt x="16269" y="10515"/>
                  <a:pt x="16321" y="10517"/>
                </a:cubicBezTo>
                <a:cubicBezTo>
                  <a:pt x="16416" y="10521"/>
                  <a:pt x="16462" y="10509"/>
                  <a:pt x="16545" y="10468"/>
                </a:cubicBezTo>
              </a:path>
              <a:path w="4391" h="1514">
                <a:moveTo>
                  <a:pt x="16892" y="10021"/>
                </a:moveTo>
                <a:cubicBezTo>
                  <a:pt x="16868" y="10084"/>
                  <a:pt x="16862" y="10136"/>
                  <a:pt x="16842" y="10195"/>
                </a:cubicBezTo>
                <a:cubicBezTo>
                  <a:pt x="16818" y="10265"/>
                  <a:pt x="16818" y="10318"/>
                  <a:pt x="16818" y="10393"/>
                </a:cubicBezTo>
                <a:cubicBezTo>
                  <a:pt x="16818" y="10480"/>
                  <a:pt x="16833" y="10509"/>
                  <a:pt x="16892" y="10567"/>
                </a:cubicBezTo>
                <a:cubicBezTo>
                  <a:pt x="16934" y="10609"/>
                  <a:pt x="17024" y="10656"/>
                  <a:pt x="17090" y="10641"/>
                </a:cubicBezTo>
                <a:cubicBezTo>
                  <a:pt x="17172" y="10623"/>
                  <a:pt x="17225" y="10601"/>
                  <a:pt x="17289" y="10542"/>
                </a:cubicBezTo>
                <a:cubicBezTo>
                  <a:pt x="17322" y="10511"/>
                  <a:pt x="17368" y="10411"/>
                  <a:pt x="17363" y="10368"/>
                </a:cubicBezTo>
                <a:cubicBezTo>
                  <a:pt x="17353" y="10282"/>
                  <a:pt x="17309" y="10215"/>
                  <a:pt x="17264" y="10145"/>
                </a:cubicBezTo>
                <a:cubicBezTo>
                  <a:pt x="17215" y="10069"/>
                  <a:pt x="17144" y="10033"/>
                  <a:pt x="17090" y="9971"/>
                </a:cubicBezTo>
                <a:cubicBezTo>
                  <a:pt x="17049" y="9924"/>
                  <a:pt x="17016" y="9902"/>
                  <a:pt x="16942" y="9897"/>
                </a:cubicBezTo>
                <a:cubicBezTo>
                  <a:pt x="16892" y="9897"/>
                  <a:pt x="16875" y="9897"/>
                  <a:pt x="16842" y="9897"/>
                </a:cubicBezTo>
              </a:path>
              <a:path w="4391" h="1514">
                <a:moveTo>
                  <a:pt x="16545" y="10220"/>
                </a:moveTo>
                <a:cubicBezTo>
                  <a:pt x="16639" y="10247"/>
                  <a:pt x="16742" y="10265"/>
                  <a:pt x="16842" y="10269"/>
                </a:cubicBezTo>
                <a:cubicBezTo>
                  <a:pt x="16962" y="10273"/>
                  <a:pt x="17072" y="10290"/>
                  <a:pt x="17190" y="10294"/>
                </a:cubicBezTo>
                <a:cubicBezTo>
                  <a:pt x="17280" y="10297"/>
                  <a:pt x="17362" y="10295"/>
                  <a:pt x="17438" y="10269"/>
                </a:cubicBezTo>
                <a:cubicBezTo>
                  <a:pt x="17462" y="10269"/>
                  <a:pt x="17471" y="10269"/>
                  <a:pt x="17487" y="10269"/>
                </a:cubicBezTo>
              </a:path>
              <a:path w="4391" h="1514">
                <a:moveTo>
                  <a:pt x="17760" y="10170"/>
                </a:moveTo>
                <a:cubicBezTo>
                  <a:pt x="17843" y="10193"/>
                  <a:pt x="17928" y="10174"/>
                  <a:pt x="18008" y="10195"/>
                </a:cubicBezTo>
                <a:cubicBezTo>
                  <a:pt x="18049" y="10215"/>
                  <a:pt x="18055" y="10224"/>
                  <a:pt x="18083" y="10220"/>
                </a:cubicBezTo>
              </a:path>
              <a:path w="4391" h="1514">
                <a:moveTo>
                  <a:pt x="17661" y="10319"/>
                </a:moveTo>
                <a:cubicBezTo>
                  <a:pt x="17796" y="10358"/>
                  <a:pt x="17888" y="10400"/>
                  <a:pt x="18033" y="10418"/>
                </a:cubicBezTo>
                <a:cubicBezTo>
                  <a:pt x="18050" y="10418"/>
                  <a:pt x="18066" y="10418"/>
                  <a:pt x="18083" y="10418"/>
                </a:cubicBezTo>
              </a:path>
              <a:path w="4391" h="1514">
                <a:moveTo>
                  <a:pt x="18628" y="9723"/>
                </a:moveTo>
                <a:cubicBezTo>
                  <a:pt x="18706" y="9723"/>
                  <a:pt x="18761" y="9718"/>
                  <a:pt x="18827" y="9699"/>
                </a:cubicBezTo>
                <a:cubicBezTo>
                  <a:pt x="18860" y="9699"/>
                  <a:pt x="18876" y="9699"/>
                  <a:pt x="18901" y="9699"/>
                </a:cubicBezTo>
              </a:path>
              <a:path w="4391" h="1514">
                <a:moveTo>
                  <a:pt x="18554" y="9798"/>
                </a:moveTo>
                <a:cubicBezTo>
                  <a:pt x="18534" y="9853"/>
                  <a:pt x="18508" y="9926"/>
                  <a:pt x="18479" y="9971"/>
                </a:cubicBezTo>
                <a:cubicBezTo>
                  <a:pt x="18457" y="9994"/>
                  <a:pt x="18449" y="9999"/>
                  <a:pt x="18455" y="10021"/>
                </a:cubicBezTo>
                <a:cubicBezTo>
                  <a:pt x="18502" y="9984"/>
                  <a:pt x="18494" y="9976"/>
                  <a:pt x="18554" y="9971"/>
                </a:cubicBezTo>
                <a:cubicBezTo>
                  <a:pt x="18606" y="9966"/>
                  <a:pt x="18658" y="9966"/>
                  <a:pt x="18703" y="9996"/>
                </a:cubicBezTo>
                <a:cubicBezTo>
                  <a:pt x="18749" y="10027"/>
                  <a:pt x="18809" y="10113"/>
                  <a:pt x="18777" y="10170"/>
                </a:cubicBezTo>
                <a:cubicBezTo>
                  <a:pt x="18751" y="10217"/>
                  <a:pt x="18672" y="10220"/>
                  <a:pt x="18628" y="10220"/>
                </a:cubicBezTo>
                <a:cubicBezTo>
                  <a:pt x="18575" y="10220"/>
                  <a:pt x="18527" y="10214"/>
                  <a:pt x="18479" y="10195"/>
                </a:cubicBezTo>
                <a:cubicBezTo>
                  <a:pt x="18470" y="10191"/>
                  <a:pt x="18353" y="10163"/>
                  <a:pt x="18355" y="10145"/>
                </a:cubicBezTo>
                <a:cubicBezTo>
                  <a:pt x="18363" y="10137"/>
                  <a:pt x="18372" y="10128"/>
                  <a:pt x="18380" y="10120"/>
                </a:cubicBezTo>
              </a:path>
              <a:path w="4391" h="1514">
                <a:moveTo>
                  <a:pt x="19124" y="9674"/>
                </a:moveTo>
                <a:cubicBezTo>
                  <a:pt x="19100" y="9790"/>
                  <a:pt x="19060" y="9860"/>
                  <a:pt x="19025" y="9971"/>
                </a:cubicBezTo>
                <a:cubicBezTo>
                  <a:pt x="18986" y="10097"/>
                  <a:pt x="18954" y="10201"/>
                  <a:pt x="18901" y="10319"/>
                </a:cubicBezTo>
                <a:cubicBezTo>
                  <a:pt x="18857" y="10418"/>
                  <a:pt x="18822" y="10518"/>
                  <a:pt x="18777" y="10616"/>
                </a:cubicBezTo>
                <a:cubicBezTo>
                  <a:pt x="18742" y="10692"/>
                  <a:pt x="18742" y="10762"/>
                  <a:pt x="18703" y="10840"/>
                </a:cubicBezTo>
                <a:cubicBezTo>
                  <a:pt x="18691" y="10863"/>
                  <a:pt x="18621" y="10971"/>
                  <a:pt x="18678" y="10914"/>
                </a:cubicBezTo>
              </a:path>
              <a:path w="4391" h="1514">
                <a:moveTo>
                  <a:pt x="19149" y="10468"/>
                </a:moveTo>
                <a:cubicBezTo>
                  <a:pt x="19108" y="10495"/>
                  <a:pt x="19094" y="10527"/>
                  <a:pt x="19050" y="10542"/>
                </a:cubicBezTo>
                <a:cubicBezTo>
                  <a:pt x="19010" y="10555"/>
                  <a:pt x="19040" y="10554"/>
                  <a:pt x="19000" y="10567"/>
                </a:cubicBezTo>
                <a:cubicBezTo>
                  <a:pt x="19051" y="10618"/>
                  <a:pt x="19063" y="10596"/>
                  <a:pt x="19124" y="10616"/>
                </a:cubicBezTo>
                <a:cubicBezTo>
                  <a:pt x="19179" y="10634"/>
                  <a:pt x="19264" y="10679"/>
                  <a:pt x="19323" y="10666"/>
                </a:cubicBezTo>
                <a:cubicBezTo>
                  <a:pt x="19372" y="10641"/>
                  <a:pt x="19389" y="10632"/>
                  <a:pt x="19422" y="10616"/>
                </a:cubicBezTo>
              </a:path>
              <a:path w="4391" h="1514">
                <a:moveTo>
                  <a:pt x="19422" y="10294"/>
                </a:moveTo>
                <a:cubicBezTo>
                  <a:pt x="19373" y="10419"/>
                  <a:pt x="19336" y="10533"/>
                  <a:pt x="19323" y="10666"/>
                </a:cubicBezTo>
                <a:cubicBezTo>
                  <a:pt x="19306" y="10834"/>
                  <a:pt x="19333" y="11000"/>
                  <a:pt x="19298" y="11162"/>
                </a:cubicBezTo>
                <a:cubicBezTo>
                  <a:pt x="19298" y="11170"/>
                  <a:pt x="19298" y="11179"/>
                  <a:pt x="19298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8040" y="2286000"/>
            <a:ext cx="447840" cy="519120"/>
          </a:xfrm>
          <a:custGeom>
            <a:avLst/>
            <a:gdLst/>
            <a:ahLst/>
            <a:rect l="l" t="t" r="r" b="b"/>
            <a:pathLst>
              <a:path w="1241" h="1440">
                <a:moveTo>
                  <a:pt x="10716" y="6524"/>
                </a:moveTo>
                <a:cubicBezTo>
                  <a:pt x="10716" y="6552"/>
                  <a:pt x="10713" y="6562"/>
                  <a:pt x="10691" y="6573"/>
                </a:cubicBezTo>
                <a:cubicBezTo>
                  <a:pt x="10698" y="6551"/>
                  <a:pt x="10712" y="6521"/>
                  <a:pt x="10740" y="6499"/>
                </a:cubicBezTo>
                <a:cubicBezTo>
                  <a:pt x="10825" y="6432"/>
                  <a:pt x="10812" y="6451"/>
                  <a:pt x="10889" y="6400"/>
                </a:cubicBezTo>
                <a:cubicBezTo>
                  <a:pt x="10927" y="6375"/>
                  <a:pt x="10963" y="6355"/>
                  <a:pt x="11013" y="6350"/>
                </a:cubicBezTo>
                <a:cubicBezTo>
                  <a:pt x="11074" y="6344"/>
                  <a:pt x="11065" y="6379"/>
                  <a:pt x="11112" y="6400"/>
                </a:cubicBezTo>
                <a:cubicBezTo>
                  <a:pt x="11136" y="6411"/>
                  <a:pt x="11152" y="6432"/>
                  <a:pt x="11137" y="6474"/>
                </a:cubicBezTo>
                <a:cubicBezTo>
                  <a:pt x="11117" y="6531"/>
                  <a:pt x="11053" y="6604"/>
                  <a:pt x="11013" y="6648"/>
                </a:cubicBezTo>
                <a:cubicBezTo>
                  <a:pt x="10974" y="6691"/>
                  <a:pt x="10930" y="6731"/>
                  <a:pt x="10889" y="6772"/>
                </a:cubicBezTo>
                <a:cubicBezTo>
                  <a:pt x="10939" y="6772"/>
                  <a:pt x="10948" y="6761"/>
                  <a:pt x="10988" y="6747"/>
                </a:cubicBezTo>
                <a:cubicBezTo>
                  <a:pt x="11021" y="6736"/>
                  <a:pt x="11077" y="6747"/>
                  <a:pt x="11112" y="6747"/>
                </a:cubicBezTo>
                <a:cubicBezTo>
                  <a:pt x="11112" y="6795"/>
                  <a:pt x="11117" y="6827"/>
                  <a:pt x="11088" y="6871"/>
                </a:cubicBezTo>
                <a:cubicBezTo>
                  <a:pt x="11058" y="6916"/>
                  <a:pt x="11012" y="6975"/>
                  <a:pt x="10964" y="6995"/>
                </a:cubicBezTo>
                <a:cubicBezTo>
                  <a:pt x="10928" y="7010"/>
                  <a:pt x="10874" y="7034"/>
                  <a:pt x="10840" y="7045"/>
                </a:cubicBezTo>
                <a:cubicBezTo>
                  <a:pt x="10819" y="7052"/>
                  <a:pt x="10721" y="7057"/>
                  <a:pt x="10740" y="7020"/>
                </a:cubicBezTo>
                <a:cubicBezTo>
                  <a:pt x="10748" y="7012"/>
                  <a:pt x="10757" y="7003"/>
                  <a:pt x="10765" y="6995"/>
                </a:cubicBezTo>
              </a:path>
              <a:path w="1241" h="1440">
                <a:moveTo>
                  <a:pt x="11584" y="6400"/>
                </a:moveTo>
                <a:cubicBezTo>
                  <a:pt x="11554" y="6490"/>
                  <a:pt x="11525" y="6586"/>
                  <a:pt x="11485" y="6672"/>
                </a:cubicBezTo>
                <a:cubicBezTo>
                  <a:pt x="11422" y="6807"/>
                  <a:pt x="11362" y="6941"/>
                  <a:pt x="11286" y="7069"/>
                </a:cubicBezTo>
                <a:cubicBezTo>
                  <a:pt x="11221" y="7178"/>
                  <a:pt x="11184" y="7284"/>
                  <a:pt x="11112" y="7392"/>
                </a:cubicBezTo>
                <a:cubicBezTo>
                  <a:pt x="11060" y="7470"/>
                  <a:pt x="11040" y="7538"/>
                  <a:pt x="11013" y="7615"/>
                </a:cubicBezTo>
                <a:cubicBezTo>
                  <a:pt x="11003" y="7644"/>
                  <a:pt x="10957" y="7710"/>
                  <a:pt x="10964" y="7739"/>
                </a:cubicBezTo>
                <a:cubicBezTo>
                  <a:pt x="10986" y="7716"/>
                  <a:pt x="10994" y="7711"/>
                  <a:pt x="10988" y="7689"/>
                </a:cubicBezTo>
              </a:path>
              <a:path w="1241" h="1440">
                <a:moveTo>
                  <a:pt x="11460" y="7169"/>
                </a:moveTo>
                <a:cubicBezTo>
                  <a:pt x="11556" y="7146"/>
                  <a:pt x="11642" y="7139"/>
                  <a:pt x="11733" y="7119"/>
                </a:cubicBezTo>
                <a:cubicBezTo>
                  <a:pt x="11803" y="7104"/>
                  <a:pt x="11835" y="7094"/>
                  <a:pt x="11906" y="7094"/>
                </a:cubicBezTo>
                <a:cubicBezTo>
                  <a:pt x="11914" y="7094"/>
                  <a:pt x="11923" y="7094"/>
                  <a:pt x="11931" y="7094"/>
                </a:cubicBezTo>
              </a:path>
              <a:path w="1241" h="1440">
                <a:moveTo>
                  <a:pt x="11534" y="7169"/>
                </a:moveTo>
                <a:cubicBezTo>
                  <a:pt x="11500" y="7227"/>
                  <a:pt x="11467" y="7275"/>
                  <a:pt x="11460" y="7342"/>
                </a:cubicBezTo>
                <a:cubicBezTo>
                  <a:pt x="11458" y="7366"/>
                  <a:pt x="11460" y="7393"/>
                  <a:pt x="11460" y="7417"/>
                </a:cubicBezTo>
                <a:cubicBezTo>
                  <a:pt x="11486" y="7417"/>
                  <a:pt x="11547" y="7409"/>
                  <a:pt x="11559" y="7392"/>
                </a:cubicBezTo>
                <a:cubicBezTo>
                  <a:pt x="11570" y="7376"/>
                  <a:pt x="11604" y="7351"/>
                  <a:pt x="11609" y="7342"/>
                </a:cubicBezTo>
                <a:cubicBezTo>
                  <a:pt x="11626" y="7307"/>
                  <a:pt x="11634" y="7317"/>
                  <a:pt x="11683" y="7317"/>
                </a:cubicBezTo>
                <a:cubicBezTo>
                  <a:pt x="11755" y="7317"/>
                  <a:pt x="11784" y="7344"/>
                  <a:pt x="11832" y="7392"/>
                </a:cubicBezTo>
                <a:cubicBezTo>
                  <a:pt x="11864" y="7424"/>
                  <a:pt x="11892" y="7496"/>
                  <a:pt x="11906" y="7541"/>
                </a:cubicBezTo>
                <a:cubicBezTo>
                  <a:pt x="11922" y="7593"/>
                  <a:pt x="11902" y="7627"/>
                  <a:pt x="11881" y="7665"/>
                </a:cubicBezTo>
                <a:cubicBezTo>
                  <a:pt x="11866" y="7691"/>
                  <a:pt x="11818" y="7754"/>
                  <a:pt x="11782" y="7764"/>
                </a:cubicBezTo>
                <a:cubicBezTo>
                  <a:pt x="11731" y="7779"/>
                  <a:pt x="11660" y="7785"/>
                  <a:pt x="11609" y="7789"/>
                </a:cubicBezTo>
                <a:cubicBezTo>
                  <a:pt x="11588" y="7791"/>
                  <a:pt x="11530" y="7738"/>
                  <a:pt x="11509" y="7764"/>
                </a:cubicBezTo>
                <a:cubicBezTo>
                  <a:pt x="11481" y="7799"/>
                  <a:pt x="11510" y="7796"/>
                  <a:pt x="11435" y="77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3473280"/>
            <a:ext cx="527040" cy="679680"/>
          </a:xfrm>
          <a:custGeom>
            <a:avLst/>
            <a:gdLst/>
            <a:ahLst/>
            <a:rect l="l" t="t" r="r" b="b"/>
            <a:pathLst>
              <a:path w="1464" h="1886">
                <a:moveTo>
                  <a:pt x="11311" y="9897"/>
                </a:moveTo>
                <a:cubicBezTo>
                  <a:pt x="11262" y="9927"/>
                  <a:pt x="11202" y="9965"/>
                  <a:pt x="11162" y="10021"/>
                </a:cubicBezTo>
                <a:cubicBezTo>
                  <a:pt x="11103" y="10103"/>
                  <a:pt x="11025" y="10156"/>
                  <a:pt x="10964" y="10244"/>
                </a:cubicBezTo>
                <a:cubicBezTo>
                  <a:pt x="10891" y="10349"/>
                  <a:pt x="10817" y="10467"/>
                  <a:pt x="10740" y="10567"/>
                </a:cubicBezTo>
                <a:cubicBezTo>
                  <a:pt x="10660" y="10671"/>
                  <a:pt x="10564" y="10779"/>
                  <a:pt x="10492" y="10889"/>
                </a:cubicBezTo>
                <a:cubicBezTo>
                  <a:pt x="10413" y="11009"/>
                  <a:pt x="10364" y="11127"/>
                  <a:pt x="10269" y="11237"/>
                </a:cubicBezTo>
                <a:cubicBezTo>
                  <a:pt x="10218" y="11296"/>
                  <a:pt x="10174" y="11384"/>
                  <a:pt x="10120" y="11435"/>
                </a:cubicBezTo>
                <a:cubicBezTo>
                  <a:pt x="10089" y="11465"/>
                  <a:pt x="10042" y="11492"/>
                  <a:pt x="10021" y="11509"/>
                </a:cubicBezTo>
                <a:cubicBezTo>
                  <a:pt x="10012" y="11516"/>
                  <a:pt x="10024" y="11514"/>
                  <a:pt x="9996" y="11460"/>
                </a:cubicBezTo>
              </a:path>
              <a:path w="1464" h="1886">
                <a:moveTo>
                  <a:pt x="11038" y="10840"/>
                </a:moveTo>
                <a:cubicBezTo>
                  <a:pt x="11133" y="10846"/>
                  <a:pt x="11176" y="10864"/>
                  <a:pt x="11261" y="10864"/>
                </a:cubicBezTo>
                <a:cubicBezTo>
                  <a:pt x="11322" y="10864"/>
                  <a:pt x="11363" y="10874"/>
                  <a:pt x="11410" y="10840"/>
                </a:cubicBezTo>
              </a:path>
              <a:path w="1464" h="1886">
                <a:moveTo>
                  <a:pt x="10988" y="10864"/>
                </a:moveTo>
                <a:cubicBezTo>
                  <a:pt x="10960" y="10912"/>
                  <a:pt x="10930" y="10966"/>
                  <a:pt x="10914" y="11013"/>
                </a:cubicBezTo>
                <a:cubicBezTo>
                  <a:pt x="10899" y="11057"/>
                  <a:pt x="10924" y="11083"/>
                  <a:pt x="10964" y="11088"/>
                </a:cubicBezTo>
                <a:cubicBezTo>
                  <a:pt x="11020" y="11094"/>
                  <a:pt x="11044" y="11078"/>
                  <a:pt x="11088" y="11063"/>
                </a:cubicBezTo>
                <a:cubicBezTo>
                  <a:pt x="11118" y="11053"/>
                  <a:pt x="11167" y="11075"/>
                  <a:pt x="11187" y="11088"/>
                </a:cubicBezTo>
                <a:cubicBezTo>
                  <a:pt x="11208" y="11101"/>
                  <a:pt x="11305" y="11224"/>
                  <a:pt x="11311" y="11237"/>
                </a:cubicBezTo>
                <a:cubicBezTo>
                  <a:pt x="11332" y="11282"/>
                  <a:pt x="11336" y="11357"/>
                  <a:pt x="11336" y="11410"/>
                </a:cubicBezTo>
                <a:cubicBezTo>
                  <a:pt x="11336" y="11458"/>
                  <a:pt x="11280" y="11495"/>
                  <a:pt x="11237" y="11509"/>
                </a:cubicBezTo>
                <a:cubicBezTo>
                  <a:pt x="11179" y="11528"/>
                  <a:pt x="11108" y="11494"/>
                  <a:pt x="11063" y="11485"/>
                </a:cubicBezTo>
                <a:cubicBezTo>
                  <a:pt x="10999" y="11473"/>
                  <a:pt x="11001" y="11488"/>
                  <a:pt x="10964" y="11460"/>
                </a:cubicBezTo>
                <a:cubicBezTo>
                  <a:pt x="10941" y="11437"/>
                  <a:pt x="10933" y="11426"/>
                  <a:pt x="10939" y="11460"/>
                </a:cubicBezTo>
              </a:path>
              <a:path w="1464" h="1886">
                <a:moveTo>
                  <a:pt x="10096" y="9847"/>
                </a:moveTo>
                <a:cubicBezTo>
                  <a:pt x="10070" y="9899"/>
                  <a:pt x="10017" y="9948"/>
                  <a:pt x="9996" y="9996"/>
                </a:cubicBezTo>
                <a:cubicBezTo>
                  <a:pt x="9983" y="10026"/>
                  <a:pt x="9957" y="10065"/>
                  <a:pt x="9947" y="10096"/>
                </a:cubicBezTo>
                <a:cubicBezTo>
                  <a:pt x="9941" y="10115"/>
                  <a:pt x="9947" y="10150"/>
                  <a:pt x="9947" y="10170"/>
                </a:cubicBezTo>
                <a:cubicBezTo>
                  <a:pt x="10005" y="10180"/>
                  <a:pt x="10001" y="10195"/>
                  <a:pt x="10071" y="10195"/>
                </a:cubicBezTo>
                <a:cubicBezTo>
                  <a:pt x="10162" y="10195"/>
                  <a:pt x="10234" y="10190"/>
                  <a:pt x="10319" y="10170"/>
                </a:cubicBezTo>
                <a:cubicBezTo>
                  <a:pt x="10383" y="10155"/>
                  <a:pt x="10380" y="10149"/>
                  <a:pt x="10418" y="10096"/>
                </a:cubicBezTo>
              </a:path>
              <a:path w="1464" h="1886">
                <a:moveTo>
                  <a:pt x="10418" y="9649"/>
                </a:moveTo>
                <a:cubicBezTo>
                  <a:pt x="10409" y="9724"/>
                  <a:pt x="10384" y="9798"/>
                  <a:pt x="10368" y="9872"/>
                </a:cubicBezTo>
                <a:cubicBezTo>
                  <a:pt x="10345" y="9973"/>
                  <a:pt x="10308" y="10068"/>
                  <a:pt x="10294" y="10170"/>
                </a:cubicBezTo>
                <a:cubicBezTo>
                  <a:pt x="10279" y="10280"/>
                  <a:pt x="10336" y="10453"/>
                  <a:pt x="10269" y="105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2760" y="4527720"/>
            <a:ext cx="795240" cy="347400"/>
          </a:xfrm>
          <a:custGeom>
            <a:avLst/>
            <a:gdLst/>
            <a:ahLst/>
            <a:rect l="l" t="t" r="r" b="b"/>
            <a:pathLst>
              <a:path w="2209" h="968">
                <a:moveTo>
                  <a:pt x="1662" y="12973"/>
                </a:moveTo>
                <a:cubicBezTo>
                  <a:pt x="1662" y="13014"/>
                  <a:pt x="1663" y="12954"/>
                  <a:pt x="1612" y="12948"/>
                </a:cubicBezTo>
                <a:cubicBezTo>
                  <a:pt x="1549" y="12941"/>
                  <a:pt x="1550" y="12941"/>
                  <a:pt x="1488" y="12948"/>
                </a:cubicBezTo>
                <a:cubicBezTo>
                  <a:pt x="1427" y="12955"/>
                  <a:pt x="1414" y="12956"/>
                  <a:pt x="1364" y="12973"/>
                </a:cubicBezTo>
                <a:cubicBezTo>
                  <a:pt x="1326" y="12986"/>
                  <a:pt x="1339" y="13002"/>
                  <a:pt x="1339" y="13047"/>
                </a:cubicBezTo>
                <a:cubicBezTo>
                  <a:pt x="1339" y="13068"/>
                  <a:pt x="1385" y="13125"/>
                  <a:pt x="1414" y="13146"/>
                </a:cubicBezTo>
                <a:cubicBezTo>
                  <a:pt x="1489" y="13200"/>
                  <a:pt x="1524" y="13226"/>
                  <a:pt x="1588" y="13295"/>
                </a:cubicBezTo>
                <a:cubicBezTo>
                  <a:pt x="1633" y="13343"/>
                  <a:pt x="1679" y="13388"/>
                  <a:pt x="1712" y="13444"/>
                </a:cubicBezTo>
                <a:cubicBezTo>
                  <a:pt x="1736" y="13485"/>
                  <a:pt x="1734" y="13540"/>
                  <a:pt x="1687" y="13543"/>
                </a:cubicBezTo>
                <a:cubicBezTo>
                  <a:pt x="1592" y="13550"/>
                  <a:pt x="1496" y="13534"/>
                  <a:pt x="1414" y="13519"/>
                </a:cubicBezTo>
                <a:cubicBezTo>
                  <a:pt x="1348" y="13507"/>
                  <a:pt x="1339" y="13514"/>
                  <a:pt x="1339" y="13444"/>
                </a:cubicBezTo>
              </a:path>
              <a:path w="2209" h="968">
                <a:moveTo>
                  <a:pt x="1885" y="13097"/>
                </a:moveTo>
                <a:cubicBezTo>
                  <a:pt x="1938" y="13246"/>
                  <a:pt x="1932" y="13239"/>
                  <a:pt x="1910" y="13370"/>
                </a:cubicBezTo>
                <a:cubicBezTo>
                  <a:pt x="1903" y="13414"/>
                  <a:pt x="1903" y="13526"/>
                  <a:pt x="1935" y="13494"/>
                </a:cubicBezTo>
                <a:cubicBezTo>
                  <a:pt x="1951" y="13478"/>
                  <a:pt x="1935" y="13365"/>
                  <a:pt x="1935" y="13345"/>
                </a:cubicBezTo>
              </a:path>
              <a:path w="2209" h="968">
                <a:moveTo>
                  <a:pt x="1910" y="12849"/>
                </a:moveTo>
                <a:cubicBezTo>
                  <a:pt x="1932" y="12797"/>
                  <a:pt x="1924" y="12786"/>
                  <a:pt x="1960" y="12774"/>
                </a:cubicBezTo>
              </a:path>
              <a:path w="2209" h="968">
                <a:moveTo>
                  <a:pt x="2208" y="13295"/>
                </a:moveTo>
                <a:cubicBezTo>
                  <a:pt x="2208" y="13344"/>
                  <a:pt x="2234" y="13527"/>
                  <a:pt x="2183" y="13543"/>
                </a:cubicBezTo>
                <a:cubicBezTo>
                  <a:pt x="2183" y="13460"/>
                  <a:pt x="2190" y="13398"/>
                  <a:pt x="2208" y="13320"/>
                </a:cubicBezTo>
                <a:cubicBezTo>
                  <a:pt x="2219" y="13272"/>
                  <a:pt x="2237" y="13188"/>
                  <a:pt x="2257" y="13146"/>
                </a:cubicBezTo>
                <a:cubicBezTo>
                  <a:pt x="2273" y="13113"/>
                  <a:pt x="2349" y="13076"/>
                  <a:pt x="2381" y="13072"/>
                </a:cubicBezTo>
                <a:cubicBezTo>
                  <a:pt x="2437" y="13066"/>
                  <a:pt x="2474" y="13100"/>
                  <a:pt x="2505" y="13146"/>
                </a:cubicBezTo>
                <a:cubicBezTo>
                  <a:pt x="2558" y="13225"/>
                  <a:pt x="2584" y="13330"/>
                  <a:pt x="2604" y="13419"/>
                </a:cubicBezTo>
                <a:cubicBezTo>
                  <a:pt x="2608" y="13437"/>
                  <a:pt x="2604" y="13577"/>
                  <a:pt x="2604" y="13519"/>
                </a:cubicBezTo>
              </a:path>
              <a:path w="2209" h="968">
                <a:moveTo>
                  <a:pt x="2828" y="12576"/>
                </a:moveTo>
                <a:cubicBezTo>
                  <a:pt x="2939" y="12610"/>
                  <a:pt x="2903" y="12594"/>
                  <a:pt x="2952" y="12675"/>
                </a:cubicBezTo>
                <a:cubicBezTo>
                  <a:pt x="2927" y="12706"/>
                  <a:pt x="2885" y="12763"/>
                  <a:pt x="2877" y="12799"/>
                </a:cubicBezTo>
                <a:cubicBezTo>
                  <a:pt x="2872" y="12823"/>
                  <a:pt x="2839" y="12897"/>
                  <a:pt x="2853" y="12923"/>
                </a:cubicBezTo>
                <a:cubicBezTo>
                  <a:pt x="2873" y="12960"/>
                  <a:pt x="2941" y="12971"/>
                  <a:pt x="2977" y="12973"/>
                </a:cubicBezTo>
                <a:cubicBezTo>
                  <a:pt x="3018" y="12973"/>
                  <a:pt x="3026" y="12973"/>
                  <a:pt x="3051" y="12973"/>
                </a:cubicBezTo>
              </a:path>
              <a:path w="2209" h="968">
                <a:moveTo>
                  <a:pt x="3423" y="12923"/>
                </a:moveTo>
                <a:cubicBezTo>
                  <a:pt x="3406" y="13000"/>
                  <a:pt x="3362" y="13118"/>
                  <a:pt x="3373" y="13196"/>
                </a:cubicBezTo>
                <a:cubicBezTo>
                  <a:pt x="3383" y="13265"/>
                  <a:pt x="3416" y="13342"/>
                  <a:pt x="3448" y="13395"/>
                </a:cubicBezTo>
              </a:path>
              <a:path w="2209" h="968">
                <a:moveTo>
                  <a:pt x="3249" y="13196"/>
                </a:moveTo>
                <a:cubicBezTo>
                  <a:pt x="3313" y="13187"/>
                  <a:pt x="3352" y="13171"/>
                  <a:pt x="3423" y="13171"/>
                </a:cubicBezTo>
                <a:cubicBezTo>
                  <a:pt x="3489" y="13171"/>
                  <a:pt x="3506" y="13171"/>
                  <a:pt x="3547" y="131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19120" y="4518000"/>
            <a:ext cx="743040" cy="376200"/>
          </a:xfrm>
          <a:custGeom>
            <a:avLst/>
            <a:gdLst/>
            <a:ahLst/>
            <a:rect l="l" t="t" r="r" b="b"/>
            <a:pathLst>
              <a:path w="2060" h="1043">
                <a:moveTo>
                  <a:pt x="4217" y="13196"/>
                </a:moveTo>
                <a:cubicBezTo>
                  <a:pt x="4208" y="13158"/>
                  <a:pt x="4194" y="13127"/>
                  <a:pt x="4167" y="13097"/>
                </a:cubicBezTo>
                <a:cubicBezTo>
                  <a:pt x="4123" y="13047"/>
                  <a:pt x="4105" y="13086"/>
                  <a:pt x="4068" y="13122"/>
                </a:cubicBezTo>
                <a:cubicBezTo>
                  <a:pt x="4029" y="13160"/>
                  <a:pt x="3996" y="13201"/>
                  <a:pt x="3969" y="13246"/>
                </a:cubicBezTo>
                <a:cubicBezTo>
                  <a:pt x="3947" y="13282"/>
                  <a:pt x="3918" y="13404"/>
                  <a:pt x="3944" y="13444"/>
                </a:cubicBezTo>
                <a:cubicBezTo>
                  <a:pt x="3981" y="13502"/>
                  <a:pt x="4072" y="13558"/>
                  <a:pt x="4142" y="13568"/>
                </a:cubicBezTo>
                <a:cubicBezTo>
                  <a:pt x="4210" y="13568"/>
                  <a:pt x="4229" y="13571"/>
                  <a:pt x="4266" y="13543"/>
                </a:cubicBezTo>
              </a:path>
              <a:path w="2060" h="1043">
                <a:moveTo>
                  <a:pt x="4490" y="13221"/>
                </a:moveTo>
                <a:cubicBezTo>
                  <a:pt x="4464" y="13365"/>
                  <a:pt x="4447" y="13384"/>
                  <a:pt x="4514" y="13494"/>
                </a:cubicBezTo>
                <a:cubicBezTo>
                  <a:pt x="4541" y="13538"/>
                  <a:pt x="4596" y="13589"/>
                  <a:pt x="4663" y="13568"/>
                </a:cubicBezTo>
                <a:cubicBezTo>
                  <a:pt x="4712" y="13553"/>
                  <a:pt x="4738" y="13515"/>
                  <a:pt x="4762" y="13469"/>
                </a:cubicBezTo>
                <a:cubicBezTo>
                  <a:pt x="4794" y="13408"/>
                  <a:pt x="4800" y="13358"/>
                  <a:pt x="4762" y="13295"/>
                </a:cubicBezTo>
                <a:cubicBezTo>
                  <a:pt x="4724" y="13233"/>
                  <a:pt x="4693" y="13213"/>
                  <a:pt x="4638" y="13171"/>
                </a:cubicBezTo>
                <a:cubicBezTo>
                  <a:pt x="4605" y="13146"/>
                  <a:pt x="4579" y="13132"/>
                  <a:pt x="4539" y="13122"/>
                </a:cubicBezTo>
              </a:path>
              <a:path w="2060" h="1043">
                <a:moveTo>
                  <a:pt x="5209" y="13146"/>
                </a:moveTo>
                <a:cubicBezTo>
                  <a:pt x="5139" y="13146"/>
                  <a:pt x="5094" y="13153"/>
                  <a:pt x="5035" y="13171"/>
                </a:cubicBezTo>
                <a:cubicBezTo>
                  <a:pt x="4988" y="13185"/>
                  <a:pt x="5014" y="13227"/>
                  <a:pt x="5035" y="13271"/>
                </a:cubicBezTo>
                <a:cubicBezTo>
                  <a:pt x="5069" y="13343"/>
                  <a:pt x="5135" y="13389"/>
                  <a:pt x="5184" y="13444"/>
                </a:cubicBezTo>
                <a:cubicBezTo>
                  <a:pt x="5225" y="13491"/>
                  <a:pt x="5282" y="13568"/>
                  <a:pt x="5184" y="13593"/>
                </a:cubicBezTo>
                <a:cubicBezTo>
                  <a:pt x="5138" y="13605"/>
                  <a:pt x="5054" y="13562"/>
                  <a:pt x="5011" y="13543"/>
                </a:cubicBezTo>
                <a:cubicBezTo>
                  <a:pt x="4967" y="13522"/>
                  <a:pt x="4955" y="13519"/>
                  <a:pt x="4936" y="13494"/>
                </a:cubicBezTo>
              </a:path>
              <a:path w="2060" h="1043">
                <a:moveTo>
                  <a:pt x="5308" y="12576"/>
                </a:moveTo>
                <a:cubicBezTo>
                  <a:pt x="5345" y="12565"/>
                  <a:pt x="5406" y="12548"/>
                  <a:pt x="5432" y="12601"/>
                </a:cubicBezTo>
                <a:cubicBezTo>
                  <a:pt x="5449" y="12635"/>
                  <a:pt x="5426" y="12678"/>
                  <a:pt x="5407" y="12700"/>
                </a:cubicBezTo>
                <a:cubicBezTo>
                  <a:pt x="5384" y="12726"/>
                  <a:pt x="5358" y="12750"/>
                  <a:pt x="5333" y="12774"/>
                </a:cubicBezTo>
                <a:cubicBezTo>
                  <a:pt x="5345" y="12809"/>
                  <a:pt x="5368" y="12807"/>
                  <a:pt x="5407" y="12824"/>
                </a:cubicBezTo>
                <a:cubicBezTo>
                  <a:pt x="5479" y="12855"/>
                  <a:pt x="5527" y="12876"/>
                  <a:pt x="5606" y="12898"/>
                </a:cubicBezTo>
              </a:path>
              <a:path w="2060" h="1043">
                <a:moveTo>
                  <a:pt x="5705" y="13295"/>
                </a:moveTo>
                <a:cubicBezTo>
                  <a:pt x="5778" y="13317"/>
                  <a:pt x="5784" y="13320"/>
                  <a:pt x="5854" y="13320"/>
                </a:cubicBezTo>
              </a:path>
              <a:path w="2060" h="1043">
                <a:moveTo>
                  <a:pt x="5705" y="13494"/>
                </a:moveTo>
                <a:cubicBezTo>
                  <a:pt x="5823" y="13518"/>
                  <a:pt x="5889" y="13525"/>
                  <a:pt x="6003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74920" y="4589640"/>
            <a:ext cx="19080" cy="304560"/>
          </a:xfrm>
          <a:custGeom>
            <a:avLst/>
            <a:gdLst/>
            <a:ahLst/>
            <a:rect l="l" t="t" r="r" b="b"/>
            <a:pathLst>
              <a:path w="51" h="844">
                <a:moveTo>
                  <a:pt x="6648" y="12750"/>
                </a:moveTo>
                <a:cubicBezTo>
                  <a:pt x="6648" y="12829"/>
                  <a:pt x="6631" y="12901"/>
                  <a:pt x="6623" y="12973"/>
                </a:cubicBezTo>
                <a:cubicBezTo>
                  <a:pt x="6610" y="13093"/>
                  <a:pt x="6631" y="13206"/>
                  <a:pt x="6623" y="13320"/>
                </a:cubicBezTo>
                <a:cubicBezTo>
                  <a:pt x="6617" y="13410"/>
                  <a:pt x="6598" y="13498"/>
                  <a:pt x="6598" y="135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1680" y="5081760"/>
            <a:ext cx="768240" cy="579240"/>
          </a:xfrm>
          <a:custGeom>
            <a:avLst/>
            <a:gdLst/>
            <a:ahLst/>
            <a:rect l="l" t="t" r="r" b="b"/>
            <a:pathLst>
              <a:path w="2134" h="1613">
                <a:moveTo>
                  <a:pt x="2084" y="14312"/>
                </a:moveTo>
                <a:cubicBezTo>
                  <a:pt x="2134" y="14300"/>
                  <a:pt x="2148" y="14288"/>
                  <a:pt x="2208" y="14288"/>
                </a:cubicBezTo>
                <a:cubicBezTo>
                  <a:pt x="2242" y="14288"/>
                  <a:pt x="2282" y="14315"/>
                  <a:pt x="2307" y="14337"/>
                </a:cubicBezTo>
                <a:cubicBezTo>
                  <a:pt x="2350" y="14375"/>
                  <a:pt x="2333" y="14444"/>
                  <a:pt x="2307" y="14486"/>
                </a:cubicBezTo>
                <a:cubicBezTo>
                  <a:pt x="2291" y="14512"/>
                  <a:pt x="2235" y="14533"/>
                  <a:pt x="2208" y="14536"/>
                </a:cubicBezTo>
                <a:cubicBezTo>
                  <a:pt x="2176" y="14540"/>
                  <a:pt x="2130" y="14520"/>
                  <a:pt x="2158" y="14536"/>
                </a:cubicBezTo>
                <a:cubicBezTo>
                  <a:pt x="2207" y="14564"/>
                  <a:pt x="2238" y="14566"/>
                  <a:pt x="2282" y="14610"/>
                </a:cubicBezTo>
                <a:cubicBezTo>
                  <a:pt x="2316" y="14644"/>
                  <a:pt x="2345" y="14665"/>
                  <a:pt x="2356" y="14709"/>
                </a:cubicBezTo>
                <a:cubicBezTo>
                  <a:pt x="2325" y="14733"/>
                  <a:pt x="2296" y="14755"/>
                  <a:pt x="2257" y="14759"/>
                </a:cubicBezTo>
                <a:cubicBezTo>
                  <a:pt x="2207" y="14765"/>
                  <a:pt x="2197" y="14747"/>
                  <a:pt x="2158" y="14734"/>
                </a:cubicBezTo>
                <a:cubicBezTo>
                  <a:pt x="2150" y="14734"/>
                  <a:pt x="2141" y="14734"/>
                  <a:pt x="2133" y="14734"/>
                </a:cubicBezTo>
              </a:path>
              <a:path w="2134" h="1613">
                <a:moveTo>
                  <a:pt x="1836" y="14833"/>
                </a:moveTo>
                <a:cubicBezTo>
                  <a:pt x="1932" y="14872"/>
                  <a:pt x="2005" y="14883"/>
                  <a:pt x="2108" y="14883"/>
                </a:cubicBezTo>
                <a:cubicBezTo>
                  <a:pt x="2184" y="14883"/>
                  <a:pt x="2584" y="14920"/>
                  <a:pt x="2604" y="14858"/>
                </a:cubicBezTo>
              </a:path>
              <a:path w="2134" h="1613">
                <a:moveTo>
                  <a:pt x="2183" y="15081"/>
                </a:moveTo>
                <a:cubicBezTo>
                  <a:pt x="2265" y="15104"/>
                  <a:pt x="2287" y="15111"/>
                  <a:pt x="2356" y="15081"/>
                </a:cubicBezTo>
                <a:cubicBezTo>
                  <a:pt x="2397" y="15061"/>
                  <a:pt x="2403" y="15052"/>
                  <a:pt x="2431" y="15056"/>
                </a:cubicBezTo>
              </a:path>
              <a:path w="2134" h="1613">
                <a:moveTo>
                  <a:pt x="2133" y="15081"/>
                </a:moveTo>
                <a:cubicBezTo>
                  <a:pt x="2093" y="15101"/>
                  <a:pt x="2077" y="15100"/>
                  <a:pt x="2084" y="15131"/>
                </a:cubicBezTo>
                <a:cubicBezTo>
                  <a:pt x="2093" y="15158"/>
                  <a:pt x="2101" y="15176"/>
                  <a:pt x="2133" y="15180"/>
                </a:cubicBezTo>
                <a:cubicBezTo>
                  <a:pt x="2209" y="15189"/>
                  <a:pt x="2266" y="15183"/>
                  <a:pt x="2332" y="15205"/>
                </a:cubicBezTo>
                <a:cubicBezTo>
                  <a:pt x="2364" y="15216"/>
                  <a:pt x="2398" y="15242"/>
                  <a:pt x="2406" y="15280"/>
                </a:cubicBezTo>
                <a:cubicBezTo>
                  <a:pt x="2418" y="15336"/>
                  <a:pt x="2413" y="15439"/>
                  <a:pt x="2381" y="15478"/>
                </a:cubicBezTo>
                <a:cubicBezTo>
                  <a:pt x="2355" y="15510"/>
                  <a:pt x="2296" y="15516"/>
                  <a:pt x="2257" y="15503"/>
                </a:cubicBezTo>
                <a:cubicBezTo>
                  <a:pt x="2190" y="15480"/>
                  <a:pt x="2167" y="15434"/>
                  <a:pt x="2133" y="15379"/>
                </a:cubicBezTo>
              </a:path>
              <a:path w="2134" h="1613">
                <a:moveTo>
                  <a:pt x="1786" y="14163"/>
                </a:moveTo>
                <a:cubicBezTo>
                  <a:pt x="1746" y="14272"/>
                  <a:pt x="1694" y="14374"/>
                  <a:pt x="1662" y="14486"/>
                </a:cubicBezTo>
                <a:cubicBezTo>
                  <a:pt x="1630" y="14599"/>
                  <a:pt x="1598" y="14718"/>
                  <a:pt x="1588" y="14833"/>
                </a:cubicBezTo>
                <a:cubicBezTo>
                  <a:pt x="1576" y="14971"/>
                  <a:pt x="1599" y="15098"/>
                  <a:pt x="1637" y="15230"/>
                </a:cubicBezTo>
                <a:cubicBezTo>
                  <a:pt x="1668" y="15338"/>
                  <a:pt x="1736" y="15449"/>
                  <a:pt x="1836" y="15503"/>
                </a:cubicBezTo>
                <a:cubicBezTo>
                  <a:pt x="1901" y="15538"/>
                  <a:pt x="1989" y="15554"/>
                  <a:pt x="2059" y="15577"/>
                </a:cubicBezTo>
              </a:path>
              <a:path w="2134" h="1613">
                <a:moveTo>
                  <a:pt x="2629" y="14362"/>
                </a:moveTo>
                <a:cubicBezTo>
                  <a:pt x="2732" y="14336"/>
                  <a:pt x="2717" y="14362"/>
                  <a:pt x="2778" y="14436"/>
                </a:cubicBezTo>
                <a:cubicBezTo>
                  <a:pt x="2845" y="14517"/>
                  <a:pt x="2873" y="14606"/>
                  <a:pt x="2902" y="14709"/>
                </a:cubicBezTo>
                <a:cubicBezTo>
                  <a:pt x="2941" y="14847"/>
                  <a:pt x="2935" y="14971"/>
                  <a:pt x="2927" y="15106"/>
                </a:cubicBezTo>
                <a:cubicBezTo>
                  <a:pt x="2920" y="15226"/>
                  <a:pt x="2897" y="15339"/>
                  <a:pt x="2853" y="15453"/>
                </a:cubicBezTo>
                <a:cubicBezTo>
                  <a:pt x="2819" y="15540"/>
                  <a:pt x="2785" y="15625"/>
                  <a:pt x="2729" y="15701"/>
                </a:cubicBezTo>
                <a:cubicBezTo>
                  <a:pt x="2685" y="15759"/>
                  <a:pt x="2709" y="15702"/>
                  <a:pt x="2704" y="15677"/>
                </a:cubicBezTo>
              </a:path>
              <a:path w="2134" h="1613">
                <a:moveTo>
                  <a:pt x="3051" y="14163"/>
                </a:moveTo>
                <a:cubicBezTo>
                  <a:pt x="3076" y="14147"/>
                  <a:pt x="3100" y="14130"/>
                  <a:pt x="3125" y="14114"/>
                </a:cubicBezTo>
                <a:cubicBezTo>
                  <a:pt x="3158" y="14146"/>
                  <a:pt x="3202" y="14185"/>
                  <a:pt x="3175" y="14238"/>
                </a:cubicBezTo>
                <a:cubicBezTo>
                  <a:pt x="3160" y="14268"/>
                  <a:pt x="3122" y="14313"/>
                  <a:pt x="3101" y="14337"/>
                </a:cubicBezTo>
                <a:cubicBezTo>
                  <a:pt x="3054" y="14390"/>
                  <a:pt x="3087" y="14385"/>
                  <a:pt x="3101" y="14412"/>
                </a:cubicBezTo>
                <a:cubicBezTo>
                  <a:pt x="3118" y="14445"/>
                  <a:pt x="3175" y="14457"/>
                  <a:pt x="3225" y="14461"/>
                </a:cubicBezTo>
                <a:cubicBezTo>
                  <a:pt x="3258" y="14461"/>
                  <a:pt x="3274" y="14461"/>
                  <a:pt x="3299" y="14461"/>
                </a:cubicBezTo>
              </a:path>
              <a:path w="2134" h="1613">
                <a:moveTo>
                  <a:pt x="3621" y="14610"/>
                </a:moveTo>
                <a:cubicBezTo>
                  <a:pt x="3615" y="14704"/>
                  <a:pt x="3597" y="14789"/>
                  <a:pt x="3597" y="14883"/>
                </a:cubicBezTo>
                <a:cubicBezTo>
                  <a:pt x="3597" y="14964"/>
                  <a:pt x="3615" y="15009"/>
                  <a:pt x="3621" y="15081"/>
                </a:cubicBezTo>
                <a:cubicBezTo>
                  <a:pt x="3621" y="15106"/>
                  <a:pt x="3621" y="15114"/>
                  <a:pt x="3646" y="15106"/>
                </a:cubicBezTo>
              </a:path>
              <a:path w="2134" h="1613">
                <a:moveTo>
                  <a:pt x="3473" y="14808"/>
                </a:moveTo>
                <a:cubicBezTo>
                  <a:pt x="3613" y="14828"/>
                  <a:pt x="3637" y="14837"/>
                  <a:pt x="3721" y="148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00120" y="5143680"/>
            <a:ext cx="758880" cy="312480"/>
          </a:xfrm>
          <a:custGeom>
            <a:avLst/>
            <a:gdLst/>
            <a:ahLst/>
            <a:rect l="l" t="t" r="r" b="b"/>
            <a:pathLst>
              <a:path w="2110" h="869">
                <a:moveTo>
                  <a:pt x="4415" y="14808"/>
                </a:moveTo>
                <a:cubicBezTo>
                  <a:pt x="4406" y="14782"/>
                  <a:pt x="4396" y="14763"/>
                  <a:pt x="4366" y="14759"/>
                </a:cubicBezTo>
                <a:cubicBezTo>
                  <a:pt x="4322" y="14753"/>
                  <a:pt x="4298" y="14756"/>
                  <a:pt x="4266" y="14784"/>
                </a:cubicBezTo>
                <a:cubicBezTo>
                  <a:pt x="4217" y="14827"/>
                  <a:pt x="4227" y="14856"/>
                  <a:pt x="4192" y="14908"/>
                </a:cubicBezTo>
                <a:cubicBezTo>
                  <a:pt x="4157" y="14959"/>
                  <a:pt x="4170" y="14981"/>
                  <a:pt x="4192" y="15032"/>
                </a:cubicBezTo>
                <a:cubicBezTo>
                  <a:pt x="4224" y="15106"/>
                  <a:pt x="4263" y="15128"/>
                  <a:pt x="4341" y="15131"/>
                </a:cubicBezTo>
                <a:cubicBezTo>
                  <a:pt x="4366" y="15131"/>
                  <a:pt x="4390" y="15131"/>
                  <a:pt x="4415" y="15131"/>
                </a:cubicBezTo>
              </a:path>
              <a:path w="2110" h="869">
                <a:moveTo>
                  <a:pt x="4663" y="14784"/>
                </a:moveTo>
                <a:cubicBezTo>
                  <a:pt x="4613" y="14863"/>
                  <a:pt x="4589" y="14893"/>
                  <a:pt x="4589" y="14982"/>
                </a:cubicBezTo>
                <a:cubicBezTo>
                  <a:pt x="4589" y="15023"/>
                  <a:pt x="4622" y="15088"/>
                  <a:pt x="4663" y="15106"/>
                </a:cubicBezTo>
                <a:cubicBezTo>
                  <a:pt x="4726" y="15134"/>
                  <a:pt x="4736" y="15123"/>
                  <a:pt x="4787" y="15106"/>
                </a:cubicBezTo>
                <a:cubicBezTo>
                  <a:pt x="4833" y="15091"/>
                  <a:pt x="4844" y="15048"/>
                  <a:pt x="4862" y="15007"/>
                </a:cubicBezTo>
                <a:cubicBezTo>
                  <a:pt x="4885" y="14953"/>
                  <a:pt x="4873" y="14892"/>
                  <a:pt x="4837" y="14833"/>
                </a:cubicBezTo>
                <a:cubicBezTo>
                  <a:pt x="4808" y="14787"/>
                  <a:pt x="4735" y="14759"/>
                  <a:pt x="4713" y="14709"/>
                </a:cubicBezTo>
                <a:cubicBezTo>
                  <a:pt x="4713" y="14701"/>
                  <a:pt x="4713" y="14692"/>
                  <a:pt x="4713" y="14684"/>
                </a:cubicBezTo>
              </a:path>
              <a:path w="2110" h="869">
                <a:moveTo>
                  <a:pt x="5085" y="14660"/>
                </a:moveTo>
                <a:cubicBezTo>
                  <a:pt x="5052" y="14666"/>
                  <a:pt x="4978" y="14674"/>
                  <a:pt x="4961" y="14709"/>
                </a:cubicBezTo>
                <a:cubicBezTo>
                  <a:pt x="4943" y="14745"/>
                  <a:pt x="4973" y="14805"/>
                  <a:pt x="4986" y="14833"/>
                </a:cubicBezTo>
                <a:cubicBezTo>
                  <a:pt x="5018" y="14901"/>
                  <a:pt x="5080" y="14982"/>
                  <a:pt x="5085" y="15056"/>
                </a:cubicBezTo>
                <a:cubicBezTo>
                  <a:pt x="5088" y="15096"/>
                  <a:pt x="5083" y="15144"/>
                  <a:pt x="5060" y="15156"/>
                </a:cubicBezTo>
                <a:cubicBezTo>
                  <a:pt x="5024" y="15174"/>
                  <a:pt x="4993" y="15116"/>
                  <a:pt x="4986" y="15106"/>
                </a:cubicBezTo>
                <a:cubicBezTo>
                  <a:pt x="4958" y="15078"/>
                  <a:pt x="4949" y="15065"/>
                  <a:pt x="4961" y="15032"/>
                </a:cubicBezTo>
              </a:path>
              <a:path w="2110" h="869">
                <a:moveTo>
                  <a:pt x="5308" y="14362"/>
                </a:moveTo>
                <a:cubicBezTo>
                  <a:pt x="5346" y="14306"/>
                  <a:pt x="5341" y="14281"/>
                  <a:pt x="5383" y="14288"/>
                </a:cubicBezTo>
                <a:cubicBezTo>
                  <a:pt x="5423" y="14328"/>
                  <a:pt x="5485" y="14368"/>
                  <a:pt x="5457" y="14436"/>
                </a:cubicBezTo>
                <a:cubicBezTo>
                  <a:pt x="5446" y="14462"/>
                  <a:pt x="5421" y="14514"/>
                  <a:pt x="5407" y="14536"/>
                </a:cubicBezTo>
                <a:cubicBezTo>
                  <a:pt x="5369" y="14594"/>
                  <a:pt x="5387" y="14580"/>
                  <a:pt x="5432" y="14610"/>
                </a:cubicBezTo>
                <a:cubicBezTo>
                  <a:pt x="5469" y="14635"/>
                  <a:pt x="5507" y="14658"/>
                  <a:pt x="5556" y="14660"/>
                </a:cubicBezTo>
                <a:cubicBezTo>
                  <a:pt x="5589" y="14660"/>
                  <a:pt x="5622" y="14660"/>
                  <a:pt x="5655" y="14660"/>
                </a:cubicBezTo>
              </a:path>
              <a:path w="2110" h="869">
                <a:moveTo>
                  <a:pt x="5631" y="14932"/>
                </a:moveTo>
                <a:cubicBezTo>
                  <a:pt x="5705" y="14951"/>
                  <a:pt x="5712" y="14959"/>
                  <a:pt x="5755" y="14957"/>
                </a:cubicBezTo>
              </a:path>
              <a:path w="2110" h="869">
                <a:moveTo>
                  <a:pt x="5655" y="15081"/>
                </a:moveTo>
                <a:cubicBezTo>
                  <a:pt x="5752" y="15081"/>
                  <a:pt x="5838" y="15086"/>
                  <a:pt x="5928" y="15056"/>
                </a:cubicBezTo>
              </a:path>
              <a:path w="2110" h="869">
                <a:moveTo>
                  <a:pt x="6251" y="14412"/>
                </a:moveTo>
                <a:cubicBezTo>
                  <a:pt x="6217" y="14637"/>
                  <a:pt x="6208" y="14687"/>
                  <a:pt x="6251" y="14883"/>
                </a:cubicBezTo>
                <a:cubicBezTo>
                  <a:pt x="6271" y="14982"/>
                  <a:pt x="6279" y="14997"/>
                  <a:pt x="6276" y="150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47840" y="5554800"/>
            <a:ext cx="581040" cy="366480"/>
          </a:xfrm>
          <a:custGeom>
            <a:avLst/>
            <a:gdLst/>
            <a:ahLst/>
            <a:rect l="l" t="t" r="r" b="b"/>
            <a:pathLst>
              <a:path w="1613" h="1018">
                <a:moveTo>
                  <a:pt x="3969" y="16049"/>
                </a:moveTo>
                <a:cubicBezTo>
                  <a:pt x="3979" y="16010"/>
                  <a:pt x="3994" y="15994"/>
                  <a:pt x="3994" y="15949"/>
                </a:cubicBezTo>
                <a:cubicBezTo>
                  <a:pt x="3994" y="15922"/>
                  <a:pt x="3956" y="15859"/>
                  <a:pt x="3919" y="15875"/>
                </a:cubicBezTo>
                <a:cubicBezTo>
                  <a:pt x="3866" y="15899"/>
                  <a:pt x="3856" y="15926"/>
                  <a:pt x="3820" y="15974"/>
                </a:cubicBezTo>
                <a:cubicBezTo>
                  <a:pt x="3780" y="16027"/>
                  <a:pt x="3750" y="16058"/>
                  <a:pt x="3746" y="16123"/>
                </a:cubicBezTo>
                <a:cubicBezTo>
                  <a:pt x="3742" y="16189"/>
                  <a:pt x="3782" y="16267"/>
                  <a:pt x="3820" y="16321"/>
                </a:cubicBezTo>
                <a:cubicBezTo>
                  <a:pt x="3863" y="16382"/>
                  <a:pt x="3892" y="16408"/>
                  <a:pt x="3969" y="16421"/>
                </a:cubicBezTo>
                <a:cubicBezTo>
                  <a:pt x="3985" y="16421"/>
                  <a:pt x="4002" y="16421"/>
                  <a:pt x="4018" y="16421"/>
                </a:cubicBezTo>
              </a:path>
              <a:path w="1613" h="1018">
                <a:moveTo>
                  <a:pt x="4291" y="16073"/>
                </a:moveTo>
                <a:cubicBezTo>
                  <a:pt x="4291" y="16057"/>
                  <a:pt x="4291" y="16040"/>
                  <a:pt x="4291" y="16024"/>
                </a:cubicBezTo>
                <a:cubicBezTo>
                  <a:pt x="4281" y="16065"/>
                  <a:pt x="4257" y="16106"/>
                  <a:pt x="4242" y="16148"/>
                </a:cubicBezTo>
                <a:cubicBezTo>
                  <a:pt x="4214" y="16226"/>
                  <a:pt x="4214" y="16251"/>
                  <a:pt x="4242" y="16321"/>
                </a:cubicBezTo>
                <a:cubicBezTo>
                  <a:pt x="4275" y="16405"/>
                  <a:pt x="4279" y="16424"/>
                  <a:pt x="4366" y="16446"/>
                </a:cubicBezTo>
                <a:cubicBezTo>
                  <a:pt x="4398" y="16454"/>
                  <a:pt x="4449" y="16396"/>
                  <a:pt x="4465" y="16371"/>
                </a:cubicBezTo>
                <a:cubicBezTo>
                  <a:pt x="4491" y="16330"/>
                  <a:pt x="4524" y="16221"/>
                  <a:pt x="4514" y="16173"/>
                </a:cubicBezTo>
                <a:cubicBezTo>
                  <a:pt x="4501" y="16110"/>
                  <a:pt x="4484" y="16048"/>
                  <a:pt x="4440" y="15999"/>
                </a:cubicBezTo>
                <a:cubicBezTo>
                  <a:pt x="4415" y="15971"/>
                  <a:pt x="4346" y="15919"/>
                  <a:pt x="4316" y="15925"/>
                </a:cubicBezTo>
                <a:cubicBezTo>
                  <a:pt x="4298" y="15929"/>
                  <a:pt x="4257" y="15962"/>
                  <a:pt x="4242" y="15974"/>
                </a:cubicBezTo>
              </a:path>
              <a:path w="1613" h="1018">
                <a:moveTo>
                  <a:pt x="4787" y="16024"/>
                </a:moveTo>
                <a:cubicBezTo>
                  <a:pt x="4762" y="16007"/>
                  <a:pt x="4738" y="15991"/>
                  <a:pt x="4713" y="15974"/>
                </a:cubicBezTo>
                <a:cubicBezTo>
                  <a:pt x="4686" y="15983"/>
                  <a:pt x="4667" y="15992"/>
                  <a:pt x="4663" y="16024"/>
                </a:cubicBezTo>
                <a:cubicBezTo>
                  <a:pt x="4658" y="16067"/>
                  <a:pt x="4717" y="16112"/>
                  <a:pt x="4738" y="16148"/>
                </a:cubicBezTo>
                <a:cubicBezTo>
                  <a:pt x="4767" y="16197"/>
                  <a:pt x="4808" y="16265"/>
                  <a:pt x="4812" y="16321"/>
                </a:cubicBezTo>
                <a:cubicBezTo>
                  <a:pt x="4815" y="16370"/>
                  <a:pt x="4815" y="16422"/>
                  <a:pt x="4762" y="16446"/>
                </a:cubicBezTo>
                <a:cubicBezTo>
                  <a:pt x="4738" y="16457"/>
                  <a:pt x="4672" y="16450"/>
                  <a:pt x="4663" y="16421"/>
                </a:cubicBezTo>
                <a:cubicBezTo>
                  <a:pt x="4663" y="16362"/>
                  <a:pt x="4666" y="16336"/>
                  <a:pt x="4688" y="16297"/>
                </a:cubicBezTo>
              </a:path>
              <a:path w="1613" h="1018">
                <a:moveTo>
                  <a:pt x="4961" y="15478"/>
                </a:moveTo>
                <a:cubicBezTo>
                  <a:pt x="4989" y="15454"/>
                  <a:pt x="5036" y="15403"/>
                  <a:pt x="5085" y="15429"/>
                </a:cubicBezTo>
                <a:cubicBezTo>
                  <a:pt x="5112" y="15443"/>
                  <a:pt x="5138" y="15482"/>
                  <a:pt x="5159" y="15503"/>
                </a:cubicBezTo>
                <a:cubicBezTo>
                  <a:pt x="5128" y="15546"/>
                  <a:pt x="5125" y="15551"/>
                  <a:pt x="5085" y="15577"/>
                </a:cubicBezTo>
                <a:cubicBezTo>
                  <a:pt x="5058" y="15595"/>
                  <a:pt x="5014" y="15640"/>
                  <a:pt x="5035" y="15677"/>
                </a:cubicBezTo>
                <a:cubicBezTo>
                  <a:pt x="5058" y="15717"/>
                  <a:pt x="5123" y="15716"/>
                  <a:pt x="5159" y="15726"/>
                </a:cubicBezTo>
                <a:cubicBezTo>
                  <a:pt x="5184" y="15734"/>
                  <a:pt x="5209" y="15743"/>
                  <a:pt x="5234" y="15751"/>
                </a:cubicBezTo>
              </a:path>
              <a:path w="1613" h="1018">
                <a:moveTo>
                  <a:pt x="5234" y="16123"/>
                </a:moveTo>
                <a:cubicBezTo>
                  <a:pt x="5295" y="16141"/>
                  <a:pt x="5305" y="16148"/>
                  <a:pt x="5358" y="16148"/>
                </a:cubicBezTo>
              </a:path>
              <a:path w="1613" h="1018">
                <a:moveTo>
                  <a:pt x="5159" y="16346"/>
                </a:moveTo>
                <a:cubicBezTo>
                  <a:pt x="5278" y="16373"/>
                  <a:pt x="5256" y="16400"/>
                  <a:pt x="5308" y="163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5800" y="5680080"/>
            <a:ext cx="303120" cy="588960"/>
          </a:xfrm>
          <a:custGeom>
            <a:avLst/>
            <a:gdLst/>
            <a:ahLst/>
            <a:rect l="l" t="t" r="r" b="b"/>
            <a:pathLst>
              <a:path w="844" h="1638">
                <a:moveTo>
                  <a:pt x="6052" y="15875"/>
                </a:moveTo>
                <a:cubicBezTo>
                  <a:pt x="6052" y="15920"/>
                  <a:pt x="6031" y="15934"/>
                  <a:pt x="6028" y="15974"/>
                </a:cubicBezTo>
                <a:cubicBezTo>
                  <a:pt x="6023" y="16045"/>
                  <a:pt x="6019" y="16082"/>
                  <a:pt x="6003" y="16148"/>
                </a:cubicBezTo>
                <a:cubicBezTo>
                  <a:pt x="5999" y="16166"/>
                  <a:pt x="6003" y="16308"/>
                  <a:pt x="6003" y="16247"/>
                </a:cubicBezTo>
              </a:path>
              <a:path w="844" h="1638">
                <a:moveTo>
                  <a:pt x="6201" y="15776"/>
                </a:moveTo>
                <a:cubicBezTo>
                  <a:pt x="6227" y="15828"/>
                  <a:pt x="6188" y="15841"/>
                  <a:pt x="6176" y="15900"/>
                </a:cubicBezTo>
                <a:cubicBezTo>
                  <a:pt x="6167" y="15943"/>
                  <a:pt x="6137" y="16002"/>
                  <a:pt x="6152" y="16049"/>
                </a:cubicBezTo>
                <a:cubicBezTo>
                  <a:pt x="6170" y="16105"/>
                  <a:pt x="6184" y="16132"/>
                  <a:pt x="6226" y="16173"/>
                </a:cubicBezTo>
                <a:cubicBezTo>
                  <a:pt x="6258" y="16204"/>
                  <a:pt x="6282" y="16242"/>
                  <a:pt x="6325" y="16247"/>
                </a:cubicBezTo>
                <a:cubicBezTo>
                  <a:pt x="6360" y="16251"/>
                  <a:pt x="6361" y="16216"/>
                  <a:pt x="6375" y="16197"/>
                </a:cubicBezTo>
                <a:cubicBezTo>
                  <a:pt x="6391" y="16176"/>
                  <a:pt x="6431" y="16115"/>
                  <a:pt x="6375" y="16098"/>
                </a:cubicBezTo>
                <a:cubicBezTo>
                  <a:pt x="6316" y="16080"/>
                  <a:pt x="6287" y="16138"/>
                  <a:pt x="6251" y="16173"/>
                </a:cubicBezTo>
                <a:cubicBezTo>
                  <a:pt x="6213" y="16210"/>
                  <a:pt x="6228" y="16253"/>
                  <a:pt x="6201" y="16297"/>
                </a:cubicBezTo>
              </a:path>
              <a:path w="844" h="1638">
                <a:moveTo>
                  <a:pt x="5904" y="16346"/>
                </a:moveTo>
                <a:cubicBezTo>
                  <a:pt x="5957" y="16373"/>
                  <a:pt x="6027" y="16411"/>
                  <a:pt x="6077" y="16421"/>
                </a:cubicBezTo>
                <a:cubicBezTo>
                  <a:pt x="6150" y="16436"/>
                  <a:pt x="6226" y="16467"/>
                  <a:pt x="6300" y="16470"/>
                </a:cubicBezTo>
                <a:cubicBezTo>
                  <a:pt x="6333" y="16470"/>
                  <a:pt x="6367" y="16470"/>
                  <a:pt x="6400" y="16470"/>
                </a:cubicBezTo>
              </a:path>
              <a:path w="844" h="1638">
                <a:moveTo>
                  <a:pt x="6028" y="16644"/>
                </a:moveTo>
                <a:cubicBezTo>
                  <a:pt x="6045" y="16696"/>
                  <a:pt x="6056" y="16649"/>
                  <a:pt x="6102" y="16644"/>
                </a:cubicBezTo>
                <a:cubicBezTo>
                  <a:pt x="6131" y="16641"/>
                  <a:pt x="6211" y="16665"/>
                  <a:pt x="6226" y="16694"/>
                </a:cubicBezTo>
                <a:cubicBezTo>
                  <a:pt x="6242" y="16726"/>
                  <a:pt x="6265" y="16776"/>
                  <a:pt x="6251" y="16818"/>
                </a:cubicBezTo>
                <a:cubicBezTo>
                  <a:pt x="6219" y="16912"/>
                  <a:pt x="6175" y="16986"/>
                  <a:pt x="6077" y="17016"/>
                </a:cubicBezTo>
                <a:cubicBezTo>
                  <a:pt x="6035" y="17029"/>
                  <a:pt x="5998" y="17041"/>
                  <a:pt x="5953" y="17041"/>
                </a:cubicBezTo>
                <a:cubicBezTo>
                  <a:pt x="5945" y="17041"/>
                  <a:pt x="5936" y="17041"/>
                  <a:pt x="5928" y="17041"/>
                </a:cubicBezTo>
                <a:cubicBezTo>
                  <a:pt x="5959" y="16999"/>
                  <a:pt x="5956" y="16986"/>
                  <a:pt x="6003" y="16966"/>
                </a:cubicBezTo>
                <a:cubicBezTo>
                  <a:pt x="6030" y="16955"/>
                  <a:pt x="6092" y="16924"/>
                  <a:pt x="6127" y="16942"/>
                </a:cubicBezTo>
                <a:cubicBezTo>
                  <a:pt x="6156" y="16957"/>
                  <a:pt x="6208" y="17014"/>
                  <a:pt x="6226" y="17041"/>
                </a:cubicBezTo>
                <a:cubicBezTo>
                  <a:pt x="6269" y="17107"/>
                  <a:pt x="6300" y="17129"/>
                  <a:pt x="6375" y="17140"/>
                </a:cubicBezTo>
              </a:path>
              <a:path w="844" h="1638">
                <a:moveTo>
                  <a:pt x="6598" y="16768"/>
                </a:moveTo>
                <a:cubicBezTo>
                  <a:pt x="6650" y="16775"/>
                  <a:pt x="6670" y="16793"/>
                  <a:pt x="6722" y="16793"/>
                </a:cubicBezTo>
                <a:cubicBezTo>
                  <a:pt x="6747" y="16793"/>
                  <a:pt x="6755" y="16793"/>
                  <a:pt x="6747" y="16768"/>
                </a:cubicBezTo>
              </a:path>
              <a:path w="844" h="1638">
                <a:moveTo>
                  <a:pt x="6499" y="16867"/>
                </a:moveTo>
                <a:cubicBezTo>
                  <a:pt x="6488" y="16893"/>
                  <a:pt x="6455" y="16957"/>
                  <a:pt x="6474" y="16991"/>
                </a:cubicBezTo>
                <a:cubicBezTo>
                  <a:pt x="6489" y="17019"/>
                  <a:pt x="6514" y="17075"/>
                  <a:pt x="6548" y="17090"/>
                </a:cubicBezTo>
                <a:cubicBezTo>
                  <a:pt x="6576" y="17102"/>
                  <a:pt x="6619" y="17108"/>
                  <a:pt x="6648" y="17115"/>
                </a:cubicBezTo>
                <a:cubicBezTo>
                  <a:pt x="6648" y="17143"/>
                  <a:pt x="6650" y="17154"/>
                  <a:pt x="6672" y="17165"/>
                </a:cubicBezTo>
              </a:path>
              <a:path w="844" h="1638">
                <a:moveTo>
                  <a:pt x="6697" y="17363"/>
                </a:moveTo>
                <a:cubicBezTo>
                  <a:pt x="6659" y="17401"/>
                  <a:pt x="6651" y="17413"/>
                  <a:pt x="6598" y="17413"/>
                </a:cubicBezTo>
                <a:cubicBezTo>
                  <a:pt x="6543" y="17413"/>
                  <a:pt x="6524" y="17392"/>
                  <a:pt x="6474" y="173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90760" y="6340320"/>
            <a:ext cx="108000" cy="214560"/>
          </a:xfrm>
          <a:custGeom>
            <a:avLst/>
            <a:gdLst/>
            <a:ahLst/>
            <a:rect l="l" t="t" r="r" b="b"/>
            <a:pathLst>
              <a:path w="299" h="597">
                <a:moveTo>
                  <a:pt x="4366" y="17760"/>
                </a:moveTo>
                <a:cubicBezTo>
                  <a:pt x="4410" y="17753"/>
                  <a:pt x="4435" y="17753"/>
                  <a:pt x="4440" y="17711"/>
                </a:cubicBezTo>
                <a:cubicBezTo>
                  <a:pt x="4443" y="17686"/>
                  <a:pt x="4431" y="17621"/>
                  <a:pt x="4415" y="17611"/>
                </a:cubicBezTo>
                <a:cubicBezTo>
                  <a:pt x="4365" y="17578"/>
                  <a:pt x="4247" y="17628"/>
                  <a:pt x="4217" y="17661"/>
                </a:cubicBezTo>
                <a:cubicBezTo>
                  <a:pt x="4197" y="17683"/>
                  <a:pt x="4153" y="17800"/>
                  <a:pt x="4142" y="17835"/>
                </a:cubicBezTo>
                <a:cubicBezTo>
                  <a:pt x="4126" y="17885"/>
                  <a:pt x="4153" y="18010"/>
                  <a:pt x="4167" y="18058"/>
                </a:cubicBezTo>
                <a:cubicBezTo>
                  <a:pt x="4189" y="18135"/>
                  <a:pt x="4257" y="18190"/>
                  <a:pt x="4316" y="182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7960" y="6357960"/>
            <a:ext cx="822240" cy="401760"/>
          </a:xfrm>
          <a:custGeom>
            <a:avLst/>
            <a:gdLst/>
            <a:ahLst/>
            <a:rect l="l" t="t" r="r" b="b"/>
            <a:pathLst>
              <a:path w="2283" h="1117">
                <a:moveTo>
                  <a:pt x="4738" y="17785"/>
                </a:moveTo>
                <a:cubicBezTo>
                  <a:pt x="4746" y="17777"/>
                  <a:pt x="4754" y="17768"/>
                  <a:pt x="4762" y="17760"/>
                </a:cubicBezTo>
                <a:cubicBezTo>
                  <a:pt x="4751" y="17804"/>
                  <a:pt x="4699" y="17843"/>
                  <a:pt x="4688" y="17884"/>
                </a:cubicBezTo>
                <a:cubicBezTo>
                  <a:pt x="4668" y="17959"/>
                  <a:pt x="4655" y="18010"/>
                  <a:pt x="4688" y="18083"/>
                </a:cubicBezTo>
                <a:cubicBezTo>
                  <a:pt x="4708" y="18127"/>
                  <a:pt x="4737" y="18209"/>
                  <a:pt x="4787" y="18231"/>
                </a:cubicBezTo>
                <a:cubicBezTo>
                  <a:pt x="4819" y="18245"/>
                  <a:pt x="4848" y="18218"/>
                  <a:pt x="4862" y="18207"/>
                </a:cubicBezTo>
                <a:cubicBezTo>
                  <a:pt x="4922" y="18163"/>
                  <a:pt x="4916" y="18092"/>
                  <a:pt x="4936" y="18033"/>
                </a:cubicBezTo>
                <a:cubicBezTo>
                  <a:pt x="4948" y="17998"/>
                  <a:pt x="5000" y="17894"/>
                  <a:pt x="4986" y="17859"/>
                </a:cubicBezTo>
                <a:cubicBezTo>
                  <a:pt x="4965" y="17808"/>
                  <a:pt x="4947" y="17746"/>
                  <a:pt x="4887" y="17711"/>
                </a:cubicBezTo>
                <a:cubicBezTo>
                  <a:pt x="4825" y="17675"/>
                  <a:pt x="4842" y="17711"/>
                  <a:pt x="4787" y="17735"/>
                </a:cubicBezTo>
                <a:cubicBezTo>
                  <a:pt x="4749" y="17751"/>
                  <a:pt x="4716" y="17806"/>
                  <a:pt x="4738" y="17859"/>
                </a:cubicBezTo>
                <a:cubicBezTo>
                  <a:pt x="4746" y="17867"/>
                  <a:pt x="4754" y="17876"/>
                  <a:pt x="4762" y="17884"/>
                </a:cubicBezTo>
              </a:path>
              <a:path w="2283" h="1117">
                <a:moveTo>
                  <a:pt x="5333" y="17835"/>
                </a:moveTo>
                <a:cubicBezTo>
                  <a:pt x="5306" y="17799"/>
                  <a:pt x="5316" y="17796"/>
                  <a:pt x="5283" y="17785"/>
                </a:cubicBezTo>
                <a:cubicBezTo>
                  <a:pt x="5267" y="17807"/>
                  <a:pt x="5226" y="17855"/>
                  <a:pt x="5234" y="17884"/>
                </a:cubicBezTo>
                <a:cubicBezTo>
                  <a:pt x="5251" y="17943"/>
                  <a:pt x="5257" y="18002"/>
                  <a:pt x="5283" y="18058"/>
                </a:cubicBezTo>
                <a:cubicBezTo>
                  <a:pt x="5317" y="18130"/>
                  <a:pt x="5341" y="18207"/>
                  <a:pt x="5358" y="18281"/>
                </a:cubicBezTo>
                <a:cubicBezTo>
                  <a:pt x="5369" y="18327"/>
                  <a:pt x="5356" y="18384"/>
                  <a:pt x="5308" y="18405"/>
                </a:cubicBezTo>
                <a:cubicBezTo>
                  <a:pt x="5273" y="18420"/>
                  <a:pt x="5232" y="18400"/>
                  <a:pt x="5209" y="18380"/>
                </a:cubicBezTo>
                <a:cubicBezTo>
                  <a:pt x="5173" y="18348"/>
                  <a:pt x="5162" y="18303"/>
                  <a:pt x="5159" y="18256"/>
                </a:cubicBezTo>
                <a:cubicBezTo>
                  <a:pt x="5159" y="18240"/>
                  <a:pt x="5159" y="18223"/>
                  <a:pt x="5159" y="18207"/>
                </a:cubicBezTo>
              </a:path>
              <a:path w="2283" h="1117">
                <a:moveTo>
                  <a:pt x="5680" y="17934"/>
                </a:moveTo>
                <a:cubicBezTo>
                  <a:pt x="5736" y="17955"/>
                  <a:pt x="5770" y="17959"/>
                  <a:pt x="5829" y="17959"/>
                </a:cubicBezTo>
              </a:path>
              <a:path w="2283" h="1117">
                <a:moveTo>
                  <a:pt x="5606" y="18132"/>
                </a:moveTo>
                <a:cubicBezTo>
                  <a:pt x="5671" y="18181"/>
                  <a:pt x="5701" y="18196"/>
                  <a:pt x="5779" y="18207"/>
                </a:cubicBezTo>
              </a:path>
              <a:path w="2283" h="1117">
                <a:moveTo>
                  <a:pt x="6176" y="17661"/>
                </a:moveTo>
                <a:cubicBezTo>
                  <a:pt x="6167" y="17716"/>
                  <a:pt x="6148" y="17734"/>
                  <a:pt x="6102" y="17785"/>
                </a:cubicBezTo>
                <a:cubicBezTo>
                  <a:pt x="6078" y="17812"/>
                  <a:pt x="6040" y="17824"/>
                  <a:pt x="6052" y="17859"/>
                </a:cubicBezTo>
                <a:cubicBezTo>
                  <a:pt x="6080" y="17887"/>
                  <a:pt x="6089" y="17901"/>
                  <a:pt x="6077" y="17934"/>
                </a:cubicBezTo>
                <a:cubicBezTo>
                  <a:pt x="6124" y="17934"/>
                  <a:pt x="6140" y="17951"/>
                  <a:pt x="6176" y="17959"/>
                </a:cubicBezTo>
                <a:cubicBezTo>
                  <a:pt x="6203" y="17965"/>
                  <a:pt x="6246" y="17959"/>
                  <a:pt x="6276" y="17959"/>
                </a:cubicBezTo>
              </a:path>
              <a:path w="2283" h="1117">
                <a:moveTo>
                  <a:pt x="6424" y="17661"/>
                </a:moveTo>
                <a:cubicBezTo>
                  <a:pt x="6401" y="17745"/>
                  <a:pt x="6379" y="17857"/>
                  <a:pt x="6350" y="17934"/>
                </a:cubicBezTo>
                <a:cubicBezTo>
                  <a:pt x="6324" y="18003"/>
                  <a:pt x="6291" y="18051"/>
                  <a:pt x="6276" y="18132"/>
                </a:cubicBezTo>
                <a:cubicBezTo>
                  <a:pt x="6270" y="18163"/>
                  <a:pt x="6259" y="18177"/>
                  <a:pt x="6251" y="18207"/>
                </a:cubicBezTo>
              </a:path>
              <a:path w="2283" h="1117">
                <a:moveTo>
                  <a:pt x="6672" y="17760"/>
                </a:moveTo>
                <a:cubicBezTo>
                  <a:pt x="6663" y="17886"/>
                  <a:pt x="6637" y="17897"/>
                  <a:pt x="6573" y="18008"/>
                </a:cubicBezTo>
                <a:cubicBezTo>
                  <a:pt x="6527" y="18089"/>
                  <a:pt x="6462" y="18172"/>
                  <a:pt x="6424" y="18256"/>
                </a:cubicBezTo>
                <a:cubicBezTo>
                  <a:pt x="6396" y="18317"/>
                  <a:pt x="6340" y="18414"/>
                  <a:pt x="6325" y="18479"/>
                </a:cubicBezTo>
                <a:cubicBezTo>
                  <a:pt x="6313" y="18532"/>
                  <a:pt x="6306" y="18608"/>
                  <a:pt x="6350" y="18579"/>
                </a:cubicBezTo>
              </a:path>
              <a:path w="2283" h="1117">
                <a:moveTo>
                  <a:pt x="6772" y="18107"/>
                </a:moveTo>
                <a:cubicBezTo>
                  <a:pt x="6877" y="18107"/>
                  <a:pt x="6885" y="18086"/>
                  <a:pt x="6945" y="18132"/>
                </a:cubicBezTo>
              </a:path>
              <a:path w="2283" h="1117">
                <a:moveTo>
                  <a:pt x="6796" y="18132"/>
                </a:moveTo>
                <a:cubicBezTo>
                  <a:pt x="6709" y="18183"/>
                  <a:pt x="6734" y="18201"/>
                  <a:pt x="6697" y="18281"/>
                </a:cubicBezTo>
                <a:cubicBezTo>
                  <a:pt x="6679" y="18320"/>
                  <a:pt x="6644" y="18358"/>
                  <a:pt x="6697" y="18405"/>
                </a:cubicBezTo>
                <a:cubicBezTo>
                  <a:pt x="6704" y="18411"/>
                  <a:pt x="6786" y="18429"/>
                  <a:pt x="6796" y="18430"/>
                </a:cubicBezTo>
                <a:cubicBezTo>
                  <a:pt x="6824" y="18433"/>
                  <a:pt x="6887" y="18472"/>
                  <a:pt x="6896" y="18504"/>
                </a:cubicBezTo>
                <a:cubicBezTo>
                  <a:pt x="6911" y="18555"/>
                  <a:pt x="6904" y="18641"/>
                  <a:pt x="6871" y="18678"/>
                </a:cubicBezTo>
                <a:cubicBezTo>
                  <a:pt x="6841" y="18712"/>
                  <a:pt x="6842" y="18737"/>
                  <a:pt x="6796" y="18752"/>
                </a:cubicBezTo>
                <a:cubicBezTo>
                  <a:pt x="6759" y="18764"/>
                  <a:pt x="6741" y="18777"/>
                  <a:pt x="6697" y="18777"/>
                </a:cubicBezTo>
                <a:cubicBezTo>
                  <a:pt x="6623" y="18777"/>
                  <a:pt x="6596" y="18752"/>
                  <a:pt x="6524" y="187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3240" y="2571840"/>
            <a:ext cx="46080" cy="1017360"/>
          </a:xfrm>
          <a:custGeom>
            <a:avLst/>
            <a:gdLst/>
            <a:ahLst/>
            <a:rect l="l" t="t" r="r" b="b"/>
            <a:pathLst>
              <a:path w="125" h="2828">
                <a:moveTo>
                  <a:pt x="1761" y="7144"/>
                </a:moveTo>
                <a:cubicBezTo>
                  <a:pt x="1817" y="7255"/>
                  <a:pt x="1836" y="7324"/>
                  <a:pt x="1860" y="7441"/>
                </a:cubicBezTo>
                <a:cubicBezTo>
                  <a:pt x="1886" y="7567"/>
                  <a:pt x="1885" y="7682"/>
                  <a:pt x="1885" y="7813"/>
                </a:cubicBezTo>
                <a:cubicBezTo>
                  <a:pt x="1885" y="8179"/>
                  <a:pt x="1882" y="8543"/>
                  <a:pt x="1860" y="8905"/>
                </a:cubicBezTo>
                <a:cubicBezTo>
                  <a:pt x="1850" y="9070"/>
                  <a:pt x="1847" y="9238"/>
                  <a:pt x="1836" y="9401"/>
                </a:cubicBezTo>
                <a:cubicBezTo>
                  <a:pt x="1824" y="9570"/>
                  <a:pt x="1837" y="9735"/>
                  <a:pt x="1811" y="9897"/>
                </a:cubicBezTo>
                <a:cubicBezTo>
                  <a:pt x="1807" y="9921"/>
                  <a:pt x="1814" y="9947"/>
                  <a:pt x="1811" y="99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7840" y="3081240"/>
            <a:ext cx="1117440" cy="88920"/>
          </a:xfrm>
          <a:custGeom>
            <a:avLst/>
            <a:gdLst/>
            <a:ahLst/>
            <a:rect l="l" t="t" r="r" b="b"/>
            <a:pathLst>
              <a:path w="3102" h="249">
                <a:moveTo>
                  <a:pt x="496" y="8781"/>
                </a:moveTo>
                <a:cubicBezTo>
                  <a:pt x="589" y="8787"/>
                  <a:pt x="677" y="8803"/>
                  <a:pt x="769" y="8806"/>
                </a:cubicBezTo>
                <a:cubicBezTo>
                  <a:pt x="892" y="8811"/>
                  <a:pt x="1015" y="8781"/>
                  <a:pt x="1141" y="8781"/>
                </a:cubicBezTo>
                <a:cubicBezTo>
                  <a:pt x="1318" y="8781"/>
                  <a:pt x="1510" y="8772"/>
                  <a:pt x="1687" y="8756"/>
                </a:cubicBezTo>
                <a:cubicBezTo>
                  <a:pt x="1903" y="8736"/>
                  <a:pt x="2115" y="8743"/>
                  <a:pt x="2332" y="8731"/>
                </a:cubicBezTo>
                <a:cubicBezTo>
                  <a:pt x="2561" y="8718"/>
                  <a:pt x="2822" y="8710"/>
                  <a:pt x="3051" y="8682"/>
                </a:cubicBezTo>
                <a:cubicBezTo>
                  <a:pt x="3170" y="8667"/>
                  <a:pt x="3305" y="8679"/>
                  <a:pt x="3423" y="8657"/>
                </a:cubicBezTo>
                <a:cubicBezTo>
                  <a:pt x="3429" y="8656"/>
                  <a:pt x="3598" y="8610"/>
                  <a:pt x="3597" y="8607"/>
                </a:cubicBezTo>
                <a:cubicBezTo>
                  <a:pt x="3567" y="8577"/>
                  <a:pt x="3553" y="8566"/>
                  <a:pt x="3522" y="85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12880" y="2697120"/>
            <a:ext cx="285840" cy="366840"/>
          </a:xfrm>
          <a:custGeom>
            <a:avLst/>
            <a:gdLst/>
            <a:ahLst/>
            <a:rect l="l" t="t" r="r" b="b"/>
            <a:pathLst>
              <a:path w="795" h="1018">
                <a:moveTo>
                  <a:pt x="2456" y="7938"/>
                </a:moveTo>
                <a:cubicBezTo>
                  <a:pt x="2447" y="8036"/>
                  <a:pt x="2413" y="8115"/>
                  <a:pt x="2381" y="8210"/>
                </a:cubicBezTo>
                <a:cubicBezTo>
                  <a:pt x="2359" y="8276"/>
                  <a:pt x="2334" y="8375"/>
                  <a:pt x="2307" y="8434"/>
                </a:cubicBezTo>
                <a:cubicBezTo>
                  <a:pt x="2292" y="8467"/>
                  <a:pt x="2272" y="8490"/>
                  <a:pt x="2257" y="8508"/>
                </a:cubicBezTo>
                <a:cubicBezTo>
                  <a:pt x="2257" y="8436"/>
                  <a:pt x="2273" y="8376"/>
                  <a:pt x="2282" y="8310"/>
                </a:cubicBezTo>
                <a:cubicBezTo>
                  <a:pt x="2293" y="8226"/>
                  <a:pt x="2286" y="8144"/>
                  <a:pt x="2307" y="8062"/>
                </a:cubicBezTo>
                <a:cubicBezTo>
                  <a:pt x="2328" y="7980"/>
                  <a:pt x="2336" y="7894"/>
                  <a:pt x="2356" y="7813"/>
                </a:cubicBezTo>
                <a:cubicBezTo>
                  <a:pt x="2373" y="7746"/>
                  <a:pt x="2398" y="7649"/>
                  <a:pt x="2431" y="7590"/>
                </a:cubicBezTo>
                <a:cubicBezTo>
                  <a:pt x="2472" y="7517"/>
                  <a:pt x="2491" y="7511"/>
                  <a:pt x="2555" y="7491"/>
                </a:cubicBezTo>
                <a:cubicBezTo>
                  <a:pt x="2594" y="7479"/>
                  <a:pt x="2627" y="7494"/>
                  <a:pt x="2654" y="7516"/>
                </a:cubicBezTo>
                <a:cubicBezTo>
                  <a:pt x="2711" y="7562"/>
                  <a:pt x="2713" y="7627"/>
                  <a:pt x="2729" y="7689"/>
                </a:cubicBezTo>
                <a:cubicBezTo>
                  <a:pt x="2751" y="7776"/>
                  <a:pt x="2797" y="7855"/>
                  <a:pt x="2828" y="7938"/>
                </a:cubicBezTo>
                <a:cubicBezTo>
                  <a:pt x="2864" y="8033"/>
                  <a:pt x="2907" y="8120"/>
                  <a:pt x="2952" y="8210"/>
                </a:cubicBezTo>
                <a:cubicBezTo>
                  <a:pt x="2971" y="8247"/>
                  <a:pt x="3005" y="8306"/>
                  <a:pt x="3026" y="8334"/>
                </a:cubicBezTo>
                <a:cubicBezTo>
                  <a:pt x="3049" y="8357"/>
                  <a:pt x="3057" y="8361"/>
                  <a:pt x="3051" y="8384"/>
                </a:cubicBezTo>
                <a:cubicBezTo>
                  <a:pt x="2997" y="8330"/>
                  <a:pt x="2977" y="8315"/>
                  <a:pt x="2902" y="82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92080" y="2874960"/>
            <a:ext cx="189000" cy="36360"/>
          </a:xfrm>
          <a:custGeom>
            <a:avLst/>
            <a:gdLst/>
            <a:ahLst/>
            <a:rect l="l" t="t" r="r" b="b"/>
            <a:pathLst>
              <a:path w="522" h="100">
                <a:moveTo>
                  <a:pt x="2480" y="8086"/>
                </a:moveTo>
                <a:cubicBezTo>
                  <a:pt x="2556" y="8059"/>
                  <a:pt x="2622" y="8040"/>
                  <a:pt x="2704" y="8037"/>
                </a:cubicBezTo>
                <a:cubicBezTo>
                  <a:pt x="2763" y="8035"/>
                  <a:pt x="2928" y="8039"/>
                  <a:pt x="2977" y="8012"/>
                </a:cubicBezTo>
                <a:cubicBezTo>
                  <a:pt x="2977" y="7987"/>
                  <a:pt x="2977" y="7979"/>
                  <a:pt x="3001" y="79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3120" y="2768760"/>
            <a:ext cx="162000" cy="276120"/>
          </a:xfrm>
          <a:custGeom>
            <a:avLst/>
            <a:gdLst/>
            <a:ahLst/>
            <a:rect l="l" t="t" r="r" b="b"/>
            <a:pathLst>
              <a:path w="448" h="770">
                <a:moveTo>
                  <a:pt x="1290" y="7689"/>
                </a:moveTo>
                <a:cubicBezTo>
                  <a:pt x="1186" y="7718"/>
                  <a:pt x="1154" y="7731"/>
                  <a:pt x="1067" y="7789"/>
                </a:cubicBezTo>
                <a:cubicBezTo>
                  <a:pt x="1008" y="7828"/>
                  <a:pt x="946" y="7865"/>
                  <a:pt x="893" y="7913"/>
                </a:cubicBezTo>
                <a:cubicBezTo>
                  <a:pt x="849" y="7953"/>
                  <a:pt x="824" y="8006"/>
                  <a:pt x="893" y="8037"/>
                </a:cubicBezTo>
                <a:cubicBezTo>
                  <a:pt x="954" y="8064"/>
                  <a:pt x="1027" y="8081"/>
                  <a:pt x="1091" y="8111"/>
                </a:cubicBezTo>
                <a:cubicBezTo>
                  <a:pt x="1143" y="8136"/>
                  <a:pt x="1239" y="8177"/>
                  <a:pt x="1265" y="8235"/>
                </a:cubicBezTo>
                <a:cubicBezTo>
                  <a:pt x="1279" y="8266"/>
                  <a:pt x="1265" y="8317"/>
                  <a:pt x="1240" y="8334"/>
                </a:cubicBezTo>
                <a:cubicBezTo>
                  <a:pt x="1182" y="8374"/>
                  <a:pt x="1080" y="8383"/>
                  <a:pt x="1017" y="8409"/>
                </a:cubicBezTo>
                <a:cubicBezTo>
                  <a:pt x="971" y="8428"/>
                  <a:pt x="937" y="8448"/>
                  <a:pt x="893" y="84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0120" y="3375000"/>
            <a:ext cx="19080" cy="1890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943" y="9376"/>
                </a:moveTo>
                <a:cubicBezTo>
                  <a:pt x="970" y="9460"/>
                  <a:pt x="967" y="9534"/>
                  <a:pt x="967" y="9624"/>
                </a:cubicBezTo>
                <a:cubicBezTo>
                  <a:pt x="967" y="9656"/>
                  <a:pt x="977" y="9914"/>
                  <a:pt x="943" y="9897"/>
                </a:cubicBezTo>
                <a:cubicBezTo>
                  <a:pt x="935" y="9889"/>
                  <a:pt x="926" y="9880"/>
                  <a:pt x="918" y="98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4840" y="3295800"/>
            <a:ext cx="384120" cy="44280"/>
          </a:xfrm>
          <a:custGeom>
            <a:avLst/>
            <a:gdLst/>
            <a:ahLst/>
            <a:rect l="l" t="t" r="r" b="b"/>
            <a:pathLst>
              <a:path w="1067" h="125">
                <a:moveTo>
                  <a:pt x="571" y="9277"/>
                </a:moveTo>
                <a:cubicBezTo>
                  <a:pt x="702" y="9277"/>
                  <a:pt x="816" y="9263"/>
                  <a:pt x="943" y="9252"/>
                </a:cubicBezTo>
                <a:cubicBezTo>
                  <a:pt x="1069" y="9241"/>
                  <a:pt x="1189" y="9227"/>
                  <a:pt x="1315" y="9203"/>
                </a:cubicBezTo>
                <a:cubicBezTo>
                  <a:pt x="1425" y="9182"/>
                  <a:pt x="1528" y="9174"/>
                  <a:pt x="1637" y="91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8240" y="3286080"/>
            <a:ext cx="285840" cy="241200"/>
          </a:xfrm>
          <a:custGeom>
            <a:avLst/>
            <a:gdLst/>
            <a:ahLst/>
            <a:rect l="l" t="t" r="r" b="b"/>
            <a:pathLst>
              <a:path w="795" h="671">
                <a:moveTo>
                  <a:pt x="2604" y="9203"/>
                </a:moveTo>
                <a:cubicBezTo>
                  <a:pt x="2591" y="9163"/>
                  <a:pt x="2565" y="9176"/>
                  <a:pt x="2530" y="9153"/>
                </a:cubicBezTo>
                <a:cubicBezTo>
                  <a:pt x="2502" y="9134"/>
                  <a:pt x="2471" y="9114"/>
                  <a:pt x="2431" y="9128"/>
                </a:cubicBezTo>
                <a:cubicBezTo>
                  <a:pt x="2367" y="9151"/>
                  <a:pt x="2297" y="9196"/>
                  <a:pt x="2257" y="9252"/>
                </a:cubicBezTo>
                <a:cubicBezTo>
                  <a:pt x="2208" y="9321"/>
                  <a:pt x="2150" y="9387"/>
                  <a:pt x="2133" y="9475"/>
                </a:cubicBezTo>
                <a:cubicBezTo>
                  <a:pt x="2122" y="9530"/>
                  <a:pt x="2123" y="9609"/>
                  <a:pt x="2158" y="9649"/>
                </a:cubicBezTo>
                <a:cubicBezTo>
                  <a:pt x="2230" y="9732"/>
                  <a:pt x="2286" y="9726"/>
                  <a:pt x="2381" y="9748"/>
                </a:cubicBezTo>
                <a:cubicBezTo>
                  <a:pt x="2484" y="9772"/>
                  <a:pt x="2572" y="9773"/>
                  <a:pt x="2679" y="9773"/>
                </a:cubicBezTo>
                <a:cubicBezTo>
                  <a:pt x="2763" y="9773"/>
                  <a:pt x="2823" y="9792"/>
                  <a:pt x="2902" y="9798"/>
                </a:cubicBezTo>
                <a:cubicBezTo>
                  <a:pt x="2968" y="9803"/>
                  <a:pt x="2886" y="9798"/>
                  <a:pt x="2877" y="97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8840" y="2643120"/>
            <a:ext cx="376200" cy="420840"/>
          </a:xfrm>
          <a:custGeom>
            <a:avLst/>
            <a:gdLst/>
            <a:ahLst/>
            <a:rect l="l" t="t" r="r" b="b"/>
            <a:pathLst>
              <a:path w="1043" h="1167">
                <a:moveTo>
                  <a:pt x="1761" y="7342"/>
                </a:moveTo>
                <a:cubicBezTo>
                  <a:pt x="1740" y="7399"/>
                  <a:pt x="1721" y="7461"/>
                  <a:pt x="1687" y="7516"/>
                </a:cubicBezTo>
                <a:cubicBezTo>
                  <a:pt x="1626" y="7616"/>
                  <a:pt x="1548" y="7734"/>
                  <a:pt x="1463" y="7813"/>
                </a:cubicBezTo>
                <a:cubicBezTo>
                  <a:pt x="1354" y="7914"/>
                  <a:pt x="1233" y="8019"/>
                  <a:pt x="1116" y="8111"/>
                </a:cubicBezTo>
                <a:cubicBezTo>
                  <a:pt x="1031" y="8178"/>
                  <a:pt x="970" y="8257"/>
                  <a:pt x="893" y="8334"/>
                </a:cubicBezTo>
                <a:cubicBezTo>
                  <a:pt x="837" y="8390"/>
                  <a:pt x="801" y="8432"/>
                  <a:pt x="744" y="8483"/>
                </a:cubicBezTo>
                <a:cubicBezTo>
                  <a:pt x="718" y="8507"/>
                  <a:pt x="735" y="8540"/>
                  <a:pt x="719" y="84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8840" y="2687760"/>
            <a:ext cx="312840" cy="376200"/>
          </a:xfrm>
          <a:custGeom>
            <a:avLst/>
            <a:gdLst/>
            <a:ahLst/>
            <a:rect l="l" t="t" r="r" b="b"/>
            <a:pathLst>
              <a:path w="870" h="1043">
                <a:moveTo>
                  <a:pt x="719" y="7491"/>
                </a:moveTo>
                <a:cubicBezTo>
                  <a:pt x="727" y="7493"/>
                  <a:pt x="759" y="7499"/>
                  <a:pt x="794" y="7565"/>
                </a:cubicBezTo>
                <a:cubicBezTo>
                  <a:pt x="842" y="7655"/>
                  <a:pt x="881" y="7757"/>
                  <a:pt x="943" y="7838"/>
                </a:cubicBezTo>
                <a:cubicBezTo>
                  <a:pt x="1006" y="7920"/>
                  <a:pt x="1046" y="8041"/>
                  <a:pt x="1116" y="8111"/>
                </a:cubicBezTo>
                <a:cubicBezTo>
                  <a:pt x="1208" y="8203"/>
                  <a:pt x="1304" y="8306"/>
                  <a:pt x="1414" y="8384"/>
                </a:cubicBezTo>
                <a:cubicBezTo>
                  <a:pt x="1439" y="8401"/>
                  <a:pt x="1534" y="8514"/>
                  <a:pt x="1563" y="8508"/>
                </a:cubicBezTo>
                <a:cubicBezTo>
                  <a:pt x="1591" y="8508"/>
                  <a:pt x="1597" y="8506"/>
                  <a:pt x="1563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8240" y="3251160"/>
            <a:ext cx="347760" cy="303120"/>
          </a:xfrm>
          <a:custGeom>
            <a:avLst/>
            <a:gdLst/>
            <a:ahLst/>
            <a:rect l="l" t="t" r="r" b="b"/>
            <a:pathLst>
              <a:path w="969" h="844">
                <a:moveTo>
                  <a:pt x="2133" y="9029"/>
                </a:moveTo>
                <a:cubicBezTo>
                  <a:pt x="2180" y="9062"/>
                  <a:pt x="2210" y="9103"/>
                  <a:pt x="2257" y="9153"/>
                </a:cubicBezTo>
                <a:cubicBezTo>
                  <a:pt x="2331" y="9232"/>
                  <a:pt x="2409" y="9297"/>
                  <a:pt x="2480" y="9376"/>
                </a:cubicBezTo>
                <a:cubicBezTo>
                  <a:pt x="2577" y="9483"/>
                  <a:pt x="2690" y="9586"/>
                  <a:pt x="2803" y="9674"/>
                </a:cubicBezTo>
                <a:cubicBezTo>
                  <a:pt x="2869" y="9725"/>
                  <a:pt x="2935" y="9774"/>
                  <a:pt x="3001" y="9823"/>
                </a:cubicBezTo>
                <a:cubicBezTo>
                  <a:pt x="3033" y="9847"/>
                  <a:pt x="3045" y="9847"/>
                  <a:pt x="3076" y="9872"/>
                </a:cubicBezTo>
                <a:cubicBezTo>
                  <a:pt x="3082" y="9823"/>
                  <a:pt x="3080" y="9828"/>
                  <a:pt x="3101" y="97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7880" y="3205080"/>
            <a:ext cx="474480" cy="393840"/>
          </a:xfrm>
          <a:custGeom>
            <a:avLst/>
            <a:gdLst/>
            <a:ahLst/>
            <a:rect l="l" t="t" r="r" b="b"/>
            <a:pathLst>
              <a:path w="1316" h="1092">
                <a:moveTo>
                  <a:pt x="3200" y="8905"/>
                </a:moveTo>
                <a:cubicBezTo>
                  <a:pt x="3131" y="8954"/>
                  <a:pt x="3067" y="8994"/>
                  <a:pt x="3001" y="9054"/>
                </a:cubicBezTo>
                <a:cubicBezTo>
                  <a:pt x="2892" y="9154"/>
                  <a:pt x="2773" y="9238"/>
                  <a:pt x="2654" y="9327"/>
                </a:cubicBezTo>
                <a:cubicBezTo>
                  <a:pt x="2541" y="9412"/>
                  <a:pt x="2443" y="9513"/>
                  <a:pt x="2332" y="9599"/>
                </a:cubicBezTo>
                <a:cubicBezTo>
                  <a:pt x="2250" y="9663"/>
                  <a:pt x="2167" y="9738"/>
                  <a:pt x="2084" y="9798"/>
                </a:cubicBezTo>
                <a:cubicBezTo>
                  <a:pt x="2029" y="9838"/>
                  <a:pt x="1988" y="9876"/>
                  <a:pt x="1935" y="9922"/>
                </a:cubicBezTo>
                <a:cubicBezTo>
                  <a:pt x="1909" y="9945"/>
                  <a:pt x="1901" y="9935"/>
                  <a:pt x="1885" y="9971"/>
                </a:cubicBezTo>
                <a:cubicBezTo>
                  <a:pt x="1885" y="9979"/>
                  <a:pt x="1885" y="9988"/>
                  <a:pt x="1885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3920" y="3295800"/>
            <a:ext cx="374400" cy="285480"/>
          </a:xfrm>
          <a:custGeom>
            <a:avLst/>
            <a:gdLst/>
            <a:ahLst/>
            <a:rect l="l" t="t" r="r" b="b"/>
            <a:pathLst>
              <a:path w="1043" h="795">
                <a:moveTo>
                  <a:pt x="1662" y="9153"/>
                </a:moveTo>
                <a:cubicBezTo>
                  <a:pt x="1637" y="9216"/>
                  <a:pt x="1623" y="9256"/>
                  <a:pt x="1563" y="9302"/>
                </a:cubicBezTo>
                <a:cubicBezTo>
                  <a:pt x="1464" y="9378"/>
                  <a:pt x="1347" y="9461"/>
                  <a:pt x="1240" y="9525"/>
                </a:cubicBezTo>
                <a:cubicBezTo>
                  <a:pt x="1134" y="9589"/>
                  <a:pt x="1041" y="9650"/>
                  <a:pt x="943" y="9723"/>
                </a:cubicBezTo>
                <a:cubicBezTo>
                  <a:pt x="866" y="9781"/>
                  <a:pt x="773" y="9816"/>
                  <a:pt x="695" y="9872"/>
                </a:cubicBezTo>
                <a:cubicBezTo>
                  <a:pt x="662" y="9895"/>
                  <a:pt x="592" y="9975"/>
                  <a:pt x="620" y="9947"/>
                </a:cubicBezTo>
                <a:cubicBezTo>
                  <a:pt x="663" y="9904"/>
                  <a:pt x="678" y="9827"/>
                  <a:pt x="719" y="97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3224160"/>
            <a:ext cx="249120" cy="320760"/>
          </a:xfrm>
          <a:custGeom>
            <a:avLst/>
            <a:gdLst/>
            <a:ahLst/>
            <a:rect l="l" t="t" r="r" b="b"/>
            <a:pathLst>
              <a:path w="695" h="894">
                <a:moveTo>
                  <a:pt x="943" y="8954"/>
                </a:moveTo>
                <a:cubicBezTo>
                  <a:pt x="972" y="9043"/>
                  <a:pt x="998" y="9145"/>
                  <a:pt x="1042" y="9227"/>
                </a:cubicBezTo>
                <a:cubicBezTo>
                  <a:pt x="1101" y="9337"/>
                  <a:pt x="1190" y="9406"/>
                  <a:pt x="1265" y="9500"/>
                </a:cubicBezTo>
                <a:cubicBezTo>
                  <a:pt x="1333" y="9585"/>
                  <a:pt x="1423" y="9640"/>
                  <a:pt x="1488" y="9723"/>
                </a:cubicBezTo>
                <a:cubicBezTo>
                  <a:pt x="1528" y="9775"/>
                  <a:pt x="1559" y="9801"/>
                  <a:pt x="1612" y="9847"/>
                </a:cubicBezTo>
                <a:cubicBezTo>
                  <a:pt x="1621" y="9803"/>
                  <a:pt x="1631" y="9769"/>
                  <a:pt x="1637" y="97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2.  Cot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-5 and sin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</a:t>
            </a:r>
            <a:r>
              <a:rPr b="0" lang="en-US" sz="4400" spc="-1" strike="noStrike" baseline="30000">
                <a:solidFill>
                  <a:srgbClr val="dfc08d"/>
                </a:solidFill>
                <a:latin typeface="Symbol"/>
                <a:ea typeface="Symbol"/>
              </a:rPr>
              <a:t></a:t>
            </a:r>
            <a:r>
              <a:rPr b="0" lang="en-US" sz="4400" spc="-1" strike="noStrike" baseline="30000">
                <a:solidFill>
                  <a:srgbClr val="dfc08d"/>
                </a:solidFill>
                <a:latin typeface="Arial"/>
                <a:ea typeface="Arial"/>
              </a:rPr>
              <a:t>26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/</a:t>
            </a:r>
            <a:r>
              <a:rPr b="0" lang="en-US" sz="4400" spc="-1" strike="noStrike" baseline="-25000">
                <a:solidFill>
                  <a:srgbClr val="dfc08d"/>
                </a:solidFill>
                <a:latin typeface="Arial"/>
                <a:ea typeface="Arial"/>
              </a:rPr>
              <a:t>26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57880" y="2205000"/>
            <a:ext cx="1822320" cy="474840"/>
          </a:xfrm>
          <a:custGeom>
            <a:avLst/>
            <a:gdLst/>
            <a:ahLst/>
            <a:rect l="l" t="t" r="r" b="b"/>
            <a:pathLst>
              <a:path w="5061" h="1315">
                <a:moveTo>
                  <a:pt x="15354" y="6648"/>
                </a:moveTo>
                <a:cubicBezTo>
                  <a:pt x="15354" y="6689"/>
                  <a:pt x="15362" y="6705"/>
                  <a:pt x="15329" y="6697"/>
                </a:cubicBezTo>
                <a:cubicBezTo>
                  <a:pt x="15329" y="6666"/>
                  <a:pt x="15321" y="6632"/>
                  <a:pt x="15304" y="6623"/>
                </a:cubicBezTo>
                <a:cubicBezTo>
                  <a:pt x="15272" y="6607"/>
                  <a:pt x="15280" y="6598"/>
                  <a:pt x="15230" y="6598"/>
                </a:cubicBezTo>
                <a:cubicBezTo>
                  <a:pt x="15158" y="6598"/>
                  <a:pt x="15127" y="6607"/>
                  <a:pt x="15081" y="6672"/>
                </a:cubicBezTo>
                <a:cubicBezTo>
                  <a:pt x="14999" y="6787"/>
                  <a:pt x="14950" y="6895"/>
                  <a:pt x="14908" y="7020"/>
                </a:cubicBezTo>
                <a:cubicBezTo>
                  <a:pt x="14885" y="7089"/>
                  <a:pt x="14900" y="7146"/>
                  <a:pt x="14932" y="7218"/>
                </a:cubicBezTo>
                <a:cubicBezTo>
                  <a:pt x="14963" y="7289"/>
                  <a:pt x="15007" y="7305"/>
                  <a:pt x="15081" y="7317"/>
                </a:cubicBezTo>
                <a:cubicBezTo>
                  <a:pt x="15148" y="7328"/>
                  <a:pt x="15220" y="7320"/>
                  <a:pt x="15280" y="7293"/>
                </a:cubicBezTo>
                <a:cubicBezTo>
                  <a:pt x="15296" y="7285"/>
                  <a:pt x="15313" y="7276"/>
                  <a:pt x="15329" y="7268"/>
                </a:cubicBezTo>
              </a:path>
              <a:path w="5061" h="1315">
                <a:moveTo>
                  <a:pt x="15751" y="6672"/>
                </a:moveTo>
                <a:cubicBezTo>
                  <a:pt x="15673" y="6690"/>
                  <a:pt x="15595" y="6700"/>
                  <a:pt x="15528" y="6747"/>
                </a:cubicBezTo>
                <a:cubicBezTo>
                  <a:pt x="15481" y="6780"/>
                  <a:pt x="15496" y="6815"/>
                  <a:pt x="15503" y="6846"/>
                </a:cubicBezTo>
                <a:cubicBezTo>
                  <a:pt x="15525" y="6943"/>
                  <a:pt x="15570" y="6908"/>
                  <a:pt x="15627" y="6970"/>
                </a:cubicBezTo>
                <a:cubicBezTo>
                  <a:pt x="15669" y="7015"/>
                  <a:pt x="15710" y="7055"/>
                  <a:pt x="15726" y="7119"/>
                </a:cubicBezTo>
                <a:cubicBezTo>
                  <a:pt x="15740" y="7176"/>
                  <a:pt x="15708" y="7172"/>
                  <a:pt x="15677" y="7193"/>
                </a:cubicBezTo>
                <a:cubicBezTo>
                  <a:pt x="15628" y="7226"/>
                  <a:pt x="15565" y="7238"/>
                  <a:pt x="15503" y="7243"/>
                </a:cubicBezTo>
                <a:cubicBezTo>
                  <a:pt x="15391" y="7252"/>
                  <a:pt x="15450" y="7175"/>
                  <a:pt x="15478" y="7119"/>
                </a:cubicBezTo>
              </a:path>
              <a:path w="5061" h="1315">
                <a:moveTo>
                  <a:pt x="16173" y="6747"/>
                </a:moveTo>
                <a:cubicBezTo>
                  <a:pt x="16159" y="6775"/>
                  <a:pt x="16150" y="6747"/>
                  <a:pt x="16098" y="6747"/>
                </a:cubicBezTo>
                <a:cubicBezTo>
                  <a:pt x="16045" y="6747"/>
                  <a:pt x="16014" y="6758"/>
                  <a:pt x="15974" y="6796"/>
                </a:cubicBezTo>
                <a:cubicBezTo>
                  <a:pt x="15914" y="6852"/>
                  <a:pt x="15886" y="6922"/>
                  <a:pt x="15850" y="6995"/>
                </a:cubicBezTo>
                <a:cubicBezTo>
                  <a:pt x="15824" y="7047"/>
                  <a:pt x="15802" y="7159"/>
                  <a:pt x="15825" y="7218"/>
                </a:cubicBezTo>
                <a:cubicBezTo>
                  <a:pt x="15845" y="7269"/>
                  <a:pt x="15931" y="7296"/>
                  <a:pt x="15974" y="7317"/>
                </a:cubicBezTo>
                <a:cubicBezTo>
                  <a:pt x="16050" y="7355"/>
                  <a:pt x="16097" y="7345"/>
                  <a:pt x="16173" y="7317"/>
                </a:cubicBezTo>
              </a:path>
              <a:path w="5061" h="1315">
                <a:moveTo>
                  <a:pt x="16619" y="6821"/>
                </a:moveTo>
                <a:cubicBezTo>
                  <a:pt x="16589" y="6896"/>
                  <a:pt x="16513" y="7012"/>
                  <a:pt x="16495" y="7094"/>
                </a:cubicBezTo>
                <a:cubicBezTo>
                  <a:pt x="16483" y="7149"/>
                  <a:pt x="16487" y="7227"/>
                  <a:pt x="16520" y="7268"/>
                </a:cubicBezTo>
                <a:cubicBezTo>
                  <a:pt x="16561" y="7319"/>
                  <a:pt x="16581" y="7317"/>
                  <a:pt x="16644" y="7317"/>
                </a:cubicBezTo>
                <a:cubicBezTo>
                  <a:pt x="16730" y="7317"/>
                  <a:pt x="16782" y="7275"/>
                  <a:pt x="16842" y="7218"/>
                </a:cubicBezTo>
                <a:cubicBezTo>
                  <a:pt x="16939" y="7127"/>
                  <a:pt x="16992" y="6971"/>
                  <a:pt x="16917" y="6846"/>
                </a:cubicBezTo>
                <a:cubicBezTo>
                  <a:pt x="16886" y="6794"/>
                  <a:pt x="16788" y="6787"/>
                  <a:pt x="16743" y="6772"/>
                </a:cubicBezTo>
                <a:cubicBezTo>
                  <a:pt x="16660" y="6744"/>
                  <a:pt x="16649" y="6761"/>
                  <a:pt x="16570" y="6772"/>
                </a:cubicBezTo>
              </a:path>
              <a:path w="5061" h="1315">
                <a:moveTo>
                  <a:pt x="16272" y="7045"/>
                </a:moveTo>
                <a:cubicBezTo>
                  <a:pt x="16516" y="7045"/>
                  <a:pt x="16783" y="7074"/>
                  <a:pt x="17016" y="7020"/>
                </a:cubicBezTo>
                <a:cubicBezTo>
                  <a:pt x="17024" y="7020"/>
                  <a:pt x="17033" y="7020"/>
                  <a:pt x="17041" y="7020"/>
                </a:cubicBezTo>
              </a:path>
              <a:path w="5061" h="1315">
                <a:moveTo>
                  <a:pt x="17239" y="6871"/>
                </a:moveTo>
                <a:cubicBezTo>
                  <a:pt x="17313" y="6871"/>
                  <a:pt x="17388" y="6871"/>
                  <a:pt x="17462" y="6871"/>
                </a:cubicBezTo>
              </a:path>
              <a:path w="5061" h="1315">
                <a:moveTo>
                  <a:pt x="17214" y="7045"/>
                </a:moveTo>
                <a:cubicBezTo>
                  <a:pt x="17289" y="7087"/>
                  <a:pt x="17380" y="7107"/>
                  <a:pt x="17462" y="7144"/>
                </a:cubicBezTo>
              </a:path>
              <a:path w="5061" h="1315">
                <a:moveTo>
                  <a:pt x="17785" y="6499"/>
                </a:moveTo>
                <a:cubicBezTo>
                  <a:pt x="17882" y="6499"/>
                  <a:pt x="17974" y="6499"/>
                  <a:pt x="18058" y="6524"/>
                </a:cubicBezTo>
                <a:cubicBezTo>
                  <a:pt x="18170" y="6557"/>
                  <a:pt x="18144" y="6567"/>
                  <a:pt x="18182" y="6648"/>
                </a:cubicBezTo>
                <a:cubicBezTo>
                  <a:pt x="18211" y="6711"/>
                  <a:pt x="18205" y="6769"/>
                  <a:pt x="18207" y="6846"/>
                </a:cubicBezTo>
                <a:cubicBezTo>
                  <a:pt x="18211" y="7028"/>
                  <a:pt x="18207" y="7210"/>
                  <a:pt x="18207" y="7392"/>
                </a:cubicBezTo>
                <a:cubicBezTo>
                  <a:pt x="18211" y="7351"/>
                  <a:pt x="18229" y="7303"/>
                  <a:pt x="18231" y="7268"/>
                </a:cubicBezTo>
                <a:cubicBezTo>
                  <a:pt x="18240" y="7125"/>
                  <a:pt x="18241" y="6985"/>
                  <a:pt x="18256" y="6846"/>
                </a:cubicBezTo>
                <a:cubicBezTo>
                  <a:pt x="18266" y="6751"/>
                  <a:pt x="18263" y="6665"/>
                  <a:pt x="18281" y="6573"/>
                </a:cubicBezTo>
                <a:cubicBezTo>
                  <a:pt x="18293" y="6510"/>
                  <a:pt x="18290" y="6438"/>
                  <a:pt x="18306" y="6375"/>
                </a:cubicBezTo>
                <a:cubicBezTo>
                  <a:pt x="18314" y="6343"/>
                  <a:pt x="18320" y="6308"/>
                  <a:pt x="18331" y="6276"/>
                </a:cubicBezTo>
                <a:cubicBezTo>
                  <a:pt x="18349" y="6227"/>
                  <a:pt x="18351" y="6228"/>
                  <a:pt x="18405" y="6226"/>
                </a:cubicBezTo>
                <a:cubicBezTo>
                  <a:pt x="18465" y="6224"/>
                  <a:pt x="18512" y="6260"/>
                  <a:pt x="18579" y="6251"/>
                </a:cubicBezTo>
                <a:cubicBezTo>
                  <a:pt x="18682" y="6237"/>
                  <a:pt x="18798" y="6243"/>
                  <a:pt x="18901" y="6226"/>
                </a:cubicBezTo>
                <a:cubicBezTo>
                  <a:pt x="19033" y="6204"/>
                  <a:pt x="19166" y="6220"/>
                  <a:pt x="19298" y="6201"/>
                </a:cubicBezTo>
                <a:cubicBezTo>
                  <a:pt x="19421" y="6184"/>
                  <a:pt x="19548" y="6165"/>
                  <a:pt x="19670" y="6152"/>
                </a:cubicBezTo>
                <a:cubicBezTo>
                  <a:pt x="19759" y="6143"/>
                  <a:pt x="19853" y="6152"/>
                  <a:pt x="19943" y="6152"/>
                </a:cubicBezTo>
                <a:cubicBezTo>
                  <a:pt x="19907" y="6152"/>
                  <a:pt x="19905" y="6144"/>
                  <a:pt x="19869" y="6152"/>
                </a:cubicBezTo>
              </a:path>
              <a:path w="5061" h="1315">
                <a:moveTo>
                  <a:pt x="18529" y="6573"/>
                </a:moveTo>
                <a:cubicBezTo>
                  <a:pt x="18594" y="6549"/>
                  <a:pt x="18662" y="6516"/>
                  <a:pt x="18728" y="6499"/>
                </a:cubicBezTo>
                <a:cubicBezTo>
                  <a:pt x="18776" y="6487"/>
                  <a:pt x="18843" y="6495"/>
                  <a:pt x="18876" y="6524"/>
                </a:cubicBezTo>
                <a:cubicBezTo>
                  <a:pt x="18907" y="6551"/>
                  <a:pt x="18915" y="6607"/>
                  <a:pt x="18901" y="6648"/>
                </a:cubicBezTo>
                <a:cubicBezTo>
                  <a:pt x="18881" y="6708"/>
                  <a:pt x="18856" y="6763"/>
                  <a:pt x="18827" y="6821"/>
                </a:cubicBezTo>
                <a:cubicBezTo>
                  <a:pt x="18786" y="6903"/>
                  <a:pt x="18721" y="6961"/>
                  <a:pt x="18678" y="7045"/>
                </a:cubicBezTo>
                <a:cubicBezTo>
                  <a:pt x="18648" y="7104"/>
                  <a:pt x="18601" y="7148"/>
                  <a:pt x="18579" y="7193"/>
                </a:cubicBezTo>
                <a:cubicBezTo>
                  <a:pt x="18574" y="7202"/>
                  <a:pt x="18521" y="7309"/>
                  <a:pt x="18529" y="7317"/>
                </a:cubicBezTo>
                <a:cubicBezTo>
                  <a:pt x="18544" y="7331"/>
                  <a:pt x="18557" y="7335"/>
                  <a:pt x="18579" y="7342"/>
                </a:cubicBezTo>
                <a:cubicBezTo>
                  <a:pt x="18617" y="7329"/>
                  <a:pt x="18599" y="7317"/>
                  <a:pt x="18653" y="7317"/>
                </a:cubicBezTo>
                <a:cubicBezTo>
                  <a:pt x="18698" y="7317"/>
                  <a:pt x="18729" y="7358"/>
                  <a:pt x="18777" y="7367"/>
                </a:cubicBezTo>
                <a:cubicBezTo>
                  <a:pt x="18843" y="7379"/>
                  <a:pt x="18951" y="7380"/>
                  <a:pt x="19000" y="7342"/>
                </a:cubicBezTo>
              </a:path>
              <a:path w="5061" h="1315">
                <a:moveTo>
                  <a:pt x="19248" y="6623"/>
                </a:moveTo>
                <a:cubicBezTo>
                  <a:pt x="19238" y="6673"/>
                  <a:pt x="19208" y="6730"/>
                  <a:pt x="19199" y="6772"/>
                </a:cubicBezTo>
                <a:cubicBezTo>
                  <a:pt x="19183" y="6852"/>
                  <a:pt x="19161" y="6939"/>
                  <a:pt x="19149" y="7020"/>
                </a:cubicBezTo>
                <a:cubicBezTo>
                  <a:pt x="19139" y="7090"/>
                  <a:pt x="19153" y="7179"/>
                  <a:pt x="19174" y="7243"/>
                </a:cubicBezTo>
                <a:cubicBezTo>
                  <a:pt x="19190" y="7291"/>
                  <a:pt x="19276" y="7354"/>
                  <a:pt x="19323" y="7367"/>
                </a:cubicBezTo>
                <a:cubicBezTo>
                  <a:pt x="19411" y="7391"/>
                  <a:pt x="19470" y="7346"/>
                  <a:pt x="19546" y="7317"/>
                </a:cubicBezTo>
                <a:cubicBezTo>
                  <a:pt x="19644" y="7279"/>
                  <a:pt x="19661" y="7246"/>
                  <a:pt x="19720" y="7169"/>
                </a:cubicBezTo>
                <a:cubicBezTo>
                  <a:pt x="19743" y="7146"/>
                  <a:pt x="19751" y="7142"/>
                  <a:pt x="19745" y="7119"/>
                </a:cubicBezTo>
                <a:cubicBezTo>
                  <a:pt x="19692" y="7079"/>
                  <a:pt x="19665" y="7091"/>
                  <a:pt x="19596" y="7119"/>
                </a:cubicBezTo>
                <a:cubicBezTo>
                  <a:pt x="19533" y="7144"/>
                  <a:pt x="19439" y="7214"/>
                  <a:pt x="19397" y="7268"/>
                </a:cubicBezTo>
                <a:cubicBezTo>
                  <a:pt x="19368" y="7305"/>
                  <a:pt x="19308" y="7348"/>
                  <a:pt x="19298" y="7392"/>
                </a:cubicBezTo>
                <a:cubicBezTo>
                  <a:pt x="19298" y="7408"/>
                  <a:pt x="19298" y="7425"/>
                  <a:pt x="19298" y="74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81160" y="2963880"/>
            <a:ext cx="2320920" cy="662040"/>
          </a:xfrm>
          <a:custGeom>
            <a:avLst/>
            <a:gdLst/>
            <a:ahLst/>
            <a:rect l="l" t="t" r="r" b="b"/>
            <a:pathLst>
              <a:path w="6451" h="1837">
                <a:moveTo>
                  <a:pt x="6350" y="9004"/>
                </a:moveTo>
                <a:cubicBezTo>
                  <a:pt x="6350" y="8948"/>
                  <a:pt x="6330" y="8970"/>
                  <a:pt x="6325" y="8930"/>
                </a:cubicBezTo>
                <a:cubicBezTo>
                  <a:pt x="6318" y="8876"/>
                  <a:pt x="6333" y="8880"/>
                  <a:pt x="6300" y="8855"/>
                </a:cubicBezTo>
                <a:cubicBezTo>
                  <a:pt x="6236" y="8806"/>
                  <a:pt x="6250" y="8808"/>
                  <a:pt x="6176" y="8830"/>
                </a:cubicBezTo>
                <a:cubicBezTo>
                  <a:pt x="6139" y="8841"/>
                  <a:pt x="6057" y="8874"/>
                  <a:pt x="6028" y="8905"/>
                </a:cubicBezTo>
                <a:cubicBezTo>
                  <a:pt x="5975" y="8961"/>
                  <a:pt x="5946" y="9010"/>
                  <a:pt x="5904" y="9079"/>
                </a:cubicBezTo>
                <a:cubicBezTo>
                  <a:pt x="5841" y="9183"/>
                  <a:pt x="5795" y="9250"/>
                  <a:pt x="5779" y="9376"/>
                </a:cubicBezTo>
                <a:cubicBezTo>
                  <a:pt x="5771" y="9438"/>
                  <a:pt x="5804" y="9533"/>
                  <a:pt x="5854" y="9575"/>
                </a:cubicBezTo>
                <a:cubicBezTo>
                  <a:pt x="5899" y="9613"/>
                  <a:pt x="5999" y="9621"/>
                  <a:pt x="6052" y="9624"/>
                </a:cubicBezTo>
                <a:cubicBezTo>
                  <a:pt x="6115" y="9627"/>
                  <a:pt x="6194" y="9600"/>
                  <a:pt x="6251" y="9575"/>
                </a:cubicBezTo>
                <a:cubicBezTo>
                  <a:pt x="6317" y="9541"/>
                  <a:pt x="6350" y="9525"/>
                  <a:pt x="6400" y="9500"/>
                </a:cubicBezTo>
              </a:path>
              <a:path w="6451" h="1837">
                <a:moveTo>
                  <a:pt x="6672" y="9054"/>
                </a:moveTo>
                <a:cubicBezTo>
                  <a:pt x="6648" y="9112"/>
                  <a:pt x="6642" y="9170"/>
                  <a:pt x="6623" y="9227"/>
                </a:cubicBezTo>
                <a:cubicBezTo>
                  <a:pt x="6599" y="9298"/>
                  <a:pt x="6598" y="9349"/>
                  <a:pt x="6598" y="9426"/>
                </a:cubicBezTo>
                <a:cubicBezTo>
                  <a:pt x="6598" y="9496"/>
                  <a:pt x="6600" y="9501"/>
                  <a:pt x="6648" y="9550"/>
                </a:cubicBezTo>
                <a:cubicBezTo>
                  <a:pt x="6687" y="9589"/>
                  <a:pt x="6792" y="9589"/>
                  <a:pt x="6846" y="9575"/>
                </a:cubicBezTo>
                <a:cubicBezTo>
                  <a:pt x="6903" y="9560"/>
                  <a:pt x="6967" y="9474"/>
                  <a:pt x="6995" y="9426"/>
                </a:cubicBezTo>
                <a:cubicBezTo>
                  <a:pt x="7032" y="9364"/>
                  <a:pt x="7020" y="9297"/>
                  <a:pt x="7020" y="9227"/>
                </a:cubicBezTo>
                <a:cubicBezTo>
                  <a:pt x="7020" y="9186"/>
                  <a:pt x="7004" y="9085"/>
                  <a:pt x="6970" y="9054"/>
                </a:cubicBezTo>
                <a:cubicBezTo>
                  <a:pt x="6922" y="9010"/>
                  <a:pt x="6859" y="8984"/>
                  <a:pt x="6796" y="8979"/>
                </a:cubicBezTo>
                <a:cubicBezTo>
                  <a:pt x="6739" y="8975"/>
                  <a:pt x="6696" y="8971"/>
                  <a:pt x="6672" y="9004"/>
                </a:cubicBezTo>
                <a:cubicBezTo>
                  <a:pt x="6634" y="9057"/>
                  <a:pt x="6674" y="9071"/>
                  <a:pt x="6722" y="9079"/>
                </a:cubicBezTo>
              </a:path>
              <a:path w="6451" h="1837">
                <a:moveTo>
                  <a:pt x="7565" y="8954"/>
                </a:moveTo>
                <a:cubicBezTo>
                  <a:pt x="7477" y="8954"/>
                  <a:pt x="7469" y="8978"/>
                  <a:pt x="7392" y="9004"/>
                </a:cubicBezTo>
                <a:cubicBezTo>
                  <a:pt x="7360" y="9015"/>
                  <a:pt x="7325" y="9040"/>
                  <a:pt x="7317" y="9079"/>
                </a:cubicBezTo>
                <a:cubicBezTo>
                  <a:pt x="7304" y="9139"/>
                  <a:pt x="7355" y="9166"/>
                  <a:pt x="7392" y="9203"/>
                </a:cubicBezTo>
                <a:cubicBezTo>
                  <a:pt x="7448" y="9259"/>
                  <a:pt x="7508" y="9294"/>
                  <a:pt x="7565" y="9351"/>
                </a:cubicBezTo>
                <a:cubicBezTo>
                  <a:pt x="7602" y="9388"/>
                  <a:pt x="7598" y="9414"/>
                  <a:pt x="7565" y="9451"/>
                </a:cubicBezTo>
                <a:cubicBezTo>
                  <a:pt x="7531" y="9489"/>
                  <a:pt x="7443" y="9496"/>
                  <a:pt x="7392" y="9500"/>
                </a:cubicBezTo>
                <a:cubicBezTo>
                  <a:pt x="7342" y="9504"/>
                  <a:pt x="7199" y="9523"/>
                  <a:pt x="7193" y="9475"/>
                </a:cubicBezTo>
                <a:cubicBezTo>
                  <a:pt x="7193" y="9467"/>
                  <a:pt x="7193" y="9459"/>
                  <a:pt x="7193" y="9451"/>
                </a:cubicBezTo>
              </a:path>
              <a:path w="6451" h="1837">
                <a:moveTo>
                  <a:pt x="8086" y="8830"/>
                </a:moveTo>
                <a:cubicBezTo>
                  <a:pt x="8036" y="8847"/>
                  <a:pt x="8061" y="8883"/>
                  <a:pt x="8037" y="8930"/>
                </a:cubicBezTo>
                <a:cubicBezTo>
                  <a:pt x="8003" y="8997"/>
                  <a:pt x="7980" y="9055"/>
                  <a:pt x="7962" y="9128"/>
                </a:cubicBezTo>
                <a:cubicBezTo>
                  <a:pt x="7936" y="9230"/>
                  <a:pt x="7938" y="9320"/>
                  <a:pt x="7938" y="9426"/>
                </a:cubicBezTo>
                <a:cubicBezTo>
                  <a:pt x="7938" y="9518"/>
                  <a:pt x="7991" y="9592"/>
                  <a:pt x="8062" y="9649"/>
                </a:cubicBezTo>
                <a:cubicBezTo>
                  <a:pt x="8102" y="9681"/>
                  <a:pt x="8186" y="9686"/>
                  <a:pt x="8235" y="9674"/>
                </a:cubicBezTo>
                <a:cubicBezTo>
                  <a:pt x="8330" y="9650"/>
                  <a:pt x="8381" y="9605"/>
                  <a:pt x="8434" y="9525"/>
                </a:cubicBezTo>
                <a:cubicBezTo>
                  <a:pt x="8466" y="9477"/>
                  <a:pt x="8492" y="9358"/>
                  <a:pt x="8483" y="9302"/>
                </a:cubicBezTo>
                <a:cubicBezTo>
                  <a:pt x="8469" y="9221"/>
                  <a:pt x="8419" y="9127"/>
                  <a:pt x="8384" y="9054"/>
                </a:cubicBezTo>
                <a:cubicBezTo>
                  <a:pt x="8358" y="8999"/>
                  <a:pt x="8288" y="8940"/>
                  <a:pt x="8235" y="8905"/>
                </a:cubicBezTo>
                <a:cubicBezTo>
                  <a:pt x="8189" y="8874"/>
                  <a:pt x="8164" y="8855"/>
                  <a:pt x="8111" y="8855"/>
                </a:cubicBezTo>
                <a:cubicBezTo>
                  <a:pt x="8103" y="8855"/>
                  <a:pt x="8094" y="8855"/>
                  <a:pt x="8086" y="8855"/>
                </a:cubicBezTo>
              </a:path>
              <a:path w="6451" h="1837">
                <a:moveTo>
                  <a:pt x="7764" y="9178"/>
                </a:moveTo>
                <a:cubicBezTo>
                  <a:pt x="7817" y="9218"/>
                  <a:pt x="7838" y="9224"/>
                  <a:pt x="7913" y="9227"/>
                </a:cubicBezTo>
                <a:cubicBezTo>
                  <a:pt x="8089" y="9234"/>
                  <a:pt x="8263" y="9236"/>
                  <a:pt x="8434" y="9252"/>
                </a:cubicBezTo>
                <a:cubicBezTo>
                  <a:pt x="8556" y="9263"/>
                  <a:pt x="8684" y="9252"/>
                  <a:pt x="8806" y="9252"/>
                </a:cubicBezTo>
                <a:cubicBezTo>
                  <a:pt x="8748" y="9264"/>
                  <a:pt x="8690" y="9292"/>
                  <a:pt x="8632" y="9302"/>
                </a:cubicBezTo>
                <a:cubicBezTo>
                  <a:pt x="8615" y="9302"/>
                  <a:pt x="8599" y="9302"/>
                  <a:pt x="8582" y="9302"/>
                </a:cubicBezTo>
              </a:path>
              <a:path w="6451" h="1837">
                <a:moveTo>
                  <a:pt x="9079" y="9054"/>
                </a:moveTo>
                <a:cubicBezTo>
                  <a:pt x="9203" y="9054"/>
                  <a:pt x="9327" y="9054"/>
                  <a:pt x="9451" y="9054"/>
                </a:cubicBezTo>
              </a:path>
              <a:path w="6451" h="1837">
                <a:moveTo>
                  <a:pt x="9029" y="9277"/>
                </a:moveTo>
                <a:cubicBezTo>
                  <a:pt x="9106" y="9277"/>
                  <a:pt x="9429" y="9294"/>
                  <a:pt x="9401" y="9252"/>
                </a:cubicBezTo>
              </a:path>
              <a:path w="6451" h="1837">
                <a:moveTo>
                  <a:pt x="9748" y="8930"/>
                </a:moveTo>
                <a:cubicBezTo>
                  <a:pt x="9817" y="8930"/>
                  <a:pt x="9833" y="8921"/>
                  <a:pt x="9897" y="8905"/>
                </a:cubicBezTo>
                <a:cubicBezTo>
                  <a:pt x="9947" y="8892"/>
                  <a:pt x="10018" y="8905"/>
                  <a:pt x="10071" y="8905"/>
                </a:cubicBezTo>
              </a:path>
              <a:path w="6451" h="1837">
                <a:moveTo>
                  <a:pt x="10443" y="8310"/>
                </a:moveTo>
                <a:cubicBezTo>
                  <a:pt x="10495" y="8332"/>
                  <a:pt x="10513" y="8334"/>
                  <a:pt x="10567" y="8334"/>
                </a:cubicBezTo>
                <a:cubicBezTo>
                  <a:pt x="10641" y="8334"/>
                  <a:pt x="10716" y="8334"/>
                  <a:pt x="10790" y="8334"/>
                </a:cubicBezTo>
              </a:path>
              <a:path w="6451" h="1837">
                <a:moveTo>
                  <a:pt x="10344" y="8384"/>
                </a:moveTo>
                <a:cubicBezTo>
                  <a:pt x="10327" y="8406"/>
                  <a:pt x="10300" y="8450"/>
                  <a:pt x="10319" y="8483"/>
                </a:cubicBezTo>
                <a:cubicBezTo>
                  <a:pt x="10342" y="8524"/>
                  <a:pt x="10344" y="8531"/>
                  <a:pt x="10344" y="8582"/>
                </a:cubicBezTo>
                <a:cubicBezTo>
                  <a:pt x="10376" y="8571"/>
                  <a:pt x="10374" y="8543"/>
                  <a:pt x="10393" y="8533"/>
                </a:cubicBezTo>
                <a:cubicBezTo>
                  <a:pt x="10439" y="8510"/>
                  <a:pt x="10484" y="8508"/>
                  <a:pt x="10542" y="8508"/>
                </a:cubicBezTo>
                <a:cubicBezTo>
                  <a:pt x="10578" y="8508"/>
                  <a:pt x="10614" y="8515"/>
                  <a:pt x="10641" y="8533"/>
                </a:cubicBezTo>
                <a:cubicBezTo>
                  <a:pt x="10667" y="8551"/>
                  <a:pt x="10710" y="8605"/>
                  <a:pt x="10716" y="8632"/>
                </a:cubicBezTo>
                <a:cubicBezTo>
                  <a:pt x="10727" y="8685"/>
                  <a:pt x="10726" y="8768"/>
                  <a:pt x="10691" y="8806"/>
                </a:cubicBezTo>
                <a:cubicBezTo>
                  <a:pt x="10657" y="8844"/>
                  <a:pt x="10607" y="8863"/>
                  <a:pt x="10567" y="8880"/>
                </a:cubicBezTo>
                <a:cubicBezTo>
                  <a:pt x="10501" y="8908"/>
                  <a:pt x="10493" y="8930"/>
                  <a:pt x="10418" y="8930"/>
                </a:cubicBezTo>
                <a:cubicBezTo>
                  <a:pt x="10379" y="8930"/>
                  <a:pt x="10349" y="8946"/>
                  <a:pt x="10344" y="8905"/>
                </a:cubicBezTo>
                <a:cubicBezTo>
                  <a:pt x="10344" y="8880"/>
                  <a:pt x="10344" y="8872"/>
                  <a:pt x="10368" y="8880"/>
                </a:cubicBezTo>
              </a:path>
              <a:path w="6451" h="1837">
                <a:moveTo>
                  <a:pt x="11038" y="8508"/>
                </a:moveTo>
                <a:cubicBezTo>
                  <a:pt x="11038" y="8629"/>
                  <a:pt x="11042" y="8742"/>
                  <a:pt x="11013" y="8855"/>
                </a:cubicBezTo>
                <a:cubicBezTo>
                  <a:pt x="11010" y="8865"/>
                  <a:pt x="11013" y="8973"/>
                  <a:pt x="11013" y="8905"/>
                </a:cubicBezTo>
                <a:cubicBezTo>
                  <a:pt x="11013" y="8777"/>
                  <a:pt x="11015" y="8647"/>
                  <a:pt x="11038" y="8533"/>
                </a:cubicBezTo>
                <a:cubicBezTo>
                  <a:pt x="11050" y="8475"/>
                  <a:pt x="11046" y="8434"/>
                  <a:pt x="11063" y="8384"/>
                </a:cubicBezTo>
                <a:cubicBezTo>
                  <a:pt x="11087" y="8312"/>
                  <a:pt x="11104" y="8339"/>
                  <a:pt x="11162" y="8310"/>
                </a:cubicBezTo>
                <a:cubicBezTo>
                  <a:pt x="11236" y="8273"/>
                  <a:pt x="11269" y="8276"/>
                  <a:pt x="11361" y="8260"/>
                </a:cubicBezTo>
                <a:cubicBezTo>
                  <a:pt x="11481" y="8239"/>
                  <a:pt x="11545" y="8242"/>
                  <a:pt x="11658" y="8260"/>
                </a:cubicBezTo>
                <a:cubicBezTo>
                  <a:pt x="11741" y="8273"/>
                  <a:pt x="11814" y="8255"/>
                  <a:pt x="11881" y="8235"/>
                </a:cubicBezTo>
                <a:cubicBezTo>
                  <a:pt x="11909" y="8235"/>
                  <a:pt x="11915" y="8237"/>
                  <a:pt x="11881" y="8260"/>
                </a:cubicBezTo>
              </a:path>
              <a:path w="6451" h="1837">
                <a:moveTo>
                  <a:pt x="11361" y="8434"/>
                </a:moveTo>
                <a:cubicBezTo>
                  <a:pt x="11374" y="8473"/>
                  <a:pt x="11411" y="8458"/>
                  <a:pt x="11460" y="8458"/>
                </a:cubicBezTo>
                <a:cubicBezTo>
                  <a:pt x="11519" y="8458"/>
                  <a:pt x="11538" y="8468"/>
                  <a:pt x="11584" y="8483"/>
                </a:cubicBezTo>
                <a:cubicBezTo>
                  <a:pt x="11606" y="8490"/>
                  <a:pt x="11629" y="8522"/>
                  <a:pt x="11609" y="8558"/>
                </a:cubicBezTo>
                <a:cubicBezTo>
                  <a:pt x="11596" y="8581"/>
                  <a:pt x="11525" y="8668"/>
                  <a:pt x="11509" y="8682"/>
                </a:cubicBezTo>
                <a:cubicBezTo>
                  <a:pt x="11452" y="8731"/>
                  <a:pt x="11413" y="8749"/>
                  <a:pt x="11361" y="8806"/>
                </a:cubicBezTo>
                <a:cubicBezTo>
                  <a:pt x="11333" y="8837"/>
                  <a:pt x="11298" y="8868"/>
                  <a:pt x="11286" y="8905"/>
                </a:cubicBezTo>
                <a:cubicBezTo>
                  <a:pt x="11286" y="8913"/>
                  <a:pt x="11286" y="8922"/>
                  <a:pt x="11286" y="8930"/>
                </a:cubicBezTo>
                <a:cubicBezTo>
                  <a:pt x="11307" y="8942"/>
                  <a:pt x="11386" y="8990"/>
                  <a:pt x="11410" y="8979"/>
                </a:cubicBezTo>
                <a:cubicBezTo>
                  <a:pt x="11464" y="8955"/>
                  <a:pt x="11528" y="8964"/>
                  <a:pt x="11584" y="8930"/>
                </a:cubicBezTo>
                <a:cubicBezTo>
                  <a:pt x="11614" y="8900"/>
                  <a:pt x="11628" y="8889"/>
                  <a:pt x="11658" y="8880"/>
                </a:cubicBezTo>
              </a:path>
              <a:path w="6451" h="1837">
                <a:moveTo>
                  <a:pt x="11931" y="8483"/>
                </a:moveTo>
                <a:cubicBezTo>
                  <a:pt x="11893" y="8547"/>
                  <a:pt x="11875" y="8621"/>
                  <a:pt x="11832" y="8682"/>
                </a:cubicBezTo>
                <a:cubicBezTo>
                  <a:pt x="11789" y="8744"/>
                  <a:pt x="11797" y="8819"/>
                  <a:pt x="11807" y="8880"/>
                </a:cubicBezTo>
                <a:cubicBezTo>
                  <a:pt x="11812" y="8912"/>
                  <a:pt x="11847" y="8964"/>
                  <a:pt x="11881" y="8979"/>
                </a:cubicBezTo>
                <a:cubicBezTo>
                  <a:pt x="11947" y="9009"/>
                  <a:pt x="11998" y="9009"/>
                  <a:pt x="12055" y="8979"/>
                </a:cubicBezTo>
                <a:cubicBezTo>
                  <a:pt x="12108" y="8951"/>
                  <a:pt x="12173" y="8942"/>
                  <a:pt x="12204" y="8880"/>
                </a:cubicBezTo>
                <a:cubicBezTo>
                  <a:pt x="12213" y="8861"/>
                  <a:pt x="12244" y="8808"/>
                  <a:pt x="12229" y="8781"/>
                </a:cubicBezTo>
                <a:cubicBezTo>
                  <a:pt x="12215" y="8757"/>
                  <a:pt x="12155" y="8741"/>
                  <a:pt x="12129" y="8756"/>
                </a:cubicBezTo>
                <a:cubicBezTo>
                  <a:pt x="12081" y="8783"/>
                  <a:pt x="12048" y="8786"/>
                  <a:pt x="12005" y="8830"/>
                </a:cubicBezTo>
                <a:cubicBezTo>
                  <a:pt x="11965" y="8871"/>
                  <a:pt x="11933" y="8914"/>
                  <a:pt x="11906" y="8954"/>
                </a:cubicBezTo>
                <a:cubicBezTo>
                  <a:pt x="11881" y="8979"/>
                  <a:pt x="11873" y="8987"/>
                  <a:pt x="11857" y="9004"/>
                </a:cubicBezTo>
              </a:path>
              <a:path w="6451" h="1837">
                <a:moveTo>
                  <a:pt x="10418" y="9227"/>
                </a:moveTo>
                <a:cubicBezTo>
                  <a:pt x="10498" y="9243"/>
                  <a:pt x="10529" y="9230"/>
                  <a:pt x="10616" y="9227"/>
                </a:cubicBezTo>
                <a:cubicBezTo>
                  <a:pt x="11005" y="9212"/>
                  <a:pt x="11399" y="9251"/>
                  <a:pt x="11782" y="9203"/>
                </a:cubicBezTo>
                <a:cubicBezTo>
                  <a:pt x="11823" y="9198"/>
                  <a:pt x="11920" y="9191"/>
                  <a:pt x="11881" y="9178"/>
                </a:cubicBezTo>
                <a:cubicBezTo>
                  <a:pt x="11832" y="9178"/>
                  <a:pt x="11815" y="9178"/>
                  <a:pt x="11782" y="9178"/>
                </a:cubicBezTo>
              </a:path>
              <a:path w="6451" h="1837">
                <a:moveTo>
                  <a:pt x="10716" y="9475"/>
                </a:moveTo>
                <a:cubicBezTo>
                  <a:pt x="10645" y="9475"/>
                  <a:pt x="10758" y="9479"/>
                  <a:pt x="10765" y="9475"/>
                </a:cubicBezTo>
                <a:cubicBezTo>
                  <a:pt x="10817" y="9447"/>
                  <a:pt x="10875" y="9430"/>
                  <a:pt x="10939" y="9426"/>
                </a:cubicBezTo>
                <a:cubicBezTo>
                  <a:pt x="10994" y="9423"/>
                  <a:pt x="11065" y="9424"/>
                  <a:pt x="11112" y="9451"/>
                </a:cubicBezTo>
                <a:cubicBezTo>
                  <a:pt x="11120" y="9459"/>
                  <a:pt x="11129" y="9467"/>
                  <a:pt x="11137" y="9475"/>
                </a:cubicBezTo>
                <a:cubicBezTo>
                  <a:pt x="11119" y="9563"/>
                  <a:pt x="11087" y="9543"/>
                  <a:pt x="11038" y="9599"/>
                </a:cubicBezTo>
                <a:cubicBezTo>
                  <a:pt x="10988" y="9657"/>
                  <a:pt x="10946" y="9697"/>
                  <a:pt x="10889" y="9748"/>
                </a:cubicBezTo>
                <a:cubicBezTo>
                  <a:pt x="10829" y="9801"/>
                  <a:pt x="10801" y="9851"/>
                  <a:pt x="10765" y="9922"/>
                </a:cubicBezTo>
                <a:cubicBezTo>
                  <a:pt x="10720" y="10010"/>
                  <a:pt x="10791" y="10013"/>
                  <a:pt x="10864" y="10046"/>
                </a:cubicBezTo>
                <a:cubicBezTo>
                  <a:pt x="10951" y="10086"/>
                  <a:pt x="10979" y="10057"/>
                  <a:pt x="11063" y="10046"/>
                </a:cubicBezTo>
                <a:cubicBezTo>
                  <a:pt x="11131" y="10046"/>
                  <a:pt x="11150" y="10049"/>
                  <a:pt x="11187" y="10021"/>
                </a:cubicBezTo>
              </a:path>
              <a:path w="6451" h="1837">
                <a:moveTo>
                  <a:pt x="11435" y="9624"/>
                </a:moveTo>
                <a:cubicBezTo>
                  <a:pt x="11413" y="9684"/>
                  <a:pt x="11365" y="9760"/>
                  <a:pt x="11361" y="9823"/>
                </a:cubicBezTo>
                <a:cubicBezTo>
                  <a:pt x="11356" y="9897"/>
                  <a:pt x="11359" y="9921"/>
                  <a:pt x="11410" y="9971"/>
                </a:cubicBezTo>
                <a:cubicBezTo>
                  <a:pt x="11448" y="10008"/>
                  <a:pt x="11530" y="10018"/>
                  <a:pt x="11584" y="10021"/>
                </a:cubicBezTo>
                <a:cubicBezTo>
                  <a:pt x="11689" y="10027"/>
                  <a:pt x="11730" y="10017"/>
                  <a:pt x="11807" y="9947"/>
                </a:cubicBezTo>
                <a:cubicBezTo>
                  <a:pt x="11838" y="9918"/>
                  <a:pt x="11832" y="9911"/>
                  <a:pt x="11832" y="9872"/>
                </a:cubicBezTo>
                <a:cubicBezTo>
                  <a:pt x="11760" y="9841"/>
                  <a:pt x="11686" y="9851"/>
                  <a:pt x="11609" y="9872"/>
                </a:cubicBezTo>
                <a:cubicBezTo>
                  <a:pt x="11535" y="9892"/>
                  <a:pt x="11429" y="9934"/>
                  <a:pt x="11361" y="9971"/>
                </a:cubicBezTo>
                <a:cubicBezTo>
                  <a:pt x="11336" y="9988"/>
                  <a:pt x="11311" y="10004"/>
                  <a:pt x="11286" y="100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46800" y="3133800"/>
            <a:ext cx="1884240" cy="733320"/>
          </a:xfrm>
          <a:custGeom>
            <a:avLst/>
            <a:gdLst/>
            <a:ahLst/>
            <a:rect l="l" t="t" r="r" b="b"/>
            <a:pathLst>
              <a:path w="5235" h="2035">
                <a:moveTo>
                  <a:pt x="15553" y="8880"/>
                </a:moveTo>
                <a:cubicBezTo>
                  <a:pt x="15502" y="8880"/>
                  <a:pt x="15494" y="8891"/>
                  <a:pt x="15453" y="8905"/>
                </a:cubicBezTo>
                <a:cubicBezTo>
                  <a:pt x="15407" y="8921"/>
                  <a:pt x="15347" y="8925"/>
                  <a:pt x="15304" y="8954"/>
                </a:cubicBezTo>
                <a:cubicBezTo>
                  <a:pt x="15273" y="8975"/>
                  <a:pt x="15233" y="8985"/>
                  <a:pt x="15205" y="9004"/>
                </a:cubicBezTo>
                <a:cubicBezTo>
                  <a:pt x="15160" y="9034"/>
                  <a:pt x="15178" y="9073"/>
                  <a:pt x="15205" y="9103"/>
                </a:cubicBezTo>
                <a:cubicBezTo>
                  <a:pt x="15230" y="9130"/>
                  <a:pt x="15295" y="9163"/>
                  <a:pt x="15329" y="9178"/>
                </a:cubicBezTo>
                <a:cubicBezTo>
                  <a:pt x="15392" y="9207"/>
                  <a:pt x="15468" y="9231"/>
                  <a:pt x="15503" y="9302"/>
                </a:cubicBezTo>
                <a:cubicBezTo>
                  <a:pt x="15520" y="9336"/>
                  <a:pt x="15505" y="9405"/>
                  <a:pt x="15478" y="9426"/>
                </a:cubicBezTo>
                <a:cubicBezTo>
                  <a:pt x="15426" y="9466"/>
                  <a:pt x="15318" y="9472"/>
                  <a:pt x="15255" y="9475"/>
                </a:cubicBezTo>
                <a:cubicBezTo>
                  <a:pt x="15222" y="9477"/>
                  <a:pt x="15150" y="9489"/>
                  <a:pt x="15131" y="9451"/>
                </a:cubicBezTo>
                <a:cubicBezTo>
                  <a:pt x="15131" y="9423"/>
                  <a:pt x="15133" y="9412"/>
                  <a:pt x="15156" y="9401"/>
                </a:cubicBezTo>
              </a:path>
              <a:path w="5235" h="2035">
                <a:moveTo>
                  <a:pt x="15701" y="9203"/>
                </a:moveTo>
                <a:cubicBezTo>
                  <a:pt x="15765" y="9189"/>
                  <a:pt x="15871" y="9181"/>
                  <a:pt x="15925" y="9153"/>
                </a:cubicBezTo>
                <a:cubicBezTo>
                  <a:pt x="15968" y="9131"/>
                  <a:pt x="15974" y="9095"/>
                  <a:pt x="15974" y="9054"/>
                </a:cubicBezTo>
                <a:cubicBezTo>
                  <a:pt x="15974" y="9017"/>
                  <a:pt x="15932" y="8990"/>
                  <a:pt x="15900" y="8979"/>
                </a:cubicBezTo>
                <a:cubicBezTo>
                  <a:pt x="15848" y="8962"/>
                  <a:pt x="15814" y="9006"/>
                  <a:pt x="15776" y="9029"/>
                </a:cubicBezTo>
                <a:cubicBezTo>
                  <a:pt x="15706" y="9071"/>
                  <a:pt x="15685" y="9100"/>
                  <a:pt x="15652" y="9178"/>
                </a:cubicBezTo>
                <a:cubicBezTo>
                  <a:pt x="15598" y="9304"/>
                  <a:pt x="15573" y="9344"/>
                  <a:pt x="15652" y="9451"/>
                </a:cubicBezTo>
                <a:cubicBezTo>
                  <a:pt x="15689" y="9501"/>
                  <a:pt x="15717" y="9500"/>
                  <a:pt x="15776" y="9500"/>
                </a:cubicBezTo>
                <a:cubicBezTo>
                  <a:pt x="15840" y="9500"/>
                  <a:pt x="15890" y="9456"/>
                  <a:pt x="15949" y="9426"/>
                </a:cubicBezTo>
              </a:path>
              <a:path w="5235" h="2035">
                <a:moveTo>
                  <a:pt x="16297" y="9079"/>
                </a:moveTo>
                <a:cubicBezTo>
                  <a:pt x="16347" y="9079"/>
                  <a:pt x="16264" y="9097"/>
                  <a:pt x="16247" y="9103"/>
                </a:cubicBezTo>
                <a:cubicBezTo>
                  <a:pt x="16205" y="9117"/>
                  <a:pt x="16149" y="9160"/>
                  <a:pt x="16123" y="9203"/>
                </a:cubicBezTo>
                <a:cubicBezTo>
                  <a:pt x="16090" y="9259"/>
                  <a:pt x="16073" y="9334"/>
                  <a:pt x="16073" y="9401"/>
                </a:cubicBezTo>
                <a:cubicBezTo>
                  <a:pt x="16073" y="9476"/>
                  <a:pt x="16090" y="9527"/>
                  <a:pt x="16173" y="9550"/>
                </a:cubicBezTo>
                <a:cubicBezTo>
                  <a:pt x="16238" y="9568"/>
                  <a:pt x="16313" y="9545"/>
                  <a:pt x="16371" y="9525"/>
                </a:cubicBezTo>
                <a:cubicBezTo>
                  <a:pt x="16396" y="9517"/>
                  <a:pt x="16421" y="9508"/>
                  <a:pt x="16446" y="9500"/>
                </a:cubicBezTo>
              </a:path>
              <a:path w="5235" h="2035">
                <a:moveTo>
                  <a:pt x="16743" y="9054"/>
                </a:moveTo>
                <a:cubicBezTo>
                  <a:pt x="16716" y="9142"/>
                  <a:pt x="16684" y="9239"/>
                  <a:pt x="16669" y="9327"/>
                </a:cubicBezTo>
                <a:cubicBezTo>
                  <a:pt x="16658" y="9394"/>
                  <a:pt x="16684" y="9448"/>
                  <a:pt x="16694" y="9500"/>
                </a:cubicBezTo>
                <a:cubicBezTo>
                  <a:pt x="16706" y="9558"/>
                  <a:pt x="16716" y="9570"/>
                  <a:pt x="16793" y="9575"/>
                </a:cubicBezTo>
                <a:cubicBezTo>
                  <a:pt x="16860" y="9580"/>
                  <a:pt x="16920" y="9581"/>
                  <a:pt x="16966" y="9525"/>
                </a:cubicBezTo>
                <a:cubicBezTo>
                  <a:pt x="17030" y="9448"/>
                  <a:pt x="17085" y="9376"/>
                  <a:pt x="17090" y="9277"/>
                </a:cubicBezTo>
                <a:cubicBezTo>
                  <a:pt x="17094" y="9204"/>
                  <a:pt x="17085" y="9162"/>
                  <a:pt x="17041" y="9103"/>
                </a:cubicBezTo>
                <a:cubicBezTo>
                  <a:pt x="17005" y="9056"/>
                  <a:pt x="16920" y="9041"/>
                  <a:pt x="16867" y="9029"/>
                </a:cubicBezTo>
                <a:cubicBezTo>
                  <a:pt x="16841" y="9023"/>
                  <a:pt x="16792" y="9029"/>
                  <a:pt x="16768" y="9029"/>
                </a:cubicBezTo>
              </a:path>
              <a:path w="5235" h="2035">
                <a:moveTo>
                  <a:pt x="16421" y="9277"/>
                </a:moveTo>
                <a:cubicBezTo>
                  <a:pt x="16466" y="9311"/>
                  <a:pt x="16561" y="9323"/>
                  <a:pt x="16619" y="9327"/>
                </a:cubicBezTo>
                <a:cubicBezTo>
                  <a:pt x="16770" y="9337"/>
                  <a:pt x="16918" y="9324"/>
                  <a:pt x="17066" y="9351"/>
                </a:cubicBezTo>
                <a:cubicBezTo>
                  <a:pt x="17117" y="9360"/>
                  <a:pt x="17268" y="9353"/>
                  <a:pt x="17314" y="9376"/>
                </a:cubicBezTo>
                <a:cubicBezTo>
                  <a:pt x="17338" y="9401"/>
                  <a:pt x="17346" y="9409"/>
                  <a:pt x="17363" y="9376"/>
                </a:cubicBezTo>
                <a:cubicBezTo>
                  <a:pt x="17336" y="9367"/>
                  <a:pt x="17304" y="9353"/>
                  <a:pt x="17264" y="9327"/>
                </a:cubicBezTo>
                <a:cubicBezTo>
                  <a:pt x="17234" y="9297"/>
                  <a:pt x="17220" y="9286"/>
                  <a:pt x="17190" y="9277"/>
                </a:cubicBezTo>
              </a:path>
              <a:path w="5235" h="2035">
                <a:moveTo>
                  <a:pt x="18058" y="9178"/>
                </a:moveTo>
                <a:cubicBezTo>
                  <a:pt x="18115" y="9186"/>
                  <a:pt x="18145" y="9203"/>
                  <a:pt x="18207" y="9203"/>
                </a:cubicBezTo>
                <a:cubicBezTo>
                  <a:pt x="18215" y="9203"/>
                  <a:pt x="18223" y="9203"/>
                  <a:pt x="18231" y="9203"/>
                </a:cubicBezTo>
              </a:path>
              <a:path w="5235" h="2035">
                <a:moveTo>
                  <a:pt x="17983" y="9376"/>
                </a:moveTo>
                <a:cubicBezTo>
                  <a:pt x="18053" y="9399"/>
                  <a:pt x="18144" y="9438"/>
                  <a:pt x="18207" y="9451"/>
                </a:cubicBezTo>
                <a:cubicBezTo>
                  <a:pt x="18251" y="9451"/>
                  <a:pt x="18264" y="9448"/>
                  <a:pt x="18281" y="9475"/>
                </a:cubicBezTo>
              </a:path>
              <a:path w="5235" h="2035">
                <a:moveTo>
                  <a:pt x="18703" y="9227"/>
                </a:moveTo>
                <a:cubicBezTo>
                  <a:pt x="18741" y="9256"/>
                  <a:pt x="18754" y="9252"/>
                  <a:pt x="18802" y="9252"/>
                </a:cubicBezTo>
                <a:cubicBezTo>
                  <a:pt x="18835" y="9252"/>
                  <a:pt x="18868" y="9252"/>
                  <a:pt x="18901" y="9252"/>
                </a:cubicBezTo>
              </a:path>
              <a:path w="5235" h="2035">
                <a:moveTo>
                  <a:pt x="19298" y="9153"/>
                </a:moveTo>
                <a:cubicBezTo>
                  <a:pt x="19298" y="9242"/>
                  <a:pt x="19284" y="9319"/>
                  <a:pt x="19273" y="9401"/>
                </a:cubicBezTo>
                <a:cubicBezTo>
                  <a:pt x="19263" y="9477"/>
                  <a:pt x="19283" y="9559"/>
                  <a:pt x="19298" y="9599"/>
                </a:cubicBezTo>
                <a:cubicBezTo>
                  <a:pt x="19298" y="9359"/>
                  <a:pt x="19284" y="9111"/>
                  <a:pt x="19323" y="8880"/>
                </a:cubicBezTo>
                <a:cubicBezTo>
                  <a:pt x="19332" y="8825"/>
                  <a:pt x="19312" y="8802"/>
                  <a:pt x="19348" y="8756"/>
                </a:cubicBezTo>
                <a:cubicBezTo>
                  <a:pt x="19374" y="8723"/>
                  <a:pt x="19382" y="8709"/>
                  <a:pt x="19447" y="8706"/>
                </a:cubicBezTo>
                <a:cubicBezTo>
                  <a:pt x="19514" y="8703"/>
                  <a:pt x="19561" y="8723"/>
                  <a:pt x="19621" y="8731"/>
                </a:cubicBezTo>
                <a:cubicBezTo>
                  <a:pt x="19756" y="8749"/>
                  <a:pt x="19909" y="8745"/>
                  <a:pt x="20042" y="8756"/>
                </a:cubicBezTo>
                <a:cubicBezTo>
                  <a:pt x="20045" y="8756"/>
                  <a:pt x="20280" y="8762"/>
                  <a:pt x="20290" y="8731"/>
                </a:cubicBezTo>
                <a:cubicBezTo>
                  <a:pt x="20290" y="8706"/>
                  <a:pt x="20290" y="8698"/>
                  <a:pt x="20265" y="8706"/>
                </a:cubicBezTo>
              </a:path>
              <a:path w="5235" h="2035">
                <a:moveTo>
                  <a:pt x="19447" y="9029"/>
                </a:moveTo>
                <a:cubicBezTo>
                  <a:pt x="19486" y="9019"/>
                  <a:pt x="19501" y="9004"/>
                  <a:pt x="19546" y="9004"/>
                </a:cubicBezTo>
                <a:cubicBezTo>
                  <a:pt x="19621" y="9004"/>
                  <a:pt x="19635" y="8984"/>
                  <a:pt x="19695" y="9004"/>
                </a:cubicBezTo>
                <a:cubicBezTo>
                  <a:pt x="19717" y="9011"/>
                  <a:pt x="19779" y="9008"/>
                  <a:pt x="19769" y="9054"/>
                </a:cubicBezTo>
                <a:cubicBezTo>
                  <a:pt x="19765" y="9075"/>
                  <a:pt x="19728" y="9161"/>
                  <a:pt x="19720" y="9178"/>
                </a:cubicBezTo>
                <a:cubicBezTo>
                  <a:pt x="19691" y="9235"/>
                  <a:pt x="19609" y="9274"/>
                  <a:pt x="19571" y="9327"/>
                </a:cubicBezTo>
                <a:cubicBezTo>
                  <a:pt x="19537" y="9375"/>
                  <a:pt x="19516" y="9423"/>
                  <a:pt x="19496" y="9475"/>
                </a:cubicBezTo>
                <a:cubicBezTo>
                  <a:pt x="19492" y="9486"/>
                  <a:pt x="19439" y="9591"/>
                  <a:pt x="19447" y="9599"/>
                </a:cubicBezTo>
                <a:cubicBezTo>
                  <a:pt x="19462" y="9613"/>
                  <a:pt x="19487" y="9645"/>
                  <a:pt x="19521" y="9649"/>
                </a:cubicBezTo>
                <a:cubicBezTo>
                  <a:pt x="19581" y="9656"/>
                  <a:pt x="19624" y="9634"/>
                  <a:pt x="19670" y="9624"/>
                </a:cubicBezTo>
                <a:cubicBezTo>
                  <a:pt x="19722" y="9613"/>
                  <a:pt x="19768" y="9619"/>
                  <a:pt x="19819" y="9599"/>
                </a:cubicBezTo>
                <a:cubicBezTo>
                  <a:pt x="19866" y="9581"/>
                  <a:pt x="19884" y="9559"/>
                  <a:pt x="19918" y="9525"/>
                </a:cubicBezTo>
              </a:path>
              <a:path w="5235" h="2035">
                <a:moveTo>
                  <a:pt x="20042" y="9004"/>
                </a:moveTo>
                <a:cubicBezTo>
                  <a:pt x="20018" y="9037"/>
                  <a:pt x="20003" y="9085"/>
                  <a:pt x="19993" y="9128"/>
                </a:cubicBezTo>
                <a:cubicBezTo>
                  <a:pt x="19980" y="9182"/>
                  <a:pt x="19971" y="9247"/>
                  <a:pt x="19968" y="9302"/>
                </a:cubicBezTo>
                <a:cubicBezTo>
                  <a:pt x="19963" y="9387"/>
                  <a:pt x="19974" y="9448"/>
                  <a:pt x="19993" y="9525"/>
                </a:cubicBezTo>
                <a:cubicBezTo>
                  <a:pt x="20006" y="9575"/>
                  <a:pt x="20024" y="9581"/>
                  <a:pt x="20067" y="9599"/>
                </a:cubicBezTo>
                <a:cubicBezTo>
                  <a:pt x="20131" y="9626"/>
                  <a:pt x="20152" y="9621"/>
                  <a:pt x="20216" y="9599"/>
                </a:cubicBezTo>
                <a:cubicBezTo>
                  <a:pt x="20252" y="9587"/>
                  <a:pt x="20323" y="9538"/>
                  <a:pt x="20340" y="9500"/>
                </a:cubicBezTo>
                <a:cubicBezTo>
                  <a:pt x="20365" y="9443"/>
                  <a:pt x="20357" y="9453"/>
                  <a:pt x="20340" y="9401"/>
                </a:cubicBezTo>
                <a:cubicBezTo>
                  <a:pt x="20321" y="9344"/>
                  <a:pt x="20278" y="9380"/>
                  <a:pt x="20241" y="9401"/>
                </a:cubicBezTo>
                <a:cubicBezTo>
                  <a:pt x="20197" y="9427"/>
                  <a:pt x="20162" y="9473"/>
                  <a:pt x="20141" y="9525"/>
                </a:cubicBezTo>
                <a:cubicBezTo>
                  <a:pt x="20126" y="9562"/>
                  <a:pt x="20119" y="9590"/>
                  <a:pt x="20092" y="9624"/>
                </a:cubicBezTo>
              </a:path>
              <a:path w="5235" h="2035">
                <a:moveTo>
                  <a:pt x="19248" y="9798"/>
                </a:moveTo>
                <a:cubicBezTo>
                  <a:pt x="19372" y="9827"/>
                  <a:pt x="19450" y="9812"/>
                  <a:pt x="19571" y="9798"/>
                </a:cubicBezTo>
                <a:cubicBezTo>
                  <a:pt x="19760" y="9777"/>
                  <a:pt x="19958" y="9803"/>
                  <a:pt x="20141" y="9823"/>
                </a:cubicBezTo>
                <a:cubicBezTo>
                  <a:pt x="20219" y="9832"/>
                  <a:pt x="20277" y="9817"/>
                  <a:pt x="20340" y="9798"/>
                </a:cubicBezTo>
                <a:cubicBezTo>
                  <a:pt x="20396" y="9781"/>
                  <a:pt x="20352" y="9773"/>
                  <a:pt x="20315" y="9773"/>
                </a:cubicBezTo>
              </a:path>
              <a:path w="5235" h="2035">
                <a:moveTo>
                  <a:pt x="19546" y="10021"/>
                </a:moveTo>
                <a:cubicBezTo>
                  <a:pt x="19651" y="10021"/>
                  <a:pt x="19747" y="10006"/>
                  <a:pt x="19844" y="9996"/>
                </a:cubicBezTo>
                <a:cubicBezTo>
                  <a:pt x="19887" y="9992"/>
                  <a:pt x="19881" y="10010"/>
                  <a:pt x="19893" y="9971"/>
                </a:cubicBezTo>
              </a:path>
              <a:path w="5235" h="2035">
                <a:moveTo>
                  <a:pt x="19472" y="10046"/>
                </a:moveTo>
                <a:cubicBezTo>
                  <a:pt x="19455" y="10119"/>
                  <a:pt x="19447" y="10153"/>
                  <a:pt x="19447" y="10220"/>
                </a:cubicBezTo>
                <a:cubicBezTo>
                  <a:pt x="19447" y="10245"/>
                  <a:pt x="19447" y="10269"/>
                  <a:pt x="19447" y="10294"/>
                </a:cubicBezTo>
                <a:cubicBezTo>
                  <a:pt x="19481" y="10283"/>
                  <a:pt x="19475" y="10254"/>
                  <a:pt x="19496" y="10244"/>
                </a:cubicBezTo>
                <a:cubicBezTo>
                  <a:pt x="19543" y="10220"/>
                  <a:pt x="19635" y="10249"/>
                  <a:pt x="19670" y="10269"/>
                </a:cubicBezTo>
                <a:cubicBezTo>
                  <a:pt x="19708" y="10291"/>
                  <a:pt x="19791" y="10336"/>
                  <a:pt x="19819" y="10368"/>
                </a:cubicBezTo>
                <a:cubicBezTo>
                  <a:pt x="19859" y="10414"/>
                  <a:pt x="19844" y="10486"/>
                  <a:pt x="19844" y="10542"/>
                </a:cubicBezTo>
                <a:cubicBezTo>
                  <a:pt x="19844" y="10589"/>
                  <a:pt x="19808" y="10663"/>
                  <a:pt x="19769" y="10691"/>
                </a:cubicBezTo>
                <a:cubicBezTo>
                  <a:pt x="19720" y="10727"/>
                  <a:pt x="19630" y="10736"/>
                  <a:pt x="19571" y="10740"/>
                </a:cubicBezTo>
                <a:cubicBezTo>
                  <a:pt x="19520" y="10744"/>
                  <a:pt x="19488" y="10728"/>
                  <a:pt x="19447" y="10716"/>
                </a:cubicBezTo>
                <a:cubicBezTo>
                  <a:pt x="19418" y="10708"/>
                  <a:pt x="19359" y="10712"/>
                  <a:pt x="19422" y="106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89080" y="4152960"/>
            <a:ext cx="2322720" cy="768240"/>
          </a:xfrm>
          <a:custGeom>
            <a:avLst/>
            <a:gdLst/>
            <a:ahLst/>
            <a:rect l="l" t="t" r="r" b="b"/>
            <a:pathLst>
              <a:path w="6451" h="2134">
                <a:moveTo>
                  <a:pt x="6201" y="11584"/>
                </a:moveTo>
                <a:cubicBezTo>
                  <a:pt x="6201" y="11692"/>
                  <a:pt x="6195" y="11802"/>
                  <a:pt x="6176" y="11906"/>
                </a:cubicBezTo>
                <a:cubicBezTo>
                  <a:pt x="6157" y="12009"/>
                  <a:pt x="6152" y="12098"/>
                  <a:pt x="6152" y="12204"/>
                </a:cubicBezTo>
                <a:cubicBezTo>
                  <a:pt x="6152" y="12291"/>
                  <a:pt x="6127" y="12362"/>
                  <a:pt x="6127" y="12452"/>
                </a:cubicBezTo>
                <a:cubicBezTo>
                  <a:pt x="6127" y="12473"/>
                  <a:pt x="6127" y="12641"/>
                  <a:pt x="6127" y="12576"/>
                </a:cubicBezTo>
                <a:cubicBezTo>
                  <a:pt x="6127" y="12568"/>
                  <a:pt x="6127" y="12559"/>
                  <a:pt x="6127" y="12551"/>
                </a:cubicBezTo>
              </a:path>
              <a:path w="6451" h="2134">
                <a:moveTo>
                  <a:pt x="5804" y="12105"/>
                </a:moveTo>
                <a:cubicBezTo>
                  <a:pt x="5871" y="12105"/>
                  <a:pt x="5916" y="12119"/>
                  <a:pt x="5978" y="12129"/>
                </a:cubicBezTo>
                <a:cubicBezTo>
                  <a:pt x="6049" y="12140"/>
                  <a:pt x="6134" y="12146"/>
                  <a:pt x="6201" y="12154"/>
                </a:cubicBezTo>
                <a:cubicBezTo>
                  <a:pt x="6341" y="12172"/>
                  <a:pt x="6514" y="12169"/>
                  <a:pt x="6648" y="12129"/>
                </a:cubicBezTo>
              </a:path>
              <a:path w="6451" h="2134">
                <a:moveTo>
                  <a:pt x="7268" y="12179"/>
                </a:moveTo>
                <a:cubicBezTo>
                  <a:pt x="7293" y="12179"/>
                  <a:pt x="7301" y="12179"/>
                  <a:pt x="7293" y="12154"/>
                </a:cubicBezTo>
                <a:cubicBezTo>
                  <a:pt x="7247" y="12154"/>
                  <a:pt x="7234" y="12134"/>
                  <a:pt x="7193" y="12129"/>
                </a:cubicBezTo>
                <a:cubicBezTo>
                  <a:pt x="7149" y="12124"/>
                  <a:pt x="7126" y="12126"/>
                  <a:pt x="7094" y="12154"/>
                </a:cubicBezTo>
                <a:cubicBezTo>
                  <a:pt x="7055" y="12189"/>
                  <a:pt x="7000" y="12208"/>
                  <a:pt x="6970" y="12254"/>
                </a:cubicBezTo>
                <a:cubicBezTo>
                  <a:pt x="6941" y="12298"/>
                  <a:pt x="6900" y="12349"/>
                  <a:pt x="6896" y="12402"/>
                </a:cubicBezTo>
                <a:cubicBezTo>
                  <a:pt x="6891" y="12473"/>
                  <a:pt x="6924" y="12505"/>
                  <a:pt x="6970" y="12551"/>
                </a:cubicBezTo>
                <a:cubicBezTo>
                  <a:pt x="6999" y="12580"/>
                  <a:pt x="7051" y="12590"/>
                  <a:pt x="7094" y="12576"/>
                </a:cubicBezTo>
                <a:cubicBezTo>
                  <a:pt x="7149" y="12558"/>
                  <a:pt x="7228" y="12483"/>
                  <a:pt x="7243" y="12427"/>
                </a:cubicBezTo>
                <a:cubicBezTo>
                  <a:pt x="7255" y="12383"/>
                  <a:pt x="7268" y="12350"/>
                  <a:pt x="7268" y="12303"/>
                </a:cubicBezTo>
                <a:cubicBezTo>
                  <a:pt x="7268" y="12261"/>
                  <a:pt x="7268" y="12336"/>
                  <a:pt x="7268" y="12378"/>
                </a:cubicBezTo>
                <a:cubicBezTo>
                  <a:pt x="7268" y="12411"/>
                  <a:pt x="7295" y="12452"/>
                  <a:pt x="7317" y="12477"/>
                </a:cubicBezTo>
                <a:cubicBezTo>
                  <a:pt x="7339" y="12502"/>
                  <a:pt x="7407" y="12535"/>
                  <a:pt x="7441" y="12526"/>
                </a:cubicBezTo>
                <a:cubicBezTo>
                  <a:pt x="7499" y="12511"/>
                  <a:pt x="7540" y="12482"/>
                  <a:pt x="7590" y="12452"/>
                </a:cubicBezTo>
                <a:cubicBezTo>
                  <a:pt x="7607" y="12444"/>
                  <a:pt x="7623" y="12435"/>
                  <a:pt x="7640" y="12427"/>
                </a:cubicBezTo>
              </a:path>
              <a:path w="6451" h="2134">
                <a:moveTo>
                  <a:pt x="7764" y="12105"/>
                </a:moveTo>
                <a:cubicBezTo>
                  <a:pt x="7746" y="12188"/>
                  <a:pt x="7739" y="12246"/>
                  <a:pt x="7739" y="12328"/>
                </a:cubicBezTo>
                <a:cubicBezTo>
                  <a:pt x="7739" y="12394"/>
                  <a:pt x="7739" y="12460"/>
                  <a:pt x="7739" y="12526"/>
                </a:cubicBezTo>
                <a:cubicBezTo>
                  <a:pt x="7739" y="12577"/>
                  <a:pt x="7754" y="12477"/>
                  <a:pt x="7764" y="12427"/>
                </a:cubicBezTo>
                <a:cubicBezTo>
                  <a:pt x="7777" y="12363"/>
                  <a:pt x="7794" y="12318"/>
                  <a:pt x="7813" y="12254"/>
                </a:cubicBezTo>
                <a:cubicBezTo>
                  <a:pt x="7820" y="12230"/>
                  <a:pt x="7880" y="12169"/>
                  <a:pt x="7913" y="12154"/>
                </a:cubicBezTo>
                <a:cubicBezTo>
                  <a:pt x="7975" y="12126"/>
                  <a:pt x="8023" y="12168"/>
                  <a:pt x="8062" y="12204"/>
                </a:cubicBezTo>
                <a:cubicBezTo>
                  <a:pt x="8121" y="12259"/>
                  <a:pt x="8145" y="12352"/>
                  <a:pt x="8161" y="12427"/>
                </a:cubicBezTo>
                <a:cubicBezTo>
                  <a:pt x="8172" y="12480"/>
                  <a:pt x="8186" y="12519"/>
                  <a:pt x="8186" y="12576"/>
                </a:cubicBezTo>
                <a:cubicBezTo>
                  <a:pt x="8186" y="12621"/>
                  <a:pt x="8168" y="12630"/>
                  <a:pt x="8210" y="12601"/>
                </a:cubicBezTo>
              </a:path>
              <a:path w="6451" h="2134">
                <a:moveTo>
                  <a:pt x="8930" y="12030"/>
                </a:moveTo>
                <a:cubicBezTo>
                  <a:pt x="8897" y="12143"/>
                  <a:pt x="8847" y="12243"/>
                  <a:pt x="8806" y="12353"/>
                </a:cubicBezTo>
                <a:cubicBezTo>
                  <a:pt x="8775" y="12435"/>
                  <a:pt x="8766" y="12519"/>
                  <a:pt x="8806" y="12601"/>
                </a:cubicBezTo>
                <a:cubicBezTo>
                  <a:pt x="8829" y="12649"/>
                  <a:pt x="8910" y="12672"/>
                  <a:pt x="8954" y="12675"/>
                </a:cubicBezTo>
                <a:cubicBezTo>
                  <a:pt x="9025" y="12679"/>
                  <a:pt x="9078" y="12624"/>
                  <a:pt x="9128" y="12576"/>
                </a:cubicBezTo>
                <a:cubicBezTo>
                  <a:pt x="9201" y="12507"/>
                  <a:pt x="9223" y="12451"/>
                  <a:pt x="9227" y="12353"/>
                </a:cubicBezTo>
                <a:cubicBezTo>
                  <a:pt x="9229" y="12299"/>
                  <a:pt x="9195" y="12193"/>
                  <a:pt x="9153" y="12154"/>
                </a:cubicBezTo>
                <a:cubicBezTo>
                  <a:pt x="9103" y="12108"/>
                  <a:pt x="9034" y="12071"/>
                  <a:pt x="8979" y="12030"/>
                </a:cubicBezTo>
                <a:cubicBezTo>
                  <a:pt x="8951" y="12002"/>
                  <a:pt x="8938" y="11993"/>
                  <a:pt x="8905" y="12005"/>
                </a:cubicBezTo>
              </a:path>
              <a:path w="6451" h="2134">
                <a:moveTo>
                  <a:pt x="8558" y="12254"/>
                </a:moveTo>
                <a:cubicBezTo>
                  <a:pt x="8643" y="12277"/>
                  <a:pt x="8722" y="12260"/>
                  <a:pt x="8806" y="12278"/>
                </a:cubicBezTo>
                <a:cubicBezTo>
                  <a:pt x="8923" y="12303"/>
                  <a:pt x="9031" y="12303"/>
                  <a:pt x="9153" y="12303"/>
                </a:cubicBezTo>
                <a:cubicBezTo>
                  <a:pt x="9211" y="12303"/>
                  <a:pt x="9269" y="12303"/>
                  <a:pt x="9327" y="12303"/>
                </a:cubicBezTo>
              </a:path>
              <a:path w="6451" h="2134">
                <a:moveTo>
                  <a:pt x="9748" y="12229"/>
                </a:moveTo>
                <a:cubicBezTo>
                  <a:pt x="9847" y="12229"/>
                  <a:pt x="9947" y="12229"/>
                  <a:pt x="10046" y="12229"/>
                </a:cubicBezTo>
              </a:path>
              <a:path w="6451" h="2134">
                <a:moveTo>
                  <a:pt x="9699" y="12378"/>
                </a:moveTo>
                <a:cubicBezTo>
                  <a:pt x="9793" y="12460"/>
                  <a:pt x="9794" y="12417"/>
                  <a:pt x="9897" y="12452"/>
                </a:cubicBezTo>
                <a:cubicBezTo>
                  <a:pt x="9950" y="12470"/>
                  <a:pt x="9986" y="12493"/>
                  <a:pt x="10046" y="12502"/>
                </a:cubicBezTo>
              </a:path>
              <a:path w="6451" h="2134">
                <a:moveTo>
                  <a:pt x="11708" y="11633"/>
                </a:moveTo>
                <a:cubicBezTo>
                  <a:pt x="11731" y="11656"/>
                  <a:pt x="11742" y="11664"/>
                  <a:pt x="11708" y="11658"/>
                </a:cubicBezTo>
              </a:path>
              <a:path w="6451" h="2134">
                <a:moveTo>
                  <a:pt x="10468" y="12353"/>
                </a:moveTo>
                <a:cubicBezTo>
                  <a:pt x="10549" y="12375"/>
                  <a:pt x="10608" y="12378"/>
                  <a:pt x="10691" y="12378"/>
                </a:cubicBezTo>
                <a:cubicBezTo>
                  <a:pt x="10768" y="12378"/>
                  <a:pt x="10836" y="12402"/>
                  <a:pt x="10914" y="12402"/>
                </a:cubicBezTo>
                <a:cubicBezTo>
                  <a:pt x="10931" y="12402"/>
                  <a:pt x="10947" y="12402"/>
                  <a:pt x="10964" y="12402"/>
                </a:cubicBezTo>
              </a:path>
              <a:path w="6451" h="2134">
                <a:moveTo>
                  <a:pt x="11708" y="11534"/>
                </a:moveTo>
                <a:cubicBezTo>
                  <a:pt x="11727" y="11642"/>
                  <a:pt x="11733" y="11724"/>
                  <a:pt x="11733" y="11832"/>
                </a:cubicBezTo>
                <a:cubicBezTo>
                  <a:pt x="11733" y="11953"/>
                  <a:pt x="11739" y="12065"/>
                  <a:pt x="11757" y="12179"/>
                </a:cubicBezTo>
                <a:cubicBezTo>
                  <a:pt x="11763" y="12218"/>
                  <a:pt x="11757" y="12263"/>
                  <a:pt x="11757" y="12303"/>
                </a:cubicBezTo>
              </a:path>
              <a:path w="6451" h="2134">
                <a:moveTo>
                  <a:pt x="11361" y="12477"/>
                </a:moveTo>
                <a:cubicBezTo>
                  <a:pt x="11659" y="12477"/>
                  <a:pt x="11956" y="12477"/>
                  <a:pt x="12254" y="12477"/>
                </a:cubicBezTo>
              </a:path>
              <a:path w="6451" h="2134">
                <a:moveTo>
                  <a:pt x="11584" y="12700"/>
                </a:moveTo>
                <a:cubicBezTo>
                  <a:pt x="11668" y="12700"/>
                  <a:pt x="11731" y="12715"/>
                  <a:pt x="11807" y="12725"/>
                </a:cubicBezTo>
                <a:cubicBezTo>
                  <a:pt x="11870" y="12733"/>
                  <a:pt x="11934" y="12736"/>
                  <a:pt x="11981" y="12700"/>
                </a:cubicBezTo>
              </a:path>
              <a:path w="6451" h="2134">
                <a:moveTo>
                  <a:pt x="11584" y="12725"/>
                </a:moveTo>
                <a:cubicBezTo>
                  <a:pt x="11577" y="12757"/>
                  <a:pt x="11537" y="12879"/>
                  <a:pt x="11559" y="12923"/>
                </a:cubicBezTo>
                <a:cubicBezTo>
                  <a:pt x="11581" y="12967"/>
                  <a:pt x="11585" y="12973"/>
                  <a:pt x="11633" y="12973"/>
                </a:cubicBezTo>
                <a:cubicBezTo>
                  <a:pt x="11685" y="12973"/>
                  <a:pt x="11698" y="12923"/>
                  <a:pt x="11757" y="12923"/>
                </a:cubicBezTo>
                <a:cubicBezTo>
                  <a:pt x="11812" y="12923"/>
                  <a:pt x="11857" y="12915"/>
                  <a:pt x="11906" y="12948"/>
                </a:cubicBezTo>
                <a:cubicBezTo>
                  <a:pt x="11947" y="12976"/>
                  <a:pt x="11981" y="13031"/>
                  <a:pt x="12005" y="13072"/>
                </a:cubicBezTo>
                <a:cubicBezTo>
                  <a:pt x="12037" y="13127"/>
                  <a:pt x="12094" y="13232"/>
                  <a:pt x="12105" y="13295"/>
                </a:cubicBezTo>
                <a:cubicBezTo>
                  <a:pt x="12120" y="13382"/>
                  <a:pt x="12111" y="13501"/>
                  <a:pt x="12055" y="13568"/>
                </a:cubicBezTo>
                <a:cubicBezTo>
                  <a:pt x="12005" y="13629"/>
                  <a:pt x="11956" y="13655"/>
                  <a:pt x="11881" y="13667"/>
                </a:cubicBezTo>
                <a:cubicBezTo>
                  <a:pt x="11809" y="13679"/>
                  <a:pt x="11752" y="13648"/>
                  <a:pt x="11683" y="13643"/>
                </a:cubicBezTo>
                <a:cubicBezTo>
                  <a:pt x="11631" y="13639"/>
                  <a:pt x="11602" y="13602"/>
                  <a:pt x="11584" y="13593"/>
                </a:cubicBezTo>
                <a:cubicBezTo>
                  <a:pt x="11559" y="13593"/>
                  <a:pt x="11551" y="13593"/>
                  <a:pt x="11559" y="13568"/>
                </a:cubicBezTo>
                <a:cubicBezTo>
                  <a:pt x="11501" y="13587"/>
                  <a:pt x="11575" y="13599"/>
                  <a:pt x="11485" y="135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6120" y="2241720"/>
            <a:ext cx="1251000" cy="1133280"/>
          </a:xfrm>
          <a:custGeom>
            <a:avLst/>
            <a:gdLst/>
            <a:ahLst/>
            <a:rect l="l" t="t" r="r" b="b"/>
            <a:pathLst>
              <a:path w="3474" h="3151">
                <a:moveTo>
                  <a:pt x="2431" y="6226"/>
                </a:moveTo>
                <a:cubicBezTo>
                  <a:pt x="2464" y="6301"/>
                  <a:pt x="2463" y="6321"/>
                  <a:pt x="2480" y="6400"/>
                </a:cubicBezTo>
                <a:cubicBezTo>
                  <a:pt x="2504" y="6511"/>
                  <a:pt x="2505" y="6607"/>
                  <a:pt x="2505" y="6722"/>
                </a:cubicBezTo>
                <a:cubicBezTo>
                  <a:pt x="2505" y="7096"/>
                  <a:pt x="2499" y="7467"/>
                  <a:pt x="2480" y="7838"/>
                </a:cubicBezTo>
                <a:cubicBezTo>
                  <a:pt x="2469" y="8062"/>
                  <a:pt x="2443" y="8285"/>
                  <a:pt x="2431" y="8508"/>
                </a:cubicBezTo>
                <a:cubicBezTo>
                  <a:pt x="2420" y="8714"/>
                  <a:pt x="2411" y="8922"/>
                  <a:pt x="2406" y="9128"/>
                </a:cubicBezTo>
                <a:cubicBezTo>
                  <a:pt x="2405" y="9159"/>
                  <a:pt x="2406" y="9396"/>
                  <a:pt x="2406" y="9351"/>
                </a:cubicBezTo>
                <a:cubicBezTo>
                  <a:pt x="2406" y="9335"/>
                  <a:pt x="2406" y="9318"/>
                  <a:pt x="2406" y="9302"/>
                </a:cubicBezTo>
              </a:path>
              <a:path w="3474" h="3151">
                <a:moveTo>
                  <a:pt x="769" y="8062"/>
                </a:moveTo>
                <a:cubicBezTo>
                  <a:pt x="857" y="8043"/>
                  <a:pt x="925" y="8040"/>
                  <a:pt x="1017" y="8037"/>
                </a:cubicBezTo>
                <a:cubicBezTo>
                  <a:pt x="1167" y="8033"/>
                  <a:pt x="1314" y="8021"/>
                  <a:pt x="1463" y="8012"/>
                </a:cubicBezTo>
                <a:cubicBezTo>
                  <a:pt x="1670" y="8000"/>
                  <a:pt x="1877" y="7971"/>
                  <a:pt x="2084" y="7962"/>
                </a:cubicBezTo>
                <a:cubicBezTo>
                  <a:pt x="2651" y="7936"/>
                  <a:pt x="3429" y="8117"/>
                  <a:pt x="3969" y="7938"/>
                </a:cubicBezTo>
                <a:cubicBezTo>
                  <a:pt x="4025" y="7919"/>
                  <a:pt x="4038" y="7909"/>
                  <a:pt x="4068" y="7888"/>
                </a:cubicBezTo>
              </a:path>
              <a:path w="3474" h="3151">
                <a:moveTo>
                  <a:pt x="3076" y="7491"/>
                </a:moveTo>
                <a:cubicBezTo>
                  <a:pt x="3076" y="7582"/>
                  <a:pt x="3076" y="7673"/>
                  <a:pt x="3076" y="7764"/>
                </a:cubicBezTo>
                <a:cubicBezTo>
                  <a:pt x="3120" y="7691"/>
                  <a:pt x="3086" y="7666"/>
                  <a:pt x="3076" y="7590"/>
                </a:cubicBezTo>
                <a:cubicBezTo>
                  <a:pt x="3064" y="7501"/>
                  <a:pt x="3061" y="7405"/>
                  <a:pt x="3051" y="7317"/>
                </a:cubicBezTo>
                <a:cubicBezTo>
                  <a:pt x="3035" y="7181"/>
                  <a:pt x="3061" y="7051"/>
                  <a:pt x="3076" y="6921"/>
                </a:cubicBezTo>
                <a:cubicBezTo>
                  <a:pt x="3085" y="6838"/>
                  <a:pt x="3100" y="6770"/>
                  <a:pt x="3150" y="6697"/>
                </a:cubicBezTo>
                <a:cubicBezTo>
                  <a:pt x="3180" y="6653"/>
                  <a:pt x="3202" y="6652"/>
                  <a:pt x="3249" y="6648"/>
                </a:cubicBezTo>
                <a:cubicBezTo>
                  <a:pt x="3354" y="6639"/>
                  <a:pt x="3371" y="6771"/>
                  <a:pt x="3398" y="6846"/>
                </a:cubicBezTo>
                <a:cubicBezTo>
                  <a:pt x="3440" y="6964"/>
                  <a:pt x="3450" y="7075"/>
                  <a:pt x="3473" y="7193"/>
                </a:cubicBezTo>
                <a:cubicBezTo>
                  <a:pt x="3491" y="7286"/>
                  <a:pt x="3528" y="7375"/>
                  <a:pt x="3547" y="7466"/>
                </a:cubicBezTo>
                <a:cubicBezTo>
                  <a:pt x="3551" y="7486"/>
                  <a:pt x="3557" y="7603"/>
                  <a:pt x="3572" y="7615"/>
                </a:cubicBezTo>
                <a:cubicBezTo>
                  <a:pt x="3607" y="7643"/>
                  <a:pt x="3563" y="7568"/>
                  <a:pt x="3547" y="7541"/>
                </a:cubicBezTo>
              </a:path>
              <a:path w="3474" h="3151">
                <a:moveTo>
                  <a:pt x="3125" y="7317"/>
                </a:moveTo>
                <a:cubicBezTo>
                  <a:pt x="3235" y="7296"/>
                  <a:pt x="3342" y="7270"/>
                  <a:pt x="3448" y="7243"/>
                </a:cubicBezTo>
                <a:cubicBezTo>
                  <a:pt x="3508" y="7223"/>
                  <a:pt x="3523" y="7224"/>
                  <a:pt x="3547" y="7193"/>
                </a:cubicBezTo>
              </a:path>
              <a:path w="3474" h="3151">
                <a:moveTo>
                  <a:pt x="1736" y="6772"/>
                </a:moveTo>
                <a:cubicBezTo>
                  <a:pt x="1668" y="6810"/>
                  <a:pt x="1607" y="6856"/>
                  <a:pt x="1538" y="6896"/>
                </a:cubicBezTo>
                <a:cubicBezTo>
                  <a:pt x="1450" y="6946"/>
                  <a:pt x="1386" y="6998"/>
                  <a:pt x="1315" y="7069"/>
                </a:cubicBezTo>
                <a:cubicBezTo>
                  <a:pt x="1274" y="7110"/>
                  <a:pt x="1246" y="7121"/>
                  <a:pt x="1290" y="7169"/>
                </a:cubicBezTo>
                <a:cubicBezTo>
                  <a:pt x="1346" y="7231"/>
                  <a:pt x="1439" y="7238"/>
                  <a:pt x="1513" y="7268"/>
                </a:cubicBezTo>
                <a:cubicBezTo>
                  <a:pt x="1566" y="7290"/>
                  <a:pt x="1661" y="7307"/>
                  <a:pt x="1687" y="7367"/>
                </a:cubicBezTo>
                <a:cubicBezTo>
                  <a:pt x="1713" y="7427"/>
                  <a:pt x="1652" y="7467"/>
                  <a:pt x="1612" y="7491"/>
                </a:cubicBezTo>
                <a:cubicBezTo>
                  <a:pt x="1549" y="7528"/>
                  <a:pt x="1472" y="7570"/>
                  <a:pt x="1414" y="7615"/>
                </a:cubicBezTo>
                <a:cubicBezTo>
                  <a:pt x="1363" y="7655"/>
                  <a:pt x="1311" y="7693"/>
                  <a:pt x="1265" y="7739"/>
                </a:cubicBezTo>
              </a:path>
              <a:path w="3474" h="3151">
                <a:moveTo>
                  <a:pt x="1463" y="8508"/>
                </a:moveTo>
                <a:cubicBezTo>
                  <a:pt x="1463" y="8656"/>
                  <a:pt x="1483" y="8786"/>
                  <a:pt x="1488" y="8930"/>
                </a:cubicBezTo>
                <a:cubicBezTo>
                  <a:pt x="1491" y="9019"/>
                  <a:pt x="1506" y="9094"/>
                  <a:pt x="1513" y="9178"/>
                </a:cubicBezTo>
                <a:cubicBezTo>
                  <a:pt x="1514" y="9189"/>
                  <a:pt x="1513" y="9294"/>
                  <a:pt x="1513" y="9227"/>
                </a:cubicBezTo>
                <a:cubicBezTo>
                  <a:pt x="1513" y="9194"/>
                  <a:pt x="1480" y="9157"/>
                  <a:pt x="1463" y="9128"/>
                </a:cubicBezTo>
              </a:path>
              <a:path w="3474" h="3151">
                <a:moveTo>
                  <a:pt x="992" y="8508"/>
                </a:moveTo>
                <a:cubicBezTo>
                  <a:pt x="1057" y="8456"/>
                  <a:pt x="1112" y="8458"/>
                  <a:pt x="1191" y="8434"/>
                </a:cubicBezTo>
                <a:cubicBezTo>
                  <a:pt x="1307" y="8398"/>
                  <a:pt x="1421" y="8379"/>
                  <a:pt x="1538" y="8359"/>
                </a:cubicBezTo>
                <a:cubicBezTo>
                  <a:pt x="1660" y="8339"/>
                  <a:pt x="1764" y="8334"/>
                  <a:pt x="1885" y="8334"/>
                </a:cubicBezTo>
              </a:path>
              <a:path w="3474" h="3151">
                <a:moveTo>
                  <a:pt x="3125" y="8409"/>
                </a:moveTo>
                <a:cubicBezTo>
                  <a:pt x="3200" y="8428"/>
                  <a:pt x="3233" y="8462"/>
                  <a:pt x="3225" y="8409"/>
                </a:cubicBezTo>
                <a:cubicBezTo>
                  <a:pt x="3186" y="8399"/>
                  <a:pt x="3170" y="8384"/>
                  <a:pt x="3125" y="8384"/>
                </a:cubicBezTo>
                <a:cubicBezTo>
                  <a:pt x="3053" y="8384"/>
                  <a:pt x="2969" y="8454"/>
                  <a:pt x="2927" y="8508"/>
                </a:cubicBezTo>
                <a:cubicBezTo>
                  <a:pt x="2893" y="8551"/>
                  <a:pt x="2838" y="8675"/>
                  <a:pt x="2828" y="8731"/>
                </a:cubicBezTo>
                <a:cubicBezTo>
                  <a:pt x="2817" y="8793"/>
                  <a:pt x="2825" y="8886"/>
                  <a:pt x="2877" y="8930"/>
                </a:cubicBezTo>
                <a:cubicBezTo>
                  <a:pt x="2938" y="8982"/>
                  <a:pt x="2998" y="9000"/>
                  <a:pt x="3076" y="9004"/>
                </a:cubicBezTo>
                <a:cubicBezTo>
                  <a:pt x="3182" y="9009"/>
                  <a:pt x="3302" y="9020"/>
                  <a:pt x="3398" y="8979"/>
                </a:cubicBezTo>
                <a:cubicBezTo>
                  <a:pt x="3432" y="8964"/>
                  <a:pt x="3543" y="8953"/>
                  <a:pt x="3473" y="8930"/>
                </a:cubicBezTo>
              </a:path>
              <a:path w="3474" h="3151">
                <a:moveTo>
                  <a:pt x="2555" y="7938"/>
                </a:moveTo>
                <a:cubicBezTo>
                  <a:pt x="2633" y="7888"/>
                  <a:pt x="2711" y="7852"/>
                  <a:pt x="2778" y="7789"/>
                </a:cubicBezTo>
                <a:cubicBezTo>
                  <a:pt x="2868" y="7704"/>
                  <a:pt x="2959" y="7641"/>
                  <a:pt x="3051" y="7565"/>
                </a:cubicBezTo>
                <a:cubicBezTo>
                  <a:pt x="3170" y="7466"/>
                  <a:pt x="3297" y="7360"/>
                  <a:pt x="3423" y="7268"/>
                </a:cubicBezTo>
                <a:cubicBezTo>
                  <a:pt x="3556" y="7171"/>
                  <a:pt x="3695" y="7079"/>
                  <a:pt x="3820" y="6970"/>
                </a:cubicBezTo>
                <a:cubicBezTo>
                  <a:pt x="3937" y="6868"/>
                  <a:pt x="4092" y="6734"/>
                  <a:pt x="4167" y="6598"/>
                </a:cubicBezTo>
                <a:cubicBezTo>
                  <a:pt x="4197" y="6545"/>
                  <a:pt x="4200" y="6500"/>
                  <a:pt x="4217" y="6449"/>
                </a:cubicBezTo>
                <a:cubicBezTo>
                  <a:pt x="4240" y="6381"/>
                  <a:pt x="4276" y="6428"/>
                  <a:pt x="4192" y="6424"/>
                </a:cubicBezTo>
                <a:cubicBezTo>
                  <a:pt x="4094" y="6419"/>
                  <a:pt x="4093" y="6412"/>
                  <a:pt x="3969" y="6375"/>
                </a:cubicBezTo>
              </a:path>
              <a:path w="3474" h="3151">
                <a:moveTo>
                  <a:pt x="2853" y="6350"/>
                </a:moveTo>
                <a:cubicBezTo>
                  <a:pt x="2840" y="6385"/>
                  <a:pt x="2812" y="6432"/>
                  <a:pt x="2828" y="6474"/>
                </a:cubicBezTo>
                <a:cubicBezTo>
                  <a:pt x="2851" y="6536"/>
                  <a:pt x="2916" y="6595"/>
                  <a:pt x="2952" y="6648"/>
                </a:cubicBezTo>
                <a:cubicBezTo>
                  <a:pt x="3006" y="6728"/>
                  <a:pt x="3072" y="6787"/>
                  <a:pt x="3150" y="6846"/>
                </a:cubicBezTo>
                <a:cubicBezTo>
                  <a:pt x="3251" y="6922"/>
                  <a:pt x="3343" y="7025"/>
                  <a:pt x="3448" y="7094"/>
                </a:cubicBezTo>
                <a:cubicBezTo>
                  <a:pt x="3548" y="7160"/>
                  <a:pt x="3645" y="7226"/>
                  <a:pt x="3746" y="7293"/>
                </a:cubicBezTo>
                <a:cubicBezTo>
                  <a:pt x="3845" y="7359"/>
                  <a:pt x="3923" y="7447"/>
                  <a:pt x="4018" y="7516"/>
                </a:cubicBezTo>
                <a:cubicBezTo>
                  <a:pt x="4051" y="7540"/>
                  <a:pt x="4131" y="7601"/>
                  <a:pt x="4167" y="7615"/>
                </a:cubicBezTo>
                <a:cubicBezTo>
                  <a:pt x="4190" y="7624"/>
                  <a:pt x="4170" y="7604"/>
                  <a:pt x="4192" y="7615"/>
                </a:cubicBezTo>
              </a:path>
              <a:path w="3474" h="3151">
                <a:moveTo>
                  <a:pt x="1811" y="8334"/>
                </a:moveTo>
                <a:cubicBezTo>
                  <a:pt x="1747" y="8398"/>
                  <a:pt x="1693" y="8465"/>
                  <a:pt x="1637" y="8533"/>
                </a:cubicBezTo>
                <a:cubicBezTo>
                  <a:pt x="1560" y="8627"/>
                  <a:pt x="1453" y="8748"/>
                  <a:pt x="1364" y="8830"/>
                </a:cubicBezTo>
                <a:cubicBezTo>
                  <a:pt x="1274" y="8913"/>
                  <a:pt x="1234" y="8985"/>
                  <a:pt x="1166" y="9079"/>
                </a:cubicBezTo>
                <a:cubicBezTo>
                  <a:pt x="1153" y="9097"/>
                  <a:pt x="919" y="9349"/>
                  <a:pt x="893" y="9327"/>
                </a:cubicBezTo>
                <a:cubicBezTo>
                  <a:pt x="893" y="9302"/>
                  <a:pt x="893" y="9294"/>
                  <a:pt x="893" y="9277"/>
                </a:cubicBezTo>
              </a:path>
              <a:path w="3474" h="3151">
                <a:moveTo>
                  <a:pt x="819" y="8285"/>
                </a:moveTo>
                <a:cubicBezTo>
                  <a:pt x="826" y="8351"/>
                  <a:pt x="823" y="8400"/>
                  <a:pt x="868" y="8458"/>
                </a:cubicBezTo>
                <a:cubicBezTo>
                  <a:pt x="921" y="8526"/>
                  <a:pt x="1005" y="8626"/>
                  <a:pt x="1067" y="8682"/>
                </a:cubicBezTo>
                <a:cubicBezTo>
                  <a:pt x="1183" y="8788"/>
                  <a:pt x="1323" y="8868"/>
                  <a:pt x="1439" y="8979"/>
                </a:cubicBezTo>
                <a:cubicBezTo>
                  <a:pt x="1511" y="9049"/>
                  <a:pt x="1590" y="9107"/>
                  <a:pt x="1662" y="9178"/>
                </a:cubicBezTo>
                <a:cubicBezTo>
                  <a:pt x="1716" y="9232"/>
                  <a:pt x="1781" y="9252"/>
                  <a:pt x="1836" y="9302"/>
                </a:cubicBezTo>
                <a:cubicBezTo>
                  <a:pt x="1897" y="9358"/>
                  <a:pt x="1864" y="9319"/>
                  <a:pt x="1860" y="9277"/>
                </a:cubicBezTo>
                <a:cubicBezTo>
                  <a:pt x="1860" y="9269"/>
                  <a:pt x="1860" y="9260"/>
                  <a:pt x="1860" y="9252"/>
                </a:cubicBezTo>
              </a:path>
              <a:path w="3474" h="3151">
                <a:moveTo>
                  <a:pt x="2679" y="8210"/>
                </a:moveTo>
                <a:cubicBezTo>
                  <a:pt x="2771" y="8283"/>
                  <a:pt x="2863" y="8358"/>
                  <a:pt x="2952" y="8434"/>
                </a:cubicBezTo>
                <a:cubicBezTo>
                  <a:pt x="3049" y="8517"/>
                  <a:pt x="3173" y="8555"/>
                  <a:pt x="3274" y="8632"/>
                </a:cubicBezTo>
                <a:cubicBezTo>
                  <a:pt x="3382" y="8715"/>
                  <a:pt x="3489" y="8796"/>
                  <a:pt x="3597" y="8880"/>
                </a:cubicBezTo>
                <a:cubicBezTo>
                  <a:pt x="3672" y="8938"/>
                  <a:pt x="3745" y="9010"/>
                  <a:pt x="3820" y="9054"/>
                </a:cubicBezTo>
                <a:cubicBezTo>
                  <a:pt x="3878" y="9088"/>
                  <a:pt x="3893" y="9099"/>
                  <a:pt x="3944" y="9079"/>
                </a:cubicBezTo>
                <a:cubicBezTo>
                  <a:pt x="3928" y="9051"/>
                  <a:pt x="3922" y="9032"/>
                  <a:pt x="3894" y="9004"/>
                </a:cubicBezTo>
              </a:path>
              <a:path w="3474" h="3151">
                <a:moveTo>
                  <a:pt x="3547" y="8260"/>
                </a:moveTo>
                <a:cubicBezTo>
                  <a:pt x="3483" y="8324"/>
                  <a:pt x="3416" y="8375"/>
                  <a:pt x="3349" y="8434"/>
                </a:cubicBezTo>
                <a:cubicBezTo>
                  <a:pt x="3245" y="8526"/>
                  <a:pt x="3131" y="8598"/>
                  <a:pt x="3026" y="8682"/>
                </a:cubicBezTo>
                <a:cubicBezTo>
                  <a:pt x="2929" y="8759"/>
                  <a:pt x="2868" y="8875"/>
                  <a:pt x="2778" y="8954"/>
                </a:cubicBezTo>
                <a:cubicBezTo>
                  <a:pt x="2711" y="9013"/>
                  <a:pt x="2633" y="9085"/>
                  <a:pt x="2555" y="9128"/>
                </a:cubicBezTo>
                <a:cubicBezTo>
                  <a:pt x="2506" y="9155"/>
                  <a:pt x="2444" y="9222"/>
                  <a:pt x="2381" y="9203"/>
                </a:cubicBezTo>
                <a:cubicBezTo>
                  <a:pt x="2351" y="9173"/>
                  <a:pt x="2340" y="9159"/>
                  <a:pt x="2332" y="91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2760" y="4643280"/>
            <a:ext cx="1106280" cy="741600"/>
          </a:xfrm>
          <a:custGeom>
            <a:avLst/>
            <a:gdLst/>
            <a:ahLst/>
            <a:rect l="l" t="t" r="r" b="b"/>
            <a:pathLst>
              <a:path w="3077" h="2060">
                <a:moveTo>
                  <a:pt x="1339" y="14436"/>
                </a:moveTo>
                <a:cubicBezTo>
                  <a:pt x="1374" y="14401"/>
                  <a:pt x="1379" y="14368"/>
                  <a:pt x="1439" y="14337"/>
                </a:cubicBezTo>
                <a:cubicBezTo>
                  <a:pt x="1543" y="14283"/>
                  <a:pt x="1657" y="14246"/>
                  <a:pt x="1761" y="14188"/>
                </a:cubicBezTo>
                <a:cubicBezTo>
                  <a:pt x="1924" y="14096"/>
                  <a:pt x="2086" y="13992"/>
                  <a:pt x="2257" y="13915"/>
                </a:cubicBezTo>
                <a:cubicBezTo>
                  <a:pt x="2464" y="13822"/>
                  <a:pt x="2653" y="13693"/>
                  <a:pt x="2853" y="13593"/>
                </a:cubicBezTo>
                <a:cubicBezTo>
                  <a:pt x="3036" y="13501"/>
                  <a:pt x="3217" y="13415"/>
                  <a:pt x="3398" y="13320"/>
                </a:cubicBezTo>
                <a:cubicBezTo>
                  <a:pt x="3522" y="13254"/>
                  <a:pt x="3650" y="13194"/>
                  <a:pt x="3770" y="13122"/>
                </a:cubicBezTo>
                <a:cubicBezTo>
                  <a:pt x="3867" y="13064"/>
                  <a:pt x="3980" y="13017"/>
                  <a:pt x="4068" y="12948"/>
                </a:cubicBezTo>
                <a:cubicBezTo>
                  <a:pt x="4096" y="12926"/>
                  <a:pt x="4101" y="12913"/>
                  <a:pt x="4118" y="12898"/>
                </a:cubicBezTo>
                <a:cubicBezTo>
                  <a:pt x="4118" y="13062"/>
                  <a:pt x="4113" y="13236"/>
                  <a:pt x="4142" y="13395"/>
                </a:cubicBezTo>
                <a:cubicBezTo>
                  <a:pt x="4181" y="13611"/>
                  <a:pt x="4234" y="13822"/>
                  <a:pt x="4266" y="14039"/>
                </a:cubicBezTo>
                <a:cubicBezTo>
                  <a:pt x="4287" y="14181"/>
                  <a:pt x="4350" y="14319"/>
                  <a:pt x="4366" y="14461"/>
                </a:cubicBezTo>
                <a:cubicBezTo>
                  <a:pt x="4379" y="14583"/>
                  <a:pt x="4404" y="14717"/>
                  <a:pt x="4415" y="14833"/>
                </a:cubicBezTo>
                <a:cubicBezTo>
                  <a:pt x="4418" y="14866"/>
                  <a:pt x="4413" y="14899"/>
                  <a:pt x="4415" y="14932"/>
                </a:cubicBezTo>
                <a:cubicBezTo>
                  <a:pt x="4368" y="14940"/>
                  <a:pt x="4355" y="14966"/>
                  <a:pt x="4291" y="14957"/>
                </a:cubicBezTo>
                <a:cubicBezTo>
                  <a:pt x="4236" y="14949"/>
                  <a:pt x="4154" y="14905"/>
                  <a:pt x="4093" y="14883"/>
                </a:cubicBezTo>
                <a:cubicBezTo>
                  <a:pt x="3942" y="14828"/>
                  <a:pt x="3799" y="14818"/>
                  <a:pt x="3646" y="14784"/>
                </a:cubicBezTo>
                <a:cubicBezTo>
                  <a:pt x="3421" y="14734"/>
                  <a:pt x="3204" y="14709"/>
                  <a:pt x="2977" y="14684"/>
                </a:cubicBezTo>
                <a:cubicBezTo>
                  <a:pt x="2750" y="14659"/>
                  <a:pt x="2485" y="14615"/>
                  <a:pt x="2257" y="14635"/>
                </a:cubicBezTo>
                <a:cubicBezTo>
                  <a:pt x="2098" y="14649"/>
                  <a:pt x="1947" y="14640"/>
                  <a:pt x="1786" y="14660"/>
                </a:cubicBezTo>
                <a:cubicBezTo>
                  <a:pt x="1686" y="14672"/>
                  <a:pt x="1619" y="14687"/>
                  <a:pt x="1538" y="14709"/>
                </a:cubicBezTo>
                <a:cubicBezTo>
                  <a:pt x="1503" y="14719"/>
                  <a:pt x="1497" y="14698"/>
                  <a:pt x="1488" y="14734"/>
                </a:cubicBezTo>
                <a:cubicBezTo>
                  <a:pt x="1496" y="14734"/>
                  <a:pt x="1505" y="14734"/>
                  <a:pt x="1513" y="147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1960" y="4813200"/>
            <a:ext cx="19080" cy="258840"/>
          </a:xfrm>
          <a:custGeom>
            <a:avLst/>
            <a:gdLst/>
            <a:ahLst/>
            <a:rect l="l" t="t" r="r" b="b"/>
            <a:pathLst>
              <a:path w="51" h="720">
                <a:moveTo>
                  <a:pt x="4837" y="13370"/>
                </a:moveTo>
                <a:cubicBezTo>
                  <a:pt x="4849" y="13417"/>
                  <a:pt x="4879" y="13460"/>
                  <a:pt x="4862" y="13519"/>
                </a:cubicBezTo>
                <a:cubicBezTo>
                  <a:pt x="4842" y="13591"/>
                  <a:pt x="4824" y="13669"/>
                  <a:pt x="4812" y="13742"/>
                </a:cubicBezTo>
                <a:cubicBezTo>
                  <a:pt x="4798" y="13829"/>
                  <a:pt x="4815" y="13918"/>
                  <a:pt x="4837" y="13990"/>
                </a:cubicBezTo>
                <a:cubicBezTo>
                  <a:pt x="4841" y="14004"/>
                  <a:pt x="4837" y="14130"/>
                  <a:pt x="4837" y="140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17720" y="5419800"/>
            <a:ext cx="134640" cy="9360"/>
          </a:xfrm>
          <a:custGeom>
            <a:avLst/>
            <a:gdLst/>
            <a:ahLst/>
            <a:rect l="l" t="t" r="r" b="b"/>
            <a:pathLst>
              <a:path w="373" h="26">
                <a:moveTo>
                  <a:pt x="2828" y="15081"/>
                </a:moveTo>
                <a:cubicBezTo>
                  <a:pt x="2891" y="15053"/>
                  <a:pt x="2930" y="15056"/>
                  <a:pt x="3001" y="15056"/>
                </a:cubicBezTo>
                <a:cubicBezTo>
                  <a:pt x="3067" y="15056"/>
                  <a:pt x="3134" y="15056"/>
                  <a:pt x="3200" y="150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3080" y="5402160"/>
            <a:ext cx="169920" cy="241560"/>
          </a:xfrm>
          <a:custGeom>
            <a:avLst/>
            <a:gdLst/>
            <a:ahLst/>
            <a:rect l="l" t="t" r="r" b="b"/>
            <a:pathLst>
              <a:path w="472" h="671">
                <a:moveTo>
                  <a:pt x="2853" y="15007"/>
                </a:moveTo>
                <a:cubicBezTo>
                  <a:pt x="2825" y="15053"/>
                  <a:pt x="2784" y="15105"/>
                  <a:pt x="2778" y="15156"/>
                </a:cubicBezTo>
                <a:cubicBezTo>
                  <a:pt x="2774" y="15189"/>
                  <a:pt x="2768" y="15238"/>
                  <a:pt x="2803" y="15255"/>
                </a:cubicBezTo>
                <a:cubicBezTo>
                  <a:pt x="2842" y="15275"/>
                  <a:pt x="2962" y="15267"/>
                  <a:pt x="3001" y="15280"/>
                </a:cubicBezTo>
                <a:cubicBezTo>
                  <a:pt x="3070" y="15304"/>
                  <a:pt x="3150" y="15387"/>
                  <a:pt x="3175" y="15453"/>
                </a:cubicBezTo>
                <a:cubicBezTo>
                  <a:pt x="3193" y="15501"/>
                  <a:pt x="3169" y="15566"/>
                  <a:pt x="3150" y="15602"/>
                </a:cubicBezTo>
                <a:cubicBezTo>
                  <a:pt x="3110" y="15677"/>
                  <a:pt x="3080" y="15677"/>
                  <a:pt x="3001" y="15677"/>
                </a:cubicBezTo>
                <a:cubicBezTo>
                  <a:pt x="2910" y="15677"/>
                  <a:pt x="2830" y="15678"/>
                  <a:pt x="2753" y="15652"/>
                </a:cubicBezTo>
                <a:cubicBezTo>
                  <a:pt x="2714" y="15639"/>
                  <a:pt x="2714" y="15644"/>
                  <a:pt x="2704" y="156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84200" y="5170320"/>
            <a:ext cx="160560" cy="18756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4291" y="14412"/>
                </a:moveTo>
                <a:cubicBezTo>
                  <a:pt x="4136" y="14357"/>
                  <a:pt x="4168" y="14365"/>
                  <a:pt x="4043" y="14387"/>
                </a:cubicBezTo>
                <a:cubicBezTo>
                  <a:pt x="3973" y="14399"/>
                  <a:pt x="3945" y="14409"/>
                  <a:pt x="3894" y="14461"/>
                </a:cubicBezTo>
                <a:cubicBezTo>
                  <a:pt x="3865" y="14490"/>
                  <a:pt x="3848" y="14543"/>
                  <a:pt x="3845" y="14585"/>
                </a:cubicBezTo>
                <a:cubicBezTo>
                  <a:pt x="3842" y="14627"/>
                  <a:pt x="3877" y="14722"/>
                  <a:pt x="3894" y="14759"/>
                </a:cubicBezTo>
                <a:cubicBezTo>
                  <a:pt x="3902" y="14777"/>
                  <a:pt x="3990" y="14862"/>
                  <a:pt x="3969" y="14883"/>
                </a:cubicBezTo>
                <a:cubicBezTo>
                  <a:pt x="3961" y="14883"/>
                  <a:pt x="3952" y="14883"/>
                  <a:pt x="3944" y="148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5320" y="4616280"/>
            <a:ext cx="196920" cy="357480"/>
          </a:xfrm>
          <a:custGeom>
            <a:avLst/>
            <a:gdLst/>
            <a:ahLst/>
            <a:rect l="l" t="t" r="r" b="b"/>
            <a:pathLst>
              <a:path w="547" h="993">
                <a:moveTo>
                  <a:pt x="1836" y="13519"/>
                </a:moveTo>
                <a:cubicBezTo>
                  <a:pt x="1836" y="13580"/>
                  <a:pt x="1836" y="13664"/>
                  <a:pt x="1860" y="13717"/>
                </a:cubicBezTo>
                <a:cubicBezTo>
                  <a:pt x="1877" y="13753"/>
                  <a:pt x="1882" y="13845"/>
                  <a:pt x="1910" y="13816"/>
                </a:cubicBezTo>
                <a:cubicBezTo>
                  <a:pt x="1936" y="13789"/>
                  <a:pt x="1869" y="13709"/>
                  <a:pt x="1860" y="13692"/>
                </a:cubicBezTo>
                <a:cubicBezTo>
                  <a:pt x="1819" y="13615"/>
                  <a:pt x="1817" y="13549"/>
                  <a:pt x="1786" y="13469"/>
                </a:cubicBezTo>
                <a:cubicBezTo>
                  <a:pt x="1755" y="13387"/>
                  <a:pt x="1736" y="13334"/>
                  <a:pt x="1736" y="13246"/>
                </a:cubicBezTo>
                <a:cubicBezTo>
                  <a:pt x="1736" y="13129"/>
                  <a:pt x="1751" y="13112"/>
                  <a:pt x="1836" y="13022"/>
                </a:cubicBezTo>
                <a:cubicBezTo>
                  <a:pt x="1903" y="12952"/>
                  <a:pt x="1972" y="12935"/>
                  <a:pt x="2059" y="12898"/>
                </a:cubicBezTo>
                <a:cubicBezTo>
                  <a:pt x="2124" y="12871"/>
                  <a:pt x="2198" y="12842"/>
                  <a:pt x="2257" y="12824"/>
                </a:cubicBezTo>
                <a:cubicBezTo>
                  <a:pt x="2265" y="12824"/>
                  <a:pt x="2274" y="12824"/>
                  <a:pt x="2282" y="128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1880" y="4705200"/>
            <a:ext cx="125280" cy="17964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2034" y="13072"/>
                </a:moveTo>
                <a:cubicBezTo>
                  <a:pt x="2054" y="13102"/>
                  <a:pt x="2082" y="13150"/>
                  <a:pt x="2133" y="13122"/>
                </a:cubicBezTo>
                <a:cubicBezTo>
                  <a:pt x="2157" y="13109"/>
                  <a:pt x="2197" y="13077"/>
                  <a:pt x="2232" y="13097"/>
                </a:cubicBezTo>
                <a:cubicBezTo>
                  <a:pt x="2276" y="13122"/>
                  <a:pt x="2298" y="13173"/>
                  <a:pt x="2282" y="13221"/>
                </a:cubicBezTo>
                <a:cubicBezTo>
                  <a:pt x="2263" y="13278"/>
                  <a:pt x="2219" y="13348"/>
                  <a:pt x="2183" y="13395"/>
                </a:cubicBezTo>
                <a:cubicBezTo>
                  <a:pt x="2149" y="13439"/>
                  <a:pt x="2133" y="13463"/>
                  <a:pt x="2133" y="13519"/>
                </a:cubicBezTo>
                <a:cubicBezTo>
                  <a:pt x="2133" y="13558"/>
                  <a:pt x="2194" y="13566"/>
                  <a:pt x="2232" y="13568"/>
                </a:cubicBezTo>
                <a:cubicBezTo>
                  <a:pt x="2301" y="13571"/>
                  <a:pt x="2329" y="13574"/>
                  <a:pt x="2381" y="135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1160" y="4705200"/>
            <a:ext cx="133560" cy="125640"/>
          </a:xfrm>
          <a:custGeom>
            <a:avLst/>
            <a:gdLst/>
            <a:ahLst/>
            <a:rect l="l" t="t" r="r" b="b"/>
            <a:pathLst>
              <a:path w="373" h="348">
                <a:moveTo>
                  <a:pt x="2530" y="13072"/>
                </a:moveTo>
                <a:cubicBezTo>
                  <a:pt x="2530" y="13143"/>
                  <a:pt x="2508" y="13262"/>
                  <a:pt x="2555" y="13320"/>
                </a:cubicBezTo>
                <a:cubicBezTo>
                  <a:pt x="2588" y="13361"/>
                  <a:pt x="2625" y="13391"/>
                  <a:pt x="2679" y="13395"/>
                </a:cubicBezTo>
                <a:cubicBezTo>
                  <a:pt x="2764" y="13401"/>
                  <a:pt x="2850" y="13354"/>
                  <a:pt x="2877" y="13271"/>
                </a:cubicBezTo>
                <a:cubicBezTo>
                  <a:pt x="2886" y="13242"/>
                  <a:pt x="2909" y="13193"/>
                  <a:pt x="2877" y="13171"/>
                </a:cubicBezTo>
                <a:cubicBezTo>
                  <a:pt x="2848" y="13151"/>
                  <a:pt x="2796" y="13180"/>
                  <a:pt x="2778" y="13196"/>
                </a:cubicBezTo>
                <a:cubicBezTo>
                  <a:pt x="2749" y="13222"/>
                  <a:pt x="2720" y="13280"/>
                  <a:pt x="2729" y="13320"/>
                </a:cubicBezTo>
                <a:cubicBezTo>
                  <a:pt x="2752" y="13368"/>
                  <a:pt x="2760" y="13383"/>
                  <a:pt x="2753" y="134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880" y="5419800"/>
            <a:ext cx="144360" cy="28440"/>
          </a:xfrm>
          <a:custGeom>
            <a:avLst/>
            <a:gdLst/>
            <a:ahLst/>
            <a:rect l="l" t="t" r="r" b="b"/>
            <a:pathLst>
              <a:path w="398" h="76">
                <a:moveTo>
                  <a:pt x="2034" y="15056"/>
                </a:moveTo>
                <a:cubicBezTo>
                  <a:pt x="2086" y="15063"/>
                  <a:pt x="2158" y="15066"/>
                  <a:pt x="2208" y="15081"/>
                </a:cubicBezTo>
                <a:cubicBezTo>
                  <a:pt x="2265" y="15098"/>
                  <a:pt x="2322" y="15127"/>
                  <a:pt x="2381" y="15131"/>
                </a:cubicBezTo>
                <a:cubicBezTo>
                  <a:pt x="2398" y="15131"/>
                  <a:pt x="2414" y="15131"/>
                  <a:pt x="2431" y="151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3.  Tan </a:t>
            </a:r>
            <a:r>
              <a:rPr b="0" lang="el-GR" sz="40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c08d"/>
                </a:solidFill>
                <a:latin typeface="Arial"/>
                <a:ea typeface="Arial"/>
              </a:rPr>
              <a:t> is undefined and          sin </a:t>
            </a:r>
            <a:r>
              <a:rPr b="0" lang="el-GR" sz="40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c08d"/>
                </a:solidFill>
                <a:latin typeface="Arial"/>
                <a:ea typeface="Arial"/>
              </a:rPr>
              <a:t> &gt; 0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76640" y="2143080"/>
            <a:ext cx="955440" cy="366840"/>
          </a:xfrm>
          <a:custGeom>
            <a:avLst/>
            <a:gdLst/>
            <a:ahLst/>
            <a:rect l="l" t="t" r="r" b="b"/>
            <a:pathLst>
              <a:path w="2655" h="1018">
                <a:moveTo>
                  <a:pt x="6648" y="6251"/>
                </a:moveTo>
                <a:cubicBezTo>
                  <a:pt x="6648" y="6314"/>
                  <a:pt x="6635" y="6209"/>
                  <a:pt x="6623" y="6201"/>
                </a:cubicBezTo>
                <a:cubicBezTo>
                  <a:pt x="6585" y="6176"/>
                  <a:pt x="6505" y="6218"/>
                  <a:pt x="6474" y="6226"/>
                </a:cubicBezTo>
                <a:cubicBezTo>
                  <a:pt x="6448" y="6233"/>
                  <a:pt x="6390" y="6247"/>
                  <a:pt x="6375" y="6276"/>
                </a:cubicBezTo>
                <a:cubicBezTo>
                  <a:pt x="6353" y="6319"/>
                  <a:pt x="6325" y="6346"/>
                  <a:pt x="6325" y="6400"/>
                </a:cubicBezTo>
                <a:cubicBezTo>
                  <a:pt x="6325" y="6479"/>
                  <a:pt x="6426" y="6482"/>
                  <a:pt x="6474" y="6499"/>
                </a:cubicBezTo>
                <a:cubicBezTo>
                  <a:pt x="6589" y="6540"/>
                  <a:pt x="6723" y="6610"/>
                  <a:pt x="6796" y="6697"/>
                </a:cubicBezTo>
                <a:cubicBezTo>
                  <a:pt x="6829" y="6737"/>
                  <a:pt x="6821" y="6771"/>
                  <a:pt x="6821" y="6821"/>
                </a:cubicBezTo>
                <a:cubicBezTo>
                  <a:pt x="6821" y="6867"/>
                  <a:pt x="6764" y="6889"/>
                  <a:pt x="6722" y="6896"/>
                </a:cubicBezTo>
                <a:cubicBezTo>
                  <a:pt x="6661" y="6907"/>
                  <a:pt x="6612" y="6921"/>
                  <a:pt x="6548" y="6921"/>
                </a:cubicBezTo>
                <a:cubicBezTo>
                  <a:pt x="6525" y="6921"/>
                  <a:pt x="6445" y="6908"/>
                  <a:pt x="6424" y="6896"/>
                </a:cubicBezTo>
                <a:cubicBezTo>
                  <a:pt x="6411" y="6889"/>
                  <a:pt x="6340" y="6849"/>
                  <a:pt x="6375" y="6821"/>
                </a:cubicBezTo>
                <a:cubicBezTo>
                  <a:pt x="6403" y="6821"/>
                  <a:pt x="6414" y="6819"/>
                  <a:pt x="6424" y="6796"/>
                </a:cubicBezTo>
              </a:path>
              <a:path w="2655" h="1018">
                <a:moveTo>
                  <a:pt x="7094" y="6325"/>
                </a:moveTo>
                <a:cubicBezTo>
                  <a:pt x="7107" y="6375"/>
                  <a:pt x="7119" y="6389"/>
                  <a:pt x="7119" y="6449"/>
                </a:cubicBezTo>
                <a:cubicBezTo>
                  <a:pt x="7119" y="6546"/>
                  <a:pt x="7119" y="6917"/>
                  <a:pt x="7119" y="6846"/>
                </a:cubicBezTo>
                <a:cubicBezTo>
                  <a:pt x="7119" y="6838"/>
                  <a:pt x="7119" y="6829"/>
                  <a:pt x="7119" y="6821"/>
                </a:cubicBezTo>
              </a:path>
              <a:path w="2655" h="1018">
                <a:moveTo>
                  <a:pt x="7169" y="6003"/>
                </a:moveTo>
                <a:cubicBezTo>
                  <a:pt x="7169" y="5978"/>
                  <a:pt x="7169" y="5970"/>
                  <a:pt x="7169" y="5953"/>
                </a:cubicBezTo>
              </a:path>
              <a:path w="2655" h="1018">
                <a:moveTo>
                  <a:pt x="7392" y="6722"/>
                </a:moveTo>
                <a:cubicBezTo>
                  <a:pt x="7396" y="6800"/>
                  <a:pt x="7417" y="6974"/>
                  <a:pt x="7417" y="6896"/>
                </a:cubicBezTo>
                <a:cubicBezTo>
                  <a:pt x="7417" y="6841"/>
                  <a:pt x="7438" y="6802"/>
                  <a:pt x="7441" y="6747"/>
                </a:cubicBezTo>
                <a:cubicBezTo>
                  <a:pt x="7445" y="6681"/>
                  <a:pt x="7442" y="6608"/>
                  <a:pt x="7466" y="6548"/>
                </a:cubicBezTo>
                <a:cubicBezTo>
                  <a:pt x="7483" y="6505"/>
                  <a:pt x="7546" y="6360"/>
                  <a:pt x="7590" y="6325"/>
                </a:cubicBezTo>
                <a:cubicBezTo>
                  <a:pt x="7611" y="6308"/>
                  <a:pt x="7707" y="6287"/>
                  <a:pt x="7739" y="6300"/>
                </a:cubicBezTo>
                <a:cubicBezTo>
                  <a:pt x="7790" y="6321"/>
                  <a:pt x="7816" y="6405"/>
                  <a:pt x="7838" y="6449"/>
                </a:cubicBezTo>
                <a:cubicBezTo>
                  <a:pt x="7873" y="6518"/>
                  <a:pt x="7884" y="6595"/>
                  <a:pt x="7888" y="6672"/>
                </a:cubicBezTo>
                <a:cubicBezTo>
                  <a:pt x="7891" y="6745"/>
                  <a:pt x="7908" y="6801"/>
                  <a:pt x="7913" y="6871"/>
                </a:cubicBezTo>
                <a:cubicBezTo>
                  <a:pt x="7916" y="6906"/>
                  <a:pt x="7898" y="6950"/>
                  <a:pt x="7938" y="6970"/>
                </a:cubicBezTo>
                <a:cubicBezTo>
                  <a:pt x="7961" y="6982"/>
                  <a:pt x="7974" y="6938"/>
                  <a:pt x="7987" y="6921"/>
                </a:cubicBezTo>
              </a:path>
              <a:path w="2655" h="1018">
                <a:moveTo>
                  <a:pt x="8657" y="6201"/>
                </a:moveTo>
                <a:cubicBezTo>
                  <a:pt x="8599" y="6281"/>
                  <a:pt x="8525" y="6358"/>
                  <a:pt x="8483" y="6449"/>
                </a:cubicBezTo>
                <a:cubicBezTo>
                  <a:pt x="8438" y="6546"/>
                  <a:pt x="8436" y="6650"/>
                  <a:pt x="8409" y="6747"/>
                </a:cubicBezTo>
                <a:cubicBezTo>
                  <a:pt x="8395" y="6797"/>
                  <a:pt x="8382" y="6899"/>
                  <a:pt x="8434" y="6945"/>
                </a:cubicBezTo>
                <a:cubicBezTo>
                  <a:pt x="8467" y="6974"/>
                  <a:pt x="8572" y="6966"/>
                  <a:pt x="8607" y="6945"/>
                </a:cubicBezTo>
                <a:cubicBezTo>
                  <a:pt x="8677" y="6903"/>
                  <a:pt x="8762" y="6810"/>
                  <a:pt x="8806" y="6747"/>
                </a:cubicBezTo>
                <a:cubicBezTo>
                  <a:pt x="8859" y="6671"/>
                  <a:pt x="8934" y="6540"/>
                  <a:pt x="8930" y="6449"/>
                </a:cubicBezTo>
                <a:cubicBezTo>
                  <a:pt x="8926" y="6356"/>
                  <a:pt x="8825" y="6198"/>
                  <a:pt x="8731" y="6176"/>
                </a:cubicBezTo>
                <a:cubicBezTo>
                  <a:pt x="8695" y="6167"/>
                  <a:pt x="8624" y="6135"/>
                  <a:pt x="8582" y="6152"/>
                </a:cubicBezTo>
                <a:cubicBezTo>
                  <a:pt x="8574" y="6160"/>
                  <a:pt x="8566" y="6168"/>
                  <a:pt x="8558" y="6176"/>
                </a:cubicBezTo>
              </a:path>
              <a:path w="2655" h="1018">
                <a:moveTo>
                  <a:pt x="8334" y="6474"/>
                </a:moveTo>
                <a:cubicBezTo>
                  <a:pt x="8384" y="6504"/>
                  <a:pt x="8421" y="6499"/>
                  <a:pt x="8483" y="6499"/>
                </a:cubicBezTo>
                <a:cubicBezTo>
                  <a:pt x="8648" y="6499"/>
                  <a:pt x="8814" y="6499"/>
                  <a:pt x="8979" y="64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02000" y="2303640"/>
            <a:ext cx="152280" cy="98280"/>
          </a:xfrm>
          <a:custGeom>
            <a:avLst/>
            <a:gdLst/>
            <a:ahLst/>
            <a:rect l="l" t="t" r="r" b="b"/>
            <a:pathLst>
              <a:path w="422" h="273">
                <a:moveTo>
                  <a:pt x="9451" y="6400"/>
                </a:moveTo>
                <a:cubicBezTo>
                  <a:pt x="9525" y="6400"/>
                  <a:pt x="9600" y="6400"/>
                  <a:pt x="9674" y="6400"/>
                </a:cubicBezTo>
              </a:path>
              <a:path w="422" h="273">
                <a:moveTo>
                  <a:pt x="9451" y="6598"/>
                </a:moveTo>
                <a:cubicBezTo>
                  <a:pt x="9541" y="6614"/>
                  <a:pt x="9635" y="6644"/>
                  <a:pt x="9723" y="6648"/>
                </a:cubicBezTo>
                <a:cubicBezTo>
                  <a:pt x="9798" y="6651"/>
                  <a:pt x="9806" y="6663"/>
                  <a:pt x="9872" y="66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11760" y="2152800"/>
            <a:ext cx="36360" cy="303120"/>
          </a:xfrm>
          <a:custGeom>
            <a:avLst/>
            <a:gdLst/>
            <a:ahLst/>
            <a:rect l="l" t="t" r="r" b="b"/>
            <a:pathLst>
              <a:path w="101" h="844">
                <a:moveTo>
                  <a:pt x="10939" y="5978"/>
                </a:moveTo>
                <a:cubicBezTo>
                  <a:pt x="10966" y="5987"/>
                  <a:pt x="10978" y="6013"/>
                  <a:pt x="10964" y="6052"/>
                </a:cubicBezTo>
                <a:cubicBezTo>
                  <a:pt x="10927" y="6155"/>
                  <a:pt x="10940" y="6270"/>
                  <a:pt x="10914" y="6375"/>
                </a:cubicBezTo>
                <a:cubicBezTo>
                  <a:pt x="10894" y="6457"/>
                  <a:pt x="10864" y="6510"/>
                  <a:pt x="10864" y="6598"/>
                </a:cubicBezTo>
                <a:cubicBezTo>
                  <a:pt x="10864" y="6623"/>
                  <a:pt x="10871" y="6845"/>
                  <a:pt x="10889" y="6821"/>
                </a:cubicBezTo>
                <a:cubicBezTo>
                  <a:pt x="10889" y="6813"/>
                  <a:pt x="10889" y="6804"/>
                  <a:pt x="10889" y="67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87720" y="3321000"/>
            <a:ext cx="1214280" cy="304920"/>
          </a:xfrm>
          <a:custGeom>
            <a:avLst/>
            <a:gdLst/>
            <a:ahLst/>
            <a:rect l="l" t="t" r="r" b="b"/>
            <a:pathLst>
              <a:path w="3375" h="845">
                <a:moveTo>
                  <a:pt x="6400" y="9277"/>
                </a:moveTo>
                <a:cubicBezTo>
                  <a:pt x="6436" y="9286"/>
                  <a:pt x="6462" y="9314"/>
                  <a:pt x="6474" y="9351"/>
                </a:cubicBezTo>
                <a:cubicBezTo>
                  <a:pt x="6474" y="9359"/>
                  <a:pt x="6474" y="9368"/>
                  <a:pt x="6474" y="9376"/>
                </a:cubicBezTo>
                <a:cubicBezTo>
                  <a:pt x="6445" y="9366"/>
                  <a:pt x="6429" y="9342"/>
                  <a:pt x="6424" y="9302"/>
                </a:cubicBezTo>
                <a:cubicBezTo>
                  <a:pt x="6421" y="9272"/>
                  <a:pt x="6379" y="9256"/>
                  <a:pt x="6350" y="9227"/>
                </a:cubicBezTo>
                <a:cubicBezTo>
                  <a:pt x="6296" y="9281"/>
                  <a:pt x="6232" y="9330"/>
                  <a:pt x="6201" y="9401"/>
                </a:cubicBezTo>
                <a:cubicBezTo>
                  <a:pt x="6165" y="9482"/>
                  <a:pt x="6137" y="9568"/>
                  <a:pt x="6102" y="9649"/>
                </a:cubicBezTo>
                <a:cubicBezTo>
                  <a:pt x="6067" y="9730"/>
                  <a:pt x="6077" y="9809"/>
                  <a:pt x="6077" y="9897"/>
                </a:cubicBezTo>
                <a:cubicBezTo>
                  <a:pt x="6077" y="9964"/>
                  <a:pt x="6104" y="10050"/>
                  <a:pt x="6176" y="10071"/>
                </a:cubicBezTo>
                <a:cubicBezTo>
                  <a:pt x="6242" y="10091"/>
                  <a:pt x="6340" y="10075"/>
                  <a:pt x="6400" y="10046"/>
                </a:cubicBezTo>
                <a:cubicBezTo>
                  <a:pt x="6519" y="9985"/>
                  <a:pt x="6546" y="9983"/>
                  <a:pt x="6598" y="9922"/>
                </a:cubicBezTo>
              </a:path>
              <a:path w="3375" h="845">
                <a:moveTo>
                  <a:pt x="6796" y="9500"/>
                </a:moveTo>
                <a:cubicBezTo>
                  <a:pt x="6767" y="9588"/>
                  <a:pt x="6747" y="9656"/>
                  <a:pt x="6747" y="9748"/>
                </a:cubicBezTo>
                <a:cubicBezTo>
                  <a:pt x="6747" y="9798"/>
                  <a:pt x="6778" y="9889"/>
                  <a:pt x="6821" y="9922"/>
                </a:cubicBezTo>
                <a:cubicBezTo>
                  <a:pt x="6866" y="9957"/>
                  <a:pt x="6906" y="9945"/>
                  <a:pt x="6945" y="9922"/>
                </a:cubicBezTo>
                <a:cubicBezTo>
                  <a:pt x="7008" y="9885"/>
                  <a:pt x="7057" y="9861"/>
                  <a:pt x="7094" y="9798"/>
                </a:cubicBezTo>
                <a:cubicBezTo>
                  <a:pt x="7132" y="9733"/>
                  <a:pt x="7126" y="9682"/>
                  <a:pt x="7094" y="9624"/>
                </a:cubicBezTo>
                <a:cubicBezTo>
                  <a:pt x="7063" y="9568"/>
                  <a:pt x="7009" y="9537"/>
                  <a:pt x="6945" y="9525"/>
                </a:cubicBezTo>
                <a:cubicBezTo>
                  <a:pt x="6927" y="9522"/>
                  <a:pt x="6796" y="9520"/>
                  <a:pt x="6796" y="9500"/>
                </a:cubicBezTo>
                <a:cubicBezTo>
                  <a:pt x="6804" y="9500"/>
                  <a:pt x="6813" y="9500"/>
                  <a:pt x="6821" y="9500"/>
                </a:cubicBezTo>
              </a:path>
              <a:path w="3375" h="845">
                <a:moveTo>
                  <a:pt x="7590" y="9376"/>
                </a:moveTo>
                <a:cubicBezTo>
                  <a:pt x="7532" y="9420"/>
                  <a:pt x="7468" y="9452"/>
                  <a:pt x="7392" y="9475"/>
                </a:cubicBezTo>
                <a:cubicBezTo>
                  <a:pt x="7364" y="9475"/>
                  <a:pt x="7353" y="9477"/>
                  <a:pt x="7342" y="9500"/>
                </a:cubicBezTo>
                <a:cubicBezTo>
                  <a:pt x="7358" y="9582"/>
                  <a:pt x="7383" y="9576"/>
                  <a:pt x="7441" y="9624"/>
                </a:cubicBezTo>
                <a:cubicBezTo>
                  <a:pt x="7496" y="9669"/>
                  <a:pt x="7575" y="9712"/>
                  <a:pt x="7615" y="9773"/>
                </a:cubicBezTo>
                <a:cubicBezTo>
                  <a:pt x="7651" y="9827"/>
                  <a:pt x="7640" y="9903"/>
                  <a:pt x="7565" y="9922"/>
                </a:cubicBezTo>
                <a:cubicBezTo>
                  <a:pt x="7495" y="9940"/>
                  <a:pt x="7417" y="9947"/>
                  <a:pt x="7342" y="9947"/>
                </a:cubicBezTo>
                <a:cubicBezTo>
                  <a:pt x="7245" y="9947"/>
                  <a:pt x="7270" y="9939"/>
                  <a:pt x="7342" y="9897"/>
                </a:cubicBezTo>
              </a:path>
              <a:path w="3375" h="845">
                <a:moveTo>
                  <a:pt x="8235" y="9550"/>
                </a:moveTo>
                <a:cubicBezTo>
                  <a:pt x="8182" y="9624"/>
                  <a:pt x="8086" y="9732"/>
                  <a:pt x="8062" y="9823"/>
                </a:cubicBezTo>
                <a:cubicBezTo>
                  <a:pt x="8045" y="9890"/>
                  <a:pt x="8017" y="9972"/>
                  <a:pt x="8086" y="10021"/>
                </a:cubicBezTo>
                <a:cubicBezTo>
                  <a:pt x="8143" y="10062"/>
                  <a:pt x="8215" y="10085"/>
                  <a:pt x="8285" y="10071"/>
                </a:cubicBezTo>
                <a:cubicBezTo>
                  <a:pt x="8360" y="10056"/>
                  <a:pt x="8460" y="10009"/>
                  <a:pt x="8508" y="9947"/>
                </a:cubicBezTo>
                <a:cubicBezTo>
                  <a:pt x="8574" y="9860"/>
                  <a:pt x="8567" y="9758"/>
                  <a:pt x="8508" y="9674"/>
                </a:cubicBezTo>
                <a:cubicBezTo>
                  <a:pt x="8468" y="9616"/>
                  <a:pt x="8412" y="9589"/>
                  <a:pt x="8359" y="9550"/>
                </a:cubicBezTo>
                <a:cubicBezTo>
                  <a:pt x="8321" y="9521"/>
                  <a:pt x="8281" y="9480"/>
                  <a:pt x="8235" y="9475"/>
                </a:cubicBezTo>
                <a:cubicBezTo>
                  <a:pt x="8202" y="9475"/>
                  <a:pt x="8186" y="9475"/>
                  <a:pt x="8161" y="9475"/>
                </a:cubicBezTo>
              </a:path>
              <a:path w="3375" h="845">
                <a:moveTo>
                  <a:pt x="7962" y="9649"/>
                </a:moveTo>
                <a:cubicBezTo>
                  <a:pt x="8019" y="9692"/>
                  <a:pt x="8064" y="9660"/>
                  <a:pt x="8136" y="9674"/>
                </a:cubicBezTo>
                <a:cubicBezTo>
                  <a:pt x="8239" y="9694"/>
                  <a:pt x="8327" y="9699"/>
                  <a:pt x="8434" y="9699"/>
                </a:cubicBezTo>
                <a:cubicBezTo>
                  <a:pt x="8525" y="9699"/>
                  <a:pt x="8549" y="9699"/>
                  <a:pt x="8607" y="9699"/>
                </a:cubicBezTo>
              </a:path>
              <a:path w="3375" h="845">
                <a:moveTo>
                  <a:pt x="9079" y="9624"/>
                </a:moveTo>
                <a:cubicBezTo>
                  <a:pt x="9186" y="9624"/>
                  <a:pt x="9294" y="9624"/>
                  <a:pt x="9401" y="9624"/>
                </a:cubicBezTo>
              </a:path>
              <a:path w="3375" h="845">
                <a:moveTo>
                  <a:pt x="9029" y="9773"/>
                </a:moveTo>
                <a:cubicBezTo>
                  <a:pt x="9118" y="9840"/>
                  <a:pt x="9209" y="9842"/>
                  <a:pt x="9327" y="9847"/>
                </a:cubicBezTo>
                <a:cubicBezTo>
                  <a:pt x="9375" y="9849"/>
                  <a:pt x="9406" y="9863"/>
                  <a:pt x="9451" y="98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06840" y="3321000"/>
            <a:ext cx="287280" cy="339840"/>
          </a:xfrm>
          <a:custGeom>
            <a:avLst/>
            <a:gdLst/>
            <a:ahLst/>
            <a:rect l="l" t="t" r="r" b="b"/>
            <a:pathLst>
              <a:path w="795" h="944">
                <a:moveTo>
                  <a:pt x="10244" y="9227"/>
                </a:moveTo>
                <a:cubicBezTo>
                  <a:pt x="10206" y="9276"/>
                  <a:pt x="10196" y="9321"/>
                  <a:pt x="10170" y="9376"/>
                </a:cubicBezTo>
                <a:cubicBezTo>
                  <a:pt x="10133" y="9454"/>
                  <a:pt x="10065" y="9510"/>
                  <a:pt x="10046" y="9599"/>
                </a:cubicBezTo>
                <a:cubicBezTo>
                  <a:pt x="10032" y="9664"/>
                  <a:pt x="10013" y="9783"/>
                  <a:pt x="10021" y="9847"/>
                </a:cubicBezTo>
                <a:cubicBezTo>
                  <a:pt x="10032" y="9938"/>
                  <a:pt x="10067" y="10043"/>
                  <a:pt x="10120" y="10120"/>
                </a:cubicBezTo>
                <a:cubicBezTo>
                  <a:pt x="10162" y="10181"/>
                  <a:pt x="10231" y="10170"/>
                  <a:pt x="10294" y="10170"/>
                </a:cubicBezTo>
                <a:cubicBezTo>
                  <a:pt x="10373" y="10170"/>
                  <a:pt x="10499" y="10139"/>
                  <a:pt x="10567" y="10096"/>
                </a:cubicBezTo>
                <a:cubicBezTo>
                  <a:pt x="10631" y="10055"/>
                  <a:pt x="10720" y="9985"/>
                  <a:pt x="10765" y="9922"/>
                </a:cubicBezTo>
                <a:cubicBezTo>
                  <a:pt x="10815" y="9852"/>
                  <a:pt x="10796" y="9765"/>
                  <a:pt x="10790" y="9699"/>
                </a:cubicBezTo>
                <a:cubicBezTo>
                  <a:pt x="10780" y="9584"/>
                  <a:pt x="10749" y="9557"/>
                  <a:pt x="10666" y="9475"/>
                </a:cubicBezTo>
                <a:cubicBezTo>
                  <a:pt x="10591" y="9401"/>
                  <a:pt x="10495" y="9342"/>
                  <a:pt x="10393" y="9327"/>
                </a:cubicBezTo>
                <a:cubicBezTo>
                  <a:pt x="10320" y="9317"/>
                  <a:pt x="10275" y="9331"/>
                  <a:pt x="10220" y="93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05640" y="3411360"/>
            <a:ext cx="2233440" cy="347760"/>
          </a:xfrm>
          <a:custGeom>
            <a:avLst/>
            <a:gdLst/>
            <a:ahLst/>
            <a:rect l="l" t="t" r="r" b="b"/>
            <a:pathLst>
              <a:path w="6202" h="969">
                <a:moveTo>
                  <a:pt x="16173" y="9773"/>
                </a:moveTo>
                <a:cubicBezTo>
                  <a:pt x="16173" y="9713"/>
                  <a:pt x="16165" y="9736"/>
                  <a:pt x="16123" y="9699"/>
                </a:cubicBezTo>
                <a:cubicBezTo>
                  <a:pt x="16084" y="9665"/>
                  <a:pt x="16052" y="9653"/>
                  <a:pt x="15999" y="9649"/>
                </a:cubicBezTo>
                <a:cubicBezTo>
                  <a:pt x="15923" y="9643"/>
                  <a:pt x="15931" y="9674"/>
                  <a:pt x="15875" y="9699"/>
                </a:cubicBezTo>
                <a:cubicBezTo>
                  <a:pt x="15820" y="9723"/>
                  <a:pt x="15865" y="9729"/>
                  <a:pt x="15875" y="9773"/>
                </a:cubicBezTo>
                <a:cubicBezTo>
                  <a:pt x="15895" y="9867"/>
                  <a:pt x="15950" y="9866"/>
                  <a:pt x="16024" y="9922"/>
                </a:cubicBezTo>
                <a:cubicBezTo>
                  <a:pt x="16084" y="9967"/>
                  <a:pt x="16172" y="10049"/>
                  <a:pt x="16197" y="10120"/>
                </a:cubicBezTo>
                <a:cubicBezTo>
                  <a:pt x="16206" y="10147"/>
                  <a:pt x="16257" y="10296"/>
                  <a:pt x="16197" y="10319"/>
                </a:cubicBezTo>
                <a:cubicBezTo>
                  <a:pt x="16122" y="10348"/>
                  <a:pt x="16069" y="10337"/>
                  <a:pt x="15999" y="10319"/>
                </a:cubicBezTo>
                <a:cubicBezTo>
                  <a:pt x="15954" y="10308"/>
                  <a:pt x="15936" y="10290"/>
                  <a:pt x="15925" y="10244"/>
                </a:cubicBezTo>
              </a:path>
              <a:path w="6202" h="969">
                <a:moveTo>
                  <a:pt x="16148" y="10096"/>
                </a:moveTo>
                <a:cubicBezTo>
                  <a:pt x="16250" y="10060"/>
                  <a:pt x="16353" y="10028"/>
                  <a:pt x="16446" y="9971"/>
                </a:cubicBezTo>
                <a:cubicBezTo>
                  <a:pt x="16481" y="9950"/>
                  <a:pt x="16574" y="9893"/>
                  <a:pt x="16594" y="9847"/>
                </a:cubicBezTo>
                <a:cubicBezTo>
                  <a:pt x="16594" y="9823"/>
                  <a:pt x="16594" y="9814"/>
                  <a:pt x="16594" y="9798"/>
                </a:cubicBezTo>
                <a:cubicBezTo>
                  <a:pt x="16573" y="9782"/>
                  <a:pt x="16501" y="9747"/>
                  <a:pt x="16470" y="9773"/>
                </a:cubicBezTo>
                <a:cubicBezTo>
                  <a:pt x="16429" y="9807"/>
                  <a:pt x="16395" y="9900"/>
                  <a:pt x="16371" y="9947"/>
                </a:cubicBezTo>
                <a:cubicBezTo>
                  <a:pt x="16325" y="10039"/>
                  <a:pt x="16324" y="10051"/>
                  <a:pt x="16346" y="10145"/>
                </a:cubicBezTo>
                <a:cubicBezTo>
                  <a:pt x="16363" y="10219"/>
                  <a:pt x="16393" y="10221"/>
                  <a:pt x="16446" y="10269"/>
                </a:cubicBezTo>
                <a:cubicBezTo>
                  <a:pt x="16515" y="10332"/>
                  <a:pt x="16550" y="10250"/>
                  <a:pt x="16594" y="10195"/>
                </a:cubicBezTo>
              </a:path>
              <a:path w="6202" h="969">
                <a:moveTo>
                  <a:pt x="16867" y="9798"/>
                </a:moveTo>
                <a:cubicBezTo>
                  <a:pt x="16892" y="9798"/>
                  <a:pt x="16900" y="9798"/>
                  <a:pt x="16892" y="9773"/>
                </a:cubicBezTo>
                <a:cubicBezTo>
                  <a:pt x="16855" y="9782"/>
                  <a:pt x="16822" y="9796"/>
                  <a:pt x="16793" y="9823"/>
                </a:cubicBezTo>
                <a:cubicBezTo>
                  <a:pt x="16739" y="9874"/>
                  <a:pt x="16658" y="9965"/>
                  <a:pt x="16644" y="10046"/>
                </a:cubicBezTo>
                <a:cubicBezTo>
                  <a:pt x="16630" y="10126"/>
                  <a:pt x="16648" y="10182"/>
                  <a:pt x="16694" y="10244"/>
                </a:cubicBezTo>
                <a:cubicBezTo>
                  <a:pt x="16735" y="10300"/>
                  <a:pt x="16828" y="10309"/>
                  <a:pt x="16892" y="10294"/>
                </a:cubicBezTo>
                <a:cubicBezTo>
                  <a:pt x="16962" y="10259"/>
                  <a:pt x="16997" y="10237"/>
                  <a:pt x="17041" y="10195"/>
                </a:cubicBezTo>
              </a:path>
              <a:path w="6202" h="969">
                <a:moveTo>
                  <a:pt x="17239" y="9773"/>
                </a:moveTo>
                <a:cubicBezTo>
                  <a:pt x="17232" y="9887"/>
                  <a:pt x="17214" y="9981"/>
                  <a:pt x="17214" y="10096"/>
                </a:cubicBezTo>
                <a:cubicBezTo>
                  <a:pt x="17214" y="10180"/>
                  <a:pt x="17258" y="10238"/>
                  <a:pt x="17338" y="10269"/>
                </a:cubicBezTo>
                <a:cubicBezTo>
                  <a:pt x="17382" y="10286"/>
                  <a:pt x="17432" y="10271"/>
                  <a:pt x="17462" y="10244"/>
                </a:cubicBezTo>
                <a:cubicBezTo>
                  <a:pt x="17519" y="10194"/>
                  <a:pt x="17534" y="10118"/>
                  <a:pt x="17537" y="10046"/>
                </a:cubicBezTo>
                <a:cubicBezTo>
                  <a:pt x="17541" y="9953"/>
                  <a:pt x="17506" y="9920"/>
                  <a:pt x="17462" y="9847"/>
                </a:cubicBezTo>
                <a:cubicBezTo>
                  <a:pt x="17422" y="9780"/>
                  <a:pt x="17372" y="9717"/>
                  <a:pt x="17289" y="9699"/>
                </a:cubicBezTo>
                <a:cubicBezTo>
                  <a:pt x="17244" y="9689"/>
                  <a:pt x="17197" y="9695"/>
                  <a:pt x="17165" y="9723"/>
                </a:cubicBezTo>
                <a:cubicBezTo>
                  <a:pt x="17157" y="9731"/>
                  <a:pt x="17148" y="9740"/>
                  <a:pt x="17140" y="9748"/>
                </a:cubicBezTo>
              </a:path>
              <a:path w="6202" h="969">
                <a:moveTo>
                  <a:pt x="16991" y="9947"/>
                </a:moveTo>
                <a:cubicBezTo>
                  <a:pt x="17080" y="9970"/>
                  <a:pt x="17147" y="9971"/>
                  <a:pt x="17239" y="9971"/>
                </a:cubicBezTo>
                <a:cubicBezTo>
                  <a:pt x="17329" y="9971"/>
                  <a:pt x="17400" y="9966"/>
                  <a:pt x="17487" y="9947"/>
                </a:cubicBezTo>
              </a:path>
              <a:path w="6202" h="969">
                <a:moveTo>
                  <a:pt x="17859" y="9773"/>
                </a:moveTo>
                <a:cubicBezTo>
                  <a:pt x="17944" y="9773"/>
                  <a:pt x="18005" y="9785"/>
                  <a:pt x="18083" y="9798"/>
                </a:cubicBezTo>
                <a:cubicBezTo>
                  <a:pt x="18124" y="9798"/>
                  <a:pt x="18132" y="9798"/>
                  <a:pt x="18157" y="9798"/>
                </a:cubicBezTo>
              </a:path>
              <a:path w="6202" h="969">
                <a:moveTo>
                  <a:pt x="17810" y="9971"/>
                </a:moveTo>
                <a:cubicBezTo>
                  <a:pt x="17878" y="9997"/>
                  <a:pt x="17958" y="10012"/>
                  <a:pt x="18033" y="9996"/>
                </a:cubicBezTo>
                <a:cubicBezTo>
                  <a:pt x="18093" y="9976"/>
                  <a:pt x="18107" y="9977"/>
                  <a:pt x="18132" y="9947"/>
                </a:cubicBezTo>
              </a:path>
              <a:path w="6202" h="969">
                <a:moveTo>
                  <a:pt x="18529" y="9674"/>
                </a:moveTo>
                <a:cubicBezTo>
                  <a:pt x="18529" y="9722"/>
                  <a:pt x="18518" y="9780"/>
                  <a:pt x="18504" y="9823"/>
                </a:cubicBezTo>
                <a:cubicBezTo>
                  <a:pt x="18471" y="9922"/>
                  <a:pt x="18467" y="10014"/>
                  <a:pt x="18504" y="10120"/>
                </a:cubicBezTo>
                <a:cubicBezTo>
                  <a:pt x="18528" y="10187"/>
                  <a:pt x="18622" y="10207"/>
                  <a:pt x="18678" y="10195"/>
                </a:cubicBezTo>
                <a:cubicBezTo>
                  <a:pt x="18717" y="10186"/>
                  <a:pt x="18779" y="10131"/>
                  <a:pt x="18802" y="10096"/>
                </a:cubicBezTo>
                <a:cubicBezTo>
                  <a:pt x="18844" y="10034"/>
                  <a:pt x="18854" y="9988"/>
                  <a:pt x="18876" y="9922"/>
                </a:cubicBezTo>
                <a:cubicBezTo>
                  <a:pt x="18895" y="9864"/>
                  <a:pt x="18926" y="9858"/>
                  <a:pt x="18926" y="9798"/>
                </a:cubicBezTo>
                <a:cubicBezTo>
                  <a:pt x="18926" y="9773"/>
                  <a:pt x="18926" y="9765"/>
                  <a:pt x="18926" y="9798"/>
                </a:cubicBezTo>
                <a:cubicBezTo>
                  <a:pt x="18898" y="9845"/>
                  <a:pt x="18889" y="9914"/>
                  <a:pt x="18876" y="9971"/>
                </a:cubicBezTo>
                <a:cubicBezTo>
                  <a:pt x="18860" y="10041"/>
                  <a:pt x="18892" y="10071"/>
                  <a:pt x="18951" y="10071"/>
                </a:cubicBezTo>
                <a:cubicBezTo>
                  <a:pt x="18967" y="10071"/>
                  <a:pt x="18984" y="10071"/>
                  <a:pt x="19000" y="10071"/>
                </a:cubicBezTo>
              </a:path>
              <a:path w="6202" h="969">
                <a:moveTo>
                  <a:pt x="19100" y="9847"/>
                </a:moveTo>
                <a:cubicBezTo>
                  <a:pt x="19073" y="9920"/>
                  <a:pt x="19050" y="9969"/>
                  <a:pt x="19050" y="10046"/>
                </a:cubicBezTo>
                <a:cubicBezTo>
                  <a:pt x="19050" y="10091"/>
                  <a:pt x="19046" y="10104"/>
                  <a:pt x="19075" y="10120"/>
                </a:cubicBezTo>
                <a:cubicBezTo>
                  <a:pt x="19085" y="10080"/>
                  <a:pt x="19117" y="10034"/>
                  <a:pt x="19124" y="9996"/>
                </a:cubicBezTo>
                <a:cubicBezTo>
                  <a:pt x="19136" y="9936"/>
                  <a:pt x="19135" y="9882"/>
                  <a:pt x="19149" y="9823"/>
                </a:cubicBezTo>
                <a:cubicBezTo>
                  <a:pt x="19156" y="9792"/>
                  <a:pt x="19214" y="9721"/>
                  <a:pt x="19248" y="9723"/>
                </a:cubicBezTo>
                <a:cubicBezTo>
                  <a:pt x="19295" y="9726"/>
                  <a:pt x="19364" y="9804"/>
                  <a:pt x="19372" y="9847"/>
                </a:cubicBezTo>
                <a:cubicBezTo>
                  <a:pt x="19387" y="9930"/>
                  <a:pt x="19371" y="10042"/>
                  <a:pt x="19397" y="10120"/>
                </a:cubicBezTo>
                <a:cubicBezTo>
                  <a:pt x="19400" y="10128"/>
                  <a:pt x="19446" y="10220"/>
                  <a:pt x="19447" y="10220"/>
                </a:cubicBezTo>
                <a:cubicBezTo>
                  <a:pt x="19455" y="10220"/>
                  <a:pt x="19464" y="10220"/>
                  <a:pt x="19472" y="10220"/>
                </a:cubicBezTo>
              </a:path>
              <a:path w="6202" h="969">
                <a:moveTo>
                  <a:pt x="19794" y="9798"/>
                </a:moveTo>
                <a:cubicBezTo>
                  <a:pt x="19711" y="9798"/>
                  <a:pt x="19665" y="9816"/>
                  <a:pt x="19596" y="9872"/>
                </a:cubicBezTo>
                <a:cubicBezTo>
                  <a:pt x="19531" y="9924"/>
                  <a:pt x="19502" y="9992"/>
                  <a:pt x="19496" y="10071"/>
                </a:cubicBezTo>
                <a:cubicBezTo>
                  <a:pt x="19492" y="10122"/>
                  <a:pt x="19524" y="10165"/>
                  <a:pt x="19571" y="10170"/>
                </a:cubicBezTo>
                <a:cubicBezTo>
                  <a:pt x="19621" y="10176"/>
                  <a:pt x="19685" y="10161"/>
                  <a:pt x="19720" y="10120"/>
                </a:cubicBezTo>
                <a:cubicBezTo>
                  <a:pt x="19770" y="10063"/>
                  <a:pt x="19832" y="9949"/>
                  <a:pt x="19844" y="9872"/>
                </a:cubicBezTo>
                <a:cubicBezTo>
                  <a:pt x="19857" y="9787"/>
                  <a:pt x="19869" y="9712"/>
                  <a:pt x="19869" y="9624"/>
                </a:cubicBezTo>
                <a:cubicBezTo>
                  <a:pt x="19869" y="9574"/>
                  <a:pt x="19869" y="9525"/>
                  <a:pt x="19869" y="9475"/>
                </a:cubicBezTo>
                <a:cubicBezTo>
                  <a:pt x="19832" y="9536"/>
                  <a:pt x="19819" y="9624"/>
                  <a:pt x="19794" y="9699"/>
                </a:cubicBezTo>
                <a:cubicBezTo>
                  <a:pt x="19760" y="9801"/>
                  <a:pt x="19745" y="9862"/>
                  <a:pt x="19745" y="9971"/>
                </a:cubicBezTo>
                <a:cubicBezTo>
                  <a:pt x="19745" y="10046"/>
                  <a:pt x="19741" y="10068"/>
                  <a:pt x="19794" y="10120"/>
                </a:cubicBezTo>
              </a:path>
              <a:path w="6202" h="969">
                <a:moveTo>
                  <a:pt x="19968" y="10021"/>
                </a:moveTo>
                <a:cubicBezTo>
                  <a:pt x="20022" y="10013"/>
                  <a:pt x="20051" y="10006"/>
                  <a:pt x="20092" y="9971"/>
                </a:cubicBezTo>
                <a:cubicBezTo>
                  <a:pt x="20121" y="9946"/>
                  <a:pt x="20137" y="9884"/>
                  <a:pt x="20141" y="9847"/>
                </a:cubicBezTo>
                <a:cubicBezTo>
                  <a:pt x="20141" y="9823"/>
                  <a:pt x="20141" y="9814"/>
                  <a:pt x="20141" y="9798"/>
                </a:cubicBezTo>
                <a:cubicBezTo>
                  <a:pt x="20086" y="9798"/>
                  <a:pt x="20042" y="9791"/>
                  <a:pt x="19993" y="9823"/>
                </a:cubicBezTo>
                <a:cubicBezTo>
                  <a:pt x="19952" y="9850"/>
                  <a:pt x="19920" y="9925"/>
                  <a:pt x="19918" y="9971"/>
                </a:cubicBezTo>
                <a:cubicBezTo>
                  <a:pt x="19914" y="10068"/>
                  <a:pt x="19933" y="10114"/>
                  <a:pt x="20017" y="10170"/>
                </a:cubicBezTo>
                <a:cubicBezTo>
                  <a:pt x="20066" y="10203"/>
                  <a:pt x="20158" y="10208"/>
                  <a:pt x="20216" y="10195"/>
                </a:cubicBezTo>
                <a:cubicBezTo>
                  <a:pt x="20241" y="10187"/>
                  <a:pt x="20265" y="10178"/>
                  <a:pt x="20290" y="10170"/>
                </a:cubicBezTo>
              </a:path>
              <a:path w="6202" h="969">
                <a:moveTo>
                  <a:pt x="20613" y="9525"/>
                </a:moveTo>
                <a:cubicBezTo>
                  <a:pt x="20536" y="9569"/>
                  <a:pt x="20507" y="9619"/>
                  <a:pt x="20464" y="9699"/>
                </a:cubicBezTo>
                <a:cubicBezTo>
                  <a:pt x="20428" y="9767"/>
                  <a:pt x="20382" y="9896"/>
                  <a:pt x="20389" y="9971"/>
                </a:cubicBezTo>
                <a:cubicBezTo>
                  <a:pt x="20395" y="10042"/>
                  <a:pt x="20427" y="10124"/>
                  <a:pt x="20439" y="10195"/>
                </a:cubicBezTo>
                <a:cubicBezTo>
                  <a:pt x="20439" y="10236"/>
                  <a:pt x="20439" y="10244"/>
                  <a:pt x="20439" y="10269"/>
                </a:cubicBezTo>
              </a:path>
              <a:path w="6202" h="969">
                <a:moveTo>
                  <a:pt x="20340" y="9971"/>
                </a:moveTo>
                <a:cubicBezTo>
                  <a:pt x="20340" y="9947"/>
                  <a:pt x="20340" y="9938"/>
                  <a:pt x="20340" y="9922"/>
                </a:cubicBezTo>
                <a:cubicBezTo>
                  <a:pt x="20445" y="9922"/>
                  <a:pt x="20540" y="9924"/>
                  <a:pt x="20638" y="9947"/>
                </a:cubicBezTo>
                <a:cubicBezTo>
                  <a:pt x="20722" y="9967"/>
                  <a:pt x="20671" y="10019"/>
                  <a:pt x="20662" y="10071"/>
                </a:cubicBezTo>
                <a:cubicBezTo>
                  <a:pt x="20659" y="10087"/>
                  <a:pt x="20651" y="10281"/>
                  <a:pt x="20687" y="10269"/>
                </a:cubicBezTo>
                <a:cubicBezTo>
                  <a:pt x="20687" y="10261"/>
                  <a:pt x="20687" y="10252"/>
                  <a:pt x="20687" y="10244"/>
                </a:cubicBezTo>
              </a:path>
              <a:path w="6202" h="969">
                <a:moveTo>
                  <a:pt x="20762" y="9798"/>
                </a:moveTo>
                <a:cubicBezTo>
                  <a:pt x="20814" y="9798"/>
                  <a:pt x="20823" y="9810"/>
                  <a:pt x="20861" y="9847"/>
                </a:cubicBezTo>
              </a:path>
              <a:path w="6202" h="969">
                <a:moveTo>
                  <a:pt x="20786" y="10244"/>
                </a:moveTo>
                <a:cubicBezTo>
                  <a:pt x="20786" y="10252"/>
                  <a:pt x="20786" y="10261"/>
                  <a:pt x="20786" y="10269"/>
                </a:cubicBezTo>
                <a:cubicBezTo>
                  <a:pt x="20834" y="10253"/>
                  <a:pt x="20818" y="10221"/>
                  <a:pt x="20836" y="10170"/>
                </a:cubicBezTo>
                <a:cubicBezTo>
                  <a:pt x="20861" y="10100"/>
                  <a:pt x="20894" y="10042"/>
                  <a:pt x="20910" y="9971"/>
                </a:cubicBezTo>
                <a:cubicBezTo>
                  <a:pt x="20919" y="9931"/>
                  <a:pt x="20921" y="9932"/>
                  <a:pt x="20960" y="9922"/>
                </a:cubicBezTo>
                <a:cubicBezTo>
                  <a:pt x="20960" y="9968"/>
                  <a:pt x="20930" y="10063"/>
                  <a:pt x="20935" y="10096"/>
                </a:cubicBezTo>
                <a:cubicBezTo>
                  <a:pt x="20942" y="10138"/>
                  <a:pt x="20975" y="10185"/>
                  <a:pt x="21010" y="10220"/>
                </a:cubicBezTo>
                <a:cubicBezTo>
                  <a:pt x="21036" y="10246"/>
                  <a:pt x="21119" y="10260"/>
                  <a:pt x="21158" y="10244"/>
                </a:cubicBezTo>
                <a:cubicBezTo>
                  <a:pt x="21188" y="10215"/>
                  <a:pt x="21203" y="10204"/>
                  <a:pt x="21233" y="10195"/>
                </a:cubicBezTo>
              </a:path>
              <a:path w="6202" h="969">
                <a:moveTo>
                  <a:pt x="21332" y="10096"/>
                </a:moveTo>
                <a:cubicBezTo>
                  <a:pt x="21296" y="10131"/>
                  <a:pt x="21245" y="10168"/>
                  <a:pt x="21233" y="10220"/>
                </a:cubicBezTo>
                <a:cubicBezTo>
                  <a:pt x="21225" y="10254"/>
                  <a:pt x="21256" y="10348"/>
                  <a:pt x="21282" y="10368"/>
                </a:cubicBezTo>
                <a:cubicBezTo>
                  <a:pt x="21337" y="10410"/>
                  <a:pt x="21415" y="10439"/>
                  <a:pt x="21481" y="10443"/>
                </a:cubicBezTo>
                <a:cubicBezTo>
                  <a:pt x="21564" y="10448"/>
                  <a:pt x="21600" y="10398"/>
                  <a:pt x="21654" y="10344"/>
                </a:cubicBezTo>
                <a:cubicBezTo>
                  <a:pt x="21709" y="10289"/>
                  <a:pt x="21704" y="10243"/>
                  <a:pt x="21704" y="10170"/>
                </a:cubicBezTo>
                <a:cubicBezTo>
                  <a:pt x="21704" y="10098"/>
                  <a:pt x="21675" y="10057"/>
                  <a:pt x="21630" y="10021"/>
                </a:cubicBezTo>
                <a:cubicBezTo>
                  <a:pt x="21595" y="9994"/>
                  <a:pt x="21598" y="9996"/>
                  <a:pt x="21555" y="9996"/>
                </a:cubicBezTo>
                <a:cubicBezTo>
                  <a:pt x="21555" y="10032"/>
                  <a:pt x="21562" y="10070"/>
                  <a:pt x="21580" y="10096"/>
                </a:cubicBezTo>
                <a:cubicBezTo>
                  <a:pt x="21606" y="10134"/>
                  <a:pt x="21628" y="10177"/>
                  <a:pt x="21654" y="10220"/>
                </a:cubicBezTo>
                <a:cubicBezTo>
                  <a:pt x="21695" y="10288"/>
                  <a:pt x="21756" y="10289"/>
                  <a:pt x="21803" y="10344"/>
                </a:cubicBezTo>
                <a:cubicBezTo>
                  <a:pt x="21855" y="10404"/>
                  <a:pt x="21894" y="10429"/>
                  <a:pt x="21977" y="10443"/>
                </a:cubicBezTo>
                <a:cubicBezTo>
                  <a:pt x="22058" y="10457"/>
                  <a:pt x="22038" y="10453"/>
                  <a:pt x="22027" y="104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51000" y="4599000"/>
            <a:ext cx="490320" cy="500040"/>
          </a:xfrm>
          <a:custGeom>
            <a:avLst/>
            <a:gdLst/>
            <a:ahLst/>
            <a:rect l="l" t="t" r="r" b="b"/>
            <a:pathLst>
              <a:path w="1365" h="1390">
                <a:moveTo>
                  <a:pt x="4638" y="12998"/>
                </a:moveTo>
                <a:cubicBezTo>
                  <a:pt x="4586" y="13103"/>
                  <a:pt x="4592" y="13147"/>
                  <a:pt x="4564" y="13246"/>
                </a:cubicBezTo>
                <a:cubicBezTo>
                  <a:pt x="4547" y="13306"/>
                  <a:pt x="4539" y="13330"/>
                  <a:pt x="4539" y="13395"/>
                </a:cubicBezTo>
                <a:cubicBezTo>
                  <a:pt x="4539" y="13428"/>
                  <a:pt x="4539" y="13461"/>
                  <a:pt x="4539" y="13494"/>
                </a:cubicBezTo>
              </a:path>
              <a:path w="1365" h="1390">
                <a:moveTo>
                  <a:pt x="4217" y="13543"/>
                </a:moveTo>
                <a:cubicBezTo>
                  <a:pt x="4282" y="13571"/>
                  <a:pt x="4325" y="13550"/>
                  <a:pt x="4390" y="13568"/>
                </a:cubicBezTo>
                <a:cubicBezTo>
                  <a:pt x="4458" y="13587"/>
                  <a:pt x="4517" y="13614"/>
                  <a:pt x="4589" y="13618"/>
                </a:cubicBezTo>
                <a:cubicBezTo>
                  <a:pt x="4660" y="13622"/>
                  <a:pt x="4697" y="13627"/>
                  <a:pt x="4762" y="13643"/>
                </a:cubicBezTo>
                <a:cubicBezTo>
                  <a:pt x="4790" y="13643"/>
                  <a:pt x="4801" y="13641"/>
                  <a:pt x="4812" y="13618"/>
                </a:cubicBezTo>
              </a:path>
              <a:path w="1365" h="1390">
                <a:moveTo>
                  <a:pt x="4490" y="13891"/>
                </a:moveTo>
                <a:cubicBezTo>
                  <a:pt x="4487" y="13902"/>
                  <a:pt x="4446" y="14030"/>
                  <a:pt x="4465" y="14064"/>
                </a:cubicBezTo>
                <a:cubicBezTo>
                  <a:pt x="4497" y="14121"/>
                  <a:pt x="4556" y="14158"/>
                  <a:pt x="4614" y="14163"/>
                </a:cubicBezTo>
                <a:cubicBezTo>
                  <a:pt x="4678" y="14168"/>
                  <a:pt x="4715" y="14157"/>
                  <a:pt x="4762" y="14114"/>
                </a:cubicBezTo>
                <a:cubicBezTo>
                  <a:pt x="4802" y="14077"/>
                  <a:pt x="4831" y="14046"/>
                  <a:pt x="4837" y="13990"/>
                </a:cubicBezTo>
                <a:cubicBezTo>
                  <a:pt x="4844" y="13925"/>
                  <a:pt x="4830" y="13909"/>
                  <a:pt x="4787" y="13866"/>
                </a:cubicBezTo>
                <a:cubicBezTo>
                  <a:pt x="4764" y="13843"/>
                  <a:pt x="4726" y="13780"/>
                  <a:pt x="4688" y="13791"/>
                </a:cubicBezTo>
                <a:cubicBezTo>
                  <a:pt x="4634" y="13807"/>
                  <a:pt x="4573" y="13814"/>
                  <a:pt x="4539" y="13866"/>
                </a:cubicBezTo>
                <a:cubicBezTo>
                  <a:pt x="4508" y="13914"/>
                  <a:pt x="4514" y="13935"/>
                  <a:pt x="4514" y="13990"/>
                </a:cubicBezTo>
              </a:path>
              <a:path w="1365" h="1390">
                <a:moveTo>
                  <a:pt x="3547" y="12874"/>
                </a:moveTo>
                <a:cubicBezTo>
                  <a:pt x="3547" y="12978"/>
                  <a:pt x="3522" y="13012"/>
                  <a:pt x="3497" y="13122"/>
                </a:cubicBezTo>
                <a:cubicBezTo>
                  <a:pt x="3487" y="13165"/>
                  <a:pt x="3497" y="13226"/>
                  <a:pt x="3497" y="13271"/>
                </a:cubicBezTo>
              </a:path>
              <a:path w="1365" h="1390">
                <a:moveTo>
                  <a:pt x="3547" y="12874"/>
                </a:moveTo>
                <a:cubicBezTo>
                  <a:pt x="3514" y="12917"/>
                  <a:pt x="3522" y="12940"/>
                  <a:pt x="3522" y="12998"/>
                </a:cubicBezTo>
                <a:cubicBezTo>
                  <a:pt x="3522" y="13060"/>
                  <a:pt x="3502" y="13088"/>
                  <a:pt x="3497" y="13146"/>
                </a:cubicBezTo>
                <a:cubicBezTo>
                  <a:pt x="3491" y="13222"/>
                  <a:pt x="3522" y="13215"/>
                  <a:pt x="3547" y="13271"/>
                </a:cubicBezTo>
                <a:cubicBezTo>
                  <a:pt x="3564" y="13309"/>
                  <a:pt x="3592" y="13315"/>
                  <a:pt x="3646" y="13320"/>
                </a:cubicBezTo>
                <a:cubicBezTo>
                  <a:pt x="3687" y="13323"/>
                  <a:pt x="3719" y="13274"/>
                  <a:pt x="3746" y="13246"/>
                </a:cubicBezTo>
                <a:cubicBezTo>
                  <a:pt x="3798" y="13193"/>
                  <a:pt x="3795" y="13172"/>
                  <a:pt x="3795" y="13097"/>
                </a:cubicBezTo>
                <a:cubicBezTo>
                  <a:pt x="3795" y="13027"/>
                  <a:pt x="3800" y="12966"/>
                  <a:pt x="3770" y="12898"/>
                </a:cubicBezTo>
                <a:cubicBezTo>
                  <a:pt x="3763" y="12883"/>
                  <a:pt x="3709" y="12805"/>
                  <a:pt x="3696" y="12799"/>
                </a:cubicBezTo>
                <a:cubicBezTo>
                  <a:pt x="3658" y="12780"/>
                  <a:pt x="3621" y="12794"/>
                  <a:pt x="3597" y="12799"/>
                </a:cubicBezTo>
                <a:cubicBezTo>
                  <a:pt x="3565" y="12806"/>
                  <a:pt x="3513" y="12838"/>
                  <a:pt x="3497" y="12874"/>
                </a:cubicBezTo>
                <a:cubicBezTo>
                  <a:pt x="3484" y="12904"/>
                  <a:pt x="3497" y="12963"/>
                  <a:pt x="3497" y="12998"/>
                </a:cubicBezTo>
              </a:path>
              <a:path w="1365" h="1390">
                <a:moveTo>
                  <a:pt x="3547" y="13692"/>
                </a:moveTo>
                <a:cubicBezTo>
                  <a:pt x="3547" y="13732"/>
                  <a:pt x="3541" y="13784"/>
                  <a:pt x="3522" y="13816"/>
                </a:cubicBezTo>
                <a:cubicBezTo>
                  <a:pt x="3492" y="13866"/>
                  <a:pt x="3497" y="13904"/>
                  <a:pt x="3497" y="13965"/>
                </a:cubicBezTo>
                <a:cubicBezTo>
                  <a:pt x="3497" y="13993"/>
                  <a:pt x="3495" y="14004"/>
                  <a:pt x="3473" y="14015"/>
                </a:cubicBezTo>
                <a:cubicBezTo>
                  <a:pt x="3473" y="13957"/>
                  <a:pt x="3487" y="13912"/>
                  <a:pt x="3497" y="13866"/>
                </a:cubicBezTo>
                <a:cubicBezTo>
                  <a:pt x="3512" y="13791"/>
                  <a:pt x="3505" y="13717"/>
                  <a:pt x="3522" y="13643"/>
                </a:cubicBezTo>
                <a:cubicBezTo>
                  <a:pt x="3532" y="13599"/>
                  <a:pt x="3560" y="13559"/>
                  <a:pt x="3572" y="13519"/>
                </a:cubicBezTo>
                <a:cubicBezTo>
                  <a:pt x="3582" y="13487"/>
                  <a:pt x="3606" y="13479"/>
                  <a:pt x="3646" y="13469"/>
                </a:cubicBezTo>
                <a:cubicBezTo>
                  <a:pt x="3670" y="13501"/>
                  <a:pt x="3685" y="13551"/>
                  <a:pt x="3696" y="13593"/>
                </a:cubicBezTo>
                <a:cubicBezTo>
                  <a:pt x="3710" y="13648"/>
                  <a:pt x="3736" y="13720"/>
                  <a:pt x="3746" y="13767"/>
                </a:cubicBezTo>
                <a:cubicBezTo>
                  <a:pt x="3757" y="13822"/>
                  <a:pt x="3772" y="13894"/>
                  <a:pt x="3795" y="13940"/>
                </a:cubicBezTo>
                <a:cubicBezTo>
                  <a:pt x="3814" y="13979"/>
                  <a:pt x="3853" y="14023"/>
                  <a:pt x="3870" y="14064"/>
                </a:cubicBezTo>
                <a:cubicBezTo>
                  <a:pt x="3870" y="14072"/>
                  <a:pt x="3870" y="14081"/>
                  <a:pt x="3870" y="14089"/>
                </a:cubicBezTo>
              </a:path>
              <a:path w="1365" h="1390">
                <a:moveTo>
                  <a:pt x="3473" y="13767"/>
                </a:moveTo>
                <a:cubicBezTo>
                  <a:pt x="3525" y="13773"/>
                  <a:pt x="3597" y="13775"/>
                  <a:pt x="3646" y="13791"/>
                </a:cubicBezTo>
                <a:cubicBezTo>
                  <a:pt x="3705" y="13811"/>
                  <a:pt x="3731" y="13816"/>
                  <a:pt x="3795" y="138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89080" y="4438800"/>
            <a:ext cx="928800" cy="365040"/>
          </a:xfrm>
          <a:custGeom>
            <a:avLst/>
            <a:gdLst/>
            <a:ahLst/>
            <a:rect l="l" t="t" r="r" b="b"/>
            <a:pathLst>
              <a:path w="2581" h="1018">
                <a:moveTo>
                  <a:pt x="6226" y="12328"/>
                </a:moveTo>
                <a:cubicBezTo>
                  <a:pt x="6202" y="12445"/>
                  <a:pt x="6180" y="12556"/>
                  <a:pt x="6176" y="12675"/>
                </a:cubicBezTo>
                <a:cubicBezTo>
                  <a:pt x="6173" y="12777"/>
                  <a:pt x="6138" y="12900"/>
                  <a:pt x="6152" y="12998"/>
                </a:cubicBezTo>
                <a:cubicBezTo>
                  <a:pt x="6166" y="13099"/>
                  <a:pt x="6173" y="13124"/>
                  <a:pt x="6152" y="13221"/>
                </a:cubicBezTo>
                <a:cubicBezTo>
                  <a:pt x="6140" y="13274"/>
                  <a:pt x="6168" y="13276"/>
                  <a:pt x="6127" y="13221"/>
                </a:cubicBezTo>
              </a:path>
              <a:path w="2581" h="1018">
                <a:moveTo>
                  <a:pt x="5804" y="12774"/>
                </a:moveTo>
                <a:cubicBezTo>
                  <a:pt x="5843" y="12784"/>
                  <a:pt x="5893" y="12819"/>
                  <a:pt x="5928" y="12824"/>
                </a:cubicBezTo>
                <a:cubicBezTo>
                  <a:pt x="6030" y="12839"/>
                  <a:pt x="6126" y="12849"/>
                  <a:pt x="6226" y="12874"/>
                </a:cubicBezTo>
              </a:path>
              <a:path w="2581" h="1018">
                <a:moveTo>
                  <a:pt x="6722" y="12824"/>
                </a:moveTo>
                <a:cubicBezTo>
                  <a:pt x="6649" y="12861"/>
                  <a:pt x="6605" y="12890"/>
                  <a:pt x="6548" y="12948"/>
                </a:cubicBezTo>
                <a:cubicBezTo>
                  <a:pt x="6499" y="12998"/>
                  <a:pt x="6479" y="13055"/>
                  <a:pt x="6474" y="13122"/>
                </a:cubicBezTo>
                <a:cubicBezTo>
                  <a:pt x="6470" y="13173"/>
                  <a:pt x="6501" y="13202"/>
                  <a:pt x="6548" y="13221"/>
                </a:cubicBezTo>
                <a:cubicBezTo>
                  <a:pt x="6572" y="13231"/>
                  <a:pt x="6683" y="13209"/>
                  <a:pt x="6697" y="13196"/>
                </a:cubicBezTo>
                <a:cubicBezTo>
                  <a:pt x="6723" y="13172"/>
                  <a:pt x="6767" y="13082"/>
                  <a:pt x="6772" y="13047"/>
                </a:cubicBezTo>
                <a:cubicBezTo>
                  <a:pt x="6781" y="12979"/>
                  <a:pt x="6780" y="12967"/>
                  <a:pt x="6747" y="12923"/>
                </a:cubicBezTo>
                <a:cubicBezTo>
                  <a:pt x="6747" y="12999"/>
                  <a:pt x="6758" y="13060"/>
                  <a:pt x="6772" y="13122"/>
                </a:cubicBezTo>
                <a:cubicBezTo>
                  <a:pt x="6785" y="13181"/>
                  <a:pt x="6794" y="13188"/>
                  <a:pt x="6871" y="13196"/>
                </a:cubicBezTo>
                <a:cubicBezTo>
                  <a:pt x="6963" y="13205"/>
                  <a:pt x="6977" y="13154"/>
                  <a:pt x="7020" y="13097"/>
                </a:cubicBezTo>
                <a:cubicBezTo>
                  <a:pt x="7028" y="13089"/>
                  <a:pt x="7037" y="13080"/>
                  <a:pt x="7045" y="13072"/>
                </a:cubicBezTo>
              </a:path>
              <a:path w="2581" h="1018">
                <a:moveTo>
                  <a:pt x="7119" y="12898"/>
                </a:moveTo>
                <a:cubicBezTo>
                  <a:pt x="7119" y="13010"/>
                  <a:pt x="7107" y="13173"/>
                  <a:pt x="7144" y="13246"/>
                </a:cubicBezTo>
                <a:cubicBezTo>
                  <a:pt x="7144" y="13254"/>
                  <a:pt x="7144" y="13263"/>
                  <a:pt x="7144" y="13271"/>
                </a:cubicBezTo>
                <a:cubicBezTo>
                  <a:pt x="7157" y="13231"/>
                  <a:pt x="7152" y="13231"/>
                  <a:pt x="7169" y="13171"/>
                </a:cubicBezTo>
                <a:cubicBezTo>
                  <a:pt x="7186" y="13112"/>
                  <a:pt x="7193" y="13054"/>
                  <a:pt x="7218" y="12998"/>
                </a:cubicBezTo>
                <a:cubicBezTo>
                  <a:pt x="7248" y="12931"/>
                  <a:pt x="7263" y="12882"/>
                  <a:pt x="7342" y="12874"/>
                </a:cubicBezTo>
                <a:cubicBezTo>
                  <a:pt x="7387" y="12870"/>
                  <a:pt x="7416" y="12883"/>
                  <a:pt x="7441" y="12923"/>
                </a:cubicBezTo>
                <a:cubicBezTo>
                  <a:pt x="7479" y="12983"/>
                  <a:pt x="7466" y="13053"/>
                  <a:pt x="7466" y="13122"/>
                </a:cubicBezTo>
                <a:cubicBezTo>
                  <a:pt x="7466" y="13169"/>
                  <a:pt x="7467" y="13211"/>
                  <a:pt x="7491" y="13246"/>
                </a:cubicBezTo>
                <a:cubicBezTo>
                  <a:pt x="7525" y="13296"/>
                  <a:pt x="7568" y="13260"/>
                  <a:pt x="7615" y="13246"/>
                </a:cubicBezTo>
              </a:path>
              <a:path w="2581" h="1018">
                <a:moveTo>
                  <a:pt x="8062" y="12626"/>
                </a:moveTo>
                <a:cubicBezTo>
                  <a:pt x="8024" y="12739"/>
                  <a:pt x="7961" y="12857"/>
                  <a:pt x="7938" y="12973"/>
                </a:cubicBezTo>
                <a:cubicBezTo>
                  <a:pt x="7923" y="13049"/>
                  <a:pt x="7933" y="13152"/>
                  <a:pt x="7962" y="13221"/>
                </a:cubicBezTo>
                <a:cubicBezTo>
                  <a:pt x="7988" y="13283"/>
                  <a:pt x="8044" y="13330"/>
                  <a:pt x="8111" y="13345"/>
                </a:cubicBezTo>
                <a:cubicBezTo>
                  <a:pt x="8169" y="13358"/>
                  <a:pt x="8268" y="13340"/>
                  <a:pt x="8310" y="13295"/>
                </a:cubicBezTo>
                <a:cubicBezTo>
                  <a:pt x="8360" y="13242"/>
                  <a:pt x="8381" y="13140"/>
                  <a:pt x="8384" y="13072"/>
                </a:cubicBezTo>
                <a:cubicBezTo>
                  <a:pt x="8388" y="12986"/>
                  <a:pt x="8393" y="12846"/>
                  <a:pt x="8334" y="12774"/>
                </a:cubicBezTo>
                <a:cubicBezTo>
                  <a:pt x="8300" y="12733"/>
                  <a:pt x="8209" y="12678"/>
                  <a:pt x="8161" y="12650"/>
                </a:cubicBezTo>
                <a:cubicBezTo>
                  <a:pt x="8137" y="12636"/>
                  <a:pt x="8037" y="12591"/>
                  <a:pt x="8012" y="12601"/>
                </a:cubicBezTo>
                <a:cubicBezTo>
                  <a:pt x="8004" y="12609"/>
                  <a:pt x="7995" y="12618"/>
                  <a:pt x="7987" y="12626"/>
                </a:cubicBezTo>
              </a:path>
              <a:path w="2581" h="1018">
                <a:moveTo>
                  <a:pt x="7714" y="12948"/>
                </a:moveTo>
                <a:cubicBezTo>
                  <a:pt x="7800" y="12991"/>
                  <a:pt x="7841" y="12998"/>
                  <a:pt x="7938" y="12998"/>
                </a:cubicBezTo>
                <a:cubicBezTo>
                  <a:pt x="8030" y="12998"/>
                  <a:pt x="8116" y="13022"/>
                  <a:pt x="8210" y="13022"/>
                </a:cubicBezTo>
                <a:cubicBezTo>
                  <a:pt x="8276" y="13022"/>
                  <a:pt x="8293" y="13022"/>
                  <a:pt x="8334" y="130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60800" y="4643280"/>
            <a:ext cx="125280" cy="81000"/>
          </a:xfrm>
          <a:custGeom>
            <a:avLst/>
            <a:gdLst/>
            <a:ahLst/>
            <a:rect l="l" t="t" r="r" b="b"/>
            <a:pathLst>
              <a:path w="348" h="225">
                <a:moveTo>
                  <a:pt x="8830" y="12923"/>
                </a:moveTo>
                <a:cubicBezTo>
                  <a:pt x="8942" y="12923"/>
                  <a:pt x="8961" y="12917"/>
                  <a:pt x="9054" y="12898"/>
                </a:cubicBezTo>
              </a:path>
              <a:path w="348" h="225">
                <a:moveTo>
                  <a:pt x="8781" y="13097"/>
                </a:moveTo>
                <a:cubicBezTo>
                  <a:pt x="8855" y="13117"/>
                  <a:pt x="8951" y="13145"/>
                  <a:pt x="9029" y="13122"/>
                </a:cubicBezTo>
                <a:cubicBezTo>
                  <a:pt x="9081" y="13107"/>
                  <a:pt x="9079" y="13097"/>
                  <a:pt x="9128" y="130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73280" y="4419720"/>
            <a:ext cx="1420920" cy="358560"/>
          </a:xfrm>
          <a:custGeom>
            <a:avLst/>
            <a:gdLst/>
            <a:ahLst/>
            <a:rect l="l" t="t" r="r" b="b"/>
            <a:pathLst>
              <a:path w="3945" h="994">
                <a:moveTo>
                  <a:pt x="9649" y="12675"/>
                </a:moveTo>
                <a:cubicBezTo>
                  <a:pt x="9683" y="12765"/>
                  <a:pt x="9653" y="12803"/>
                  <a:pt x="9649" y="12898"/>
                </a:cubicBezTo>
                <a:cubicBezTo>
                  <a:pt x="9646" y="12988"/>
                  <a:pt x="9625" y="13117"/>
                  <a:pt x="9674" y="13196"/>
                </a:cubicBezTo>
                <a:cubicBezTo>
                  <a:pt x="9707" y="13249"/>
                  <a:pt x="9742" y="13246"/>
                  <a:pt x="9798" y="13246"/>
                </a:cubicBezTo>
                <a:cubicBezTo>
                  <a:pt x="9852" y="13246"/>
                  <a:pt x="9934" y="13214"/>
                  <a:pt x="9971" y="13171"/>
                </a:cubicBezTo>
                <a:cubicBezTo>
                  <a:pt x="10022" y="13112"/>
                  <a:pt x="10037" y="12995"/>
                  <a:pt x="10046" y="12923"/>
                </a:cubicBezTo>
                <a:cubicBezTo>
                  <a:pt x="10051" y="12884"/>
                  <a:pt x="10046" y="12839"/>
                  <a:pt x="10046" y="12799"/>
                </a:cubicBezTo>
                <a:cubicBezTo>
                  <a:pt x="10013" y="12854"/>
                  <a:pt x="10021" y="12905"/>
                  <a:pt x="10021" y="12973"/>
                </a:cubicBezTo>
                <a:cubicBezTo>
                  <a:pt x="10021" y="13058"/>
                  <a:pt x="10056" y="13104"/>
                  <a:pt x="10096" y="13171"/>
                </a:cubicBezTo>
                <a:cubicBezTo>
                  <a:pt x="10125" y="13220"/>
                  <a:pt x="10175" y="13275"/>
                  <a:pt x="10244" y="13246"/>
                </a:cubicBezTo>
                <a:cubicBezTo>
                  <a:pt x="10269" y="13221"/>
                  <a:pt x="10277" y="13213"/>
                  <a:pt x="10294" y="13196"/>
                </a:cubicBezTo>
              </a:path>
              <a:path w="3945" h="994">
                <a:moveTo>
                  <a:pt x="10368" y="12799"/>
                </a:moveTo>
                <a:cubicBezTo>
                  <a:pt x="10368" y="12931"/>
                  <a:pt x="10368" y="13064"/>
                  <a:pt x="10368" y="13196"/>
                </a:cubicBezTo>
                <a:cubicBezTo>
                  <a:pt x="10368" y="13247"/>
                  <a:pt x="10387" y="13165"/>
                  <a:pt x="10393" y="13146"/>
                </a:cubicBezTo>
                <a:cubicBezTo>
                  <a:pt x="10411" y="13095"/>
                  <a:pt x="10400" y="13025"/>
                  <a:pt x="10418" y="12973"/>
                </a:cubicBezTo>
                <a:cubicBezTo>
                  <a:pt x="10439" y="12909"/>
                  <a:pt x="10508" y="12851"/>
                  <a:pt x="10567" y="12824"/>
                </a:cubicBezTo>
                <a:cubicBezTo>
                  <a:pt x="10640" y="12790"/>
                  <a:pt x="10659" y="12856"/>
                  <a:pt x="10691" y="12898"/>
                </a:cubicBezTo>
                <a:cubicBezTo>
                  <a:pt x="10734" y="12955"/>
                  <a:pt x="10761" y="13000"/>
                  <a:pt x="10765" y="13072"/>
                </a:cubicBezTo>
                <a:cubicBezTo>
                  <a:pt x="10767" y="13112"/>
                  <a:pt x="10729" y="13194"/>
                  <a:pt x="10740" y="13221"/>
                </a:cubicBezTo>
                <a:cubicBezTo>
                  <a:pt x="10748" y="13229"/>
                  <a:pt x="10757" y="13238"/>
                  <a:pt x="10765" y="13246"/>
                </a:cubicBezTo>
              </a:path>
              <a:path w="3945" h="994">
                <a:moveTo>
                  <a:pt x="11137" y="12774"/>
                </a:moveTo>
                <a:cubicBezTo>
                  <a:pt x="11073" y="12815"/>
                  <a:pt x="10986" y="12861"/>
                  <a:pt x="10939" y="12923"/>
                </a:cubicBezTo>
                <a:cubicBezTo>
                  <a:pt x="10900" y="12974"/>
                  <a:pt x="10871" y="13058"/>
                  <a:pt x="10889" y="13122"/>
                </a:cubicBezTo>
                <a:cubicBezTo>
                  <a:pt x="10902" y="13167"/>
                  <a:pt x="10975" y="13249"/>
                  <a:pt x="11013" y="13271"/>
                </a:cubicBezTo>
                <a:cubicBezTo>
                  <a:pt x="11075" y="13308"/>
                  <a:pt x="11147" y="13251"/>
                  <a:pt x="11187" y="13221"/>
                </a:cubicBezTo>
              </a:path>
              <a:path w="3945" h="994">
                <a:moveTo>
                  <a:pt x="11286" y="12502"/>
                </a:moveTo>
                <a:cubicBezTo>
                  <a:pt x="11286" y="12477"/>
                  <a:pt x="11286" y="12452"/>
                  <a:pt x="11286" y="12427"/>
                </a:cubicBezTo>
                <a:cubicBezTo>
                  <a:pt x="11286" y="12554"/>
                  <a:pt x="11300" y="12676"/>
                  <a:pt x="11311" y="12799"/>
                </a:cubicBezTo>
                <a:cubicBezTo>
                  <a:pt x="11320" y="12899"/>
                  <a:pt x="11305" y="13001"/>
                  <a:pt x="11336" y="13097"/>
                </a:cubicBezTo>
                <a:cubicBezTo>
                  <a:pt x="11353" y="13151"/>
                  <a:pt x="11373" y="13196"/>
                  <a:pt x="11385" y="13246"/>
                </a:cubicBezTo>
              </a:path>
              <a:path w="3945" h="994">
                <a:moveTo>
                  <a:pt x="11460" y="13122"/>
                </a:moveTo>
                <a:cubicBezTo>
                  <a:pt x="11507" y="13074"/>
                  <a:pt x="11609" y="12997"/>
                  <a:pt x="11633" y="12923"/>
                </a:cubicBezTo>
                <a:cubicBezTo>
                  <a:pt x="11645" y="12886"/>
                  <a:pt x="11658" y="12868"/>
                  <a:pt x="11658" y="12824"/>
                </a:cubicBezTo>
                <a:cubicBezTo>
                  <a:pt x="11605" y="12824"/>
                  <a:pt x="11597" y="12837"/>
                  <a:pt x="11559" y="12874"/>
                </a:cubicBezTo>
                <a:cubicBezTo>
                  <a:pt x="11508" y="12924"/>
                  <a:pt x="11453" y="12942"/>
                  <a:pt x="11435" y="13022"/>
                </a:cubicBezTo>
                <a:cubicBezTo>
                  <a:pt x="11422" y="13078"/>
                  <a:pt x="11440" y="13157"/>
                  <a:pt x="11485" y="13196"/>
                </a:cubicBezTo>
                <a:cubicBezTo>
                  <a:pt x="11550" y="13253"/>
                  <a:pt x="11628" y="13246"/>
                  <a:pt x="11708" y="13246"/>
                </a:cubicBezTo>
              </a:path>
              <a:path w="3945" h="994">
                <a:moveTo>
                  <a:pt x="12129" y="12477"/>
                </a:moveTo>
                <a:cubicBezTo>
                  <a:pt x="12113" y="12444"/>
                  <a:pt x="12096" y="12411"/>
                  <a:pt x="12080" y="12378"/>
                </a:cubicBezTo>
                <a:cubicBezTo>
                  <a:pt x="11978" y="12418"/>
                  <a:pt x="11972" y="12437"/>
                  <a:pt x="11956" y="12551"/>
                </a:cubicBezTo>
                <a:cubicBezTo>
                  <a:pt x="11942" y="12647"/>
                  <a:pt x="11914" y="12748"/>
                  <a:pt x="11931" y="12849"/>
                </a:cubicBezTo>
                <a:cubicBezTo>
                  <a:pt x="11946" y="12939"/>
                  <a:pt x="11964" y="13015"/>
                  <a:pt x="12005" y="13097"/>
                </a:cubicBezTo>
                <a:cubicBezTo>
                  <a:pt x="12028" y="13143"/>
                  <a:pt x="12049" y="13182"/>
                  <a:pt x="12080" y="13221"/>
                </a:cubicBezTo>
              </a:path>
              <a:path w="3945" h="994">
                <a:moveTo>
                  <a:pt x="11807" y="12849"/>
                </a:moveTo>
                <a:cubicBezTo>
                  <a:pt x="11889" y="12837"/>
                  <a:pt x="12065" y="12792"/>
                  <a:pt x="12154" y="12824"/>
                </a:cubicBezTo>
                <a:cubicBezTo>
                  <a:pt x="12216" y="12846"/>
                  <a:pt x="12241" y="12967"/>
                  <a:pt x="12254" y="13022"/>
                </a:cubicBezTo>
                <a:cubicBezTo>
                  <a:pt x="12265" y="13069"/>
                  <a:pt x="12224" y="13168"/>
                  <a:pt x="12278" y="13196"/>
                </a:cubicBezTo>
                <a:cubicBezTo>
                  <a:pt x="12323" y="13219"/>
                  <a:pt x="12323" y="13147"/>
                  <a:pt x="12328" y="13122"/>
                </a:cubicBezTo>
              </a:path>
              <a:path w="3945" h="994">
                <a:moveTo>
                  <a:pt x="12378" y="12650"/>
                </a:moveTo>
                <a:cubicBezTo>
                  <a:pt x="12386" y="12658"/>
                  <a:pt x="12394" y="12667"/>
                  <a:pt x="12402" y="12675"/>
                </a:cubicBezTo>
              </a:path>
              <a:path w="3945" h="994">
                <a:moveTo>
                  <a:pt x="12427" y="13047"/>
                </a:moveTo>
                <a:cubicBezTo>
                  <a:pt x="12446" y="13105"/>
                  <a:pt x="12437" y="13130"/>
                  <a:pt x="12477" y="13122"/>
                </a:cubicBezTo>
                <a:cubicBezTo>
                  <a:pt x="12483" y="13066"/>
                  <a:pt x="12485" y="13023"/>
                  <a:pt x="12502" y="12973"/>
                </a:cubicBezTo>
                <a:cubicBezTo>
                  <a:pt x="12516" y="12931"/>
                  <a:pt x="12548" y="12880"/>
                  <a:pt x="12576" y="12849"/>
                </a:cubicBezTo>
                <a:cubicBezTo>
                  <a:pt x="12599" y="12826"/>
                  <a:pt x="12603" y="12818"/>
                  <a:pt x="12626" y="12824"/>
                </a:cubicBezTo>
                <a:cubicBezTo>
                  <a:pt x="12626" y="12910"/>
                  <a:pt x="12604" y="13021"/>
                  <a:pt x="12650" y="13097"/>
                </a:cubicBezTo>
                <a:cubicBezTo>
                  <a:pt x="12667" y="13126"/>
                  <a:pt x="12766" y="13149"/>
                  <a:pt x="12799" y="13146"/>
                </a:cubicBezTo>
                <a:cubicBezTo>
                  <a:pt x="12872" y="13139"/>
                  <a:pt x="12931" y="13039"/>
                  <a:pt x="12948" y="12998"/>
                </a:cubicBezTo>
                <a:cubicBezTo>
                  <a:pt x="12966" y="12954"/>
                  <a:pt x="12990" y="12900"/>
                  <a:pt x="12973" y="12849"/>
                </a:cubicBezTo>
                <a:cubicBezTo>
                  <a:pt x="12965" y="12849"/>
                  <a:pt x="12956" y="12849"/>
                  <a:pt x="12948" y="12849"/>
                </a:cubicBezTo>
                <a:cubicBezTo>
                  <a:pt x="12907" y="12889"/>
                  <a:pt x="12884" y="12909"/>
                  <a:pt x="12898" y="12973"/>
                </a:cubicBezTo>
                <a:cubicBezTo>
                  <a:pt x="12910" y="13027"/>
                  <a:pt x="12948" y="13045"/>
                  <a:pt x="12998" y="13072"/>
                </a:cubicBezTo>
                <a:cubicBezTo>
                  <a:pt x="13049" y="13099"/>
                  <a:pt x="13137" y="13113"/>
                  <a:pt x="13196" y="13097"/>
                </a:cubicBezTo>
                <a:cubicBezTo>
                  <a:pt x="13244" y="13084"/>
                  <a:pt x="13352" y="13012"/>
                  <a:pt x="13370" y="12973"/>
                </a:cubicBezTo>
                <a:cubicBezTo>
                  <a:pt x="13394" y="12922"/>
                  <a:pt x="13406" y="12844"/>
                  <a:pt x="13370" y="12799"/>
                </a:cubicBezTo>
                <a:cubicBezTo>
                  <a:pt x="13343" y="12765"/>
                  <a:pt x="13287" y="12764"/>
                  <a:pt x="13246" y="12774"/>
                </a:cubicBezTo>
                <a:cubicBezTo>
                  <a:pt x="13238" y="12782"/>
                  <a:pt x="13229" y="12791"/>
                  <a:pt x="13221" y="12799"/>
                </a:cubicBezTo>
                <a:cubicBezTo>
                  <a:pt x="13239" y="12861"/>
                  <a:pt x="13223" y="12826"/>
                  <a:pt x="13271" y="12874"/>
                </a:cubicBezTo>
                <a:cubicBezTo>
                  <a:pt x="13314" y="12917"/>
                  <a:pt x="13386" y="12902"/>
                  <a:pt x="13419" y="12849"/>
                </a:cubicBezTo>
                <a:cubicBezTo>
                  <a:pt x="13464" y="12778"/>
                  <a:pt x="13510" y="12638"/>
                  <a:pt x="13494" y="12551"/>
                </a:cubicBezTo>
                <a:cubicBezTo>
                  <a:pt x="13481" y="12483"/>
                  <a:pt x="13466" y="12394"/>
                  <a:pt x="13444" y="12328"/>
                </a:cubicBezTo>
                <a:cubicBezTo>
                  <a:pt x="13436" y="12311"/>
                  <a:pt x="13427" y="12295"/>
                  <a:pt x="13419" y="12278"/>
                </a:cubicBezTo>
                <a:cubicBezTo>
                  <a:pt x="13384" y="12338"/>
                  <a:pt x="13373" y="12403"/>
                  <a:pt x="13370" y="12477"/>
                </a:cubicBezTo>
                <a:cubicBezTo>
                  <a:pt x="13365" y="12604"/>
                  <a:pt x="13388" y="12702"/>
                  <a:pt x="13419" y="12824"/>
                </a:cubicBezTo>
                <a:cubicBezTo>
                  <a:pt x="13451" y="12950"/>
                  <a:pt x="13518" y="13054"/>
                  <a:pt x="13568" y="13171"/>
                </a:cubicBezTo>
                <a:cubicBezTo>
                  <a:pt x="13576" y="13196"/>
                  <a:pt x="13585" y="13221"/>
                  <a:pt x="13593" y="132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72080" y="4456080"/>
            <a:ext cx="785880" cy="330120"/>
          </a:xfrm>
          <a:custGeom>
            <a:avLst/>
            <a:gdLst/>
            <a:ahLst/>
            <a:rect l="l" t="t" r="r" b="b"/>
            <a:pathLst>
              <a:path w="2184" h="918">
                <a:moveTo>
                  <a:pt x="15701" y="12526"/>
                </a:moveTo>
                <a:cubicBezTo>
                  <a:pt x="15735" y="12582"/>
                  <a:pt x="15744" y="12636"/>
                  <a:pt x="15801" y="12650"/>
                </a:cubicBezTo>
                <a:cubicBezTo>
                  <a:pt x="15813" y="12614"/>
                  <a:pt x="15825" y="12629"/>
                  <a:pt x="15825" y="12576"/>
                </a:cubicBezTo>
                <a:cubicBezTo>
                  <a:pt x="15825" y="12530"/>
                  <a:pt x="15800" y="12474"/>
                  <a:pt x="15751" y="12452"/>
                </a:cubicBezTo>
                <a:cubicBezTo>
                  <a:pt x="15713" y="12435"/>
                  <a:pt x="15619" y="12552"/>
                  <a:pt x="15602" y="12576"/>
                </a:cubicBezTo>
                <a:cubicBezTo>
                  <a:pt x="15527" y="12680"/>
                  <a:pt x="15490" y="12855"/>
                  <a:pt x="15478" y="12973"/>
                </a:cubicBezTo>
                <a:cubicBezTo>
                  <a:pt x="15469" y="13063"/>
                  <a:pt x="15475" y="13145"/>
                  <a:pt x="15528" y="13221"/>
                </a:cubicBezTo>
                <a:cubicBezTo>
                  <a:pt x="15576" y="13290"/>
                  <a:pt x="15620" y="13278"/>
                  <a:pt x="15677" y="13271"/>
                </a:cubicBezTo>
                <a:cubicBezTo>
                  <a:pt x="15752" y="13262"/>
                  <a:pt x="15771" y="13226"/>
                  <a:pt x="15825" y="13171"/>
                </a:cubicBezTo>
              </a:path>
              <a:path w="2184" h="918">
                <a:moveTo>
                  <a:pt x="16073" y="12650"/>
                </a:moveTo>
                <a:cubicBezTo>
                  <a:pt x="16035" y="12663"/>
                  <a:pt x="16046" y="12725"/>
                  <a:pt x="16024" y="12774"/>
                </a:cubicBezTo>
                <a:cubicBezTo>
                  <a:pt x="15983" y="12866"/>
                  <a:pt x="16009" y="12911"/>
                  <a:pt x="16024" y="12998"/>
                </a:cubicBezTo>
                <a:cubicBezTo>
                  <a:pt x="16030" y="13036"/>
                  <a:pt x="16046" y="13107"/>
                  <a:pt x="16098" y="13122"/>
                </a:cubicBezTo>
                <a:cubicBezTo>
                  <a:pt x="16145" y="13136"/>
                  <a:pt x="16213" y="13124"/>
                  <a:pt x="16247" y="13097"/>
                </a:cubicBezTo>
                <a:cubicBezTo>
                  <a:pt x="16286" y="13066"/>
                  <a:pt x="16295" y="12972"/>
                  <a:pt x="16297" y="12923"/>
                </a:cubicBezTo>
                <a:cubicBezTo>
                  <a:pt x="16303" y="12798"/>
                  <a:pt x="16287" y="12816"/>
                  <a:pt x="16222" y="12725"/>
                </a:cubicBezTo>
                <a:cubicBezTo>
                  <a:pt x="16183" y="12670"/>
                  <a:pt x="16103" y="12655"/>
                  <a:pt x="16073" y="12601"/>
                </a:cubicBezTo>
                <a:cubicBezTo>
                  <a:pt x="16073" y="12593"/>
                  <a:pt x="16073" y="12584"/>
                  <a:pt x="16073" y="12576"/>
                </a:cubicBezTo>
              </a:path>
              <a:path w="2184" h="918">
                <a:moveTo>
                  <a:pt x="16694" y="12378"/>
                </a:moveTo>
                <a:cubicBezTo>
                  <a:pt x="16694" y="12569"/>
                  <a:pt x="16698" y="12740"/>
                  <a:pt x="16718" y="12923"/>
                </a:cubicBezTo>
                <a:cubicBezTo>
                  <a:pt x="16727" y="13009"/>
                  <a:pt x="16729" y="13090"/>
                  <a:pt x="16743" y="13171"/>
                </a:cubicBezTo>
                <a:cubicBezTo>
                  <a:pt x="16754" y="13234"/>
                  <a:pt x="16759" y="13246"/>
                  <a:pt x="16743" y="13246"/>
                </a:cubicBezTo>
              </a:path>
              <a:path w="2184" h="918">
                <a:moveTo>
                  <a:pt x="16396" y="12874"/>
                </a:moveTo>
                <a:cubicBezTo>
                  <a:pt x="16578" y="12874"/>
                  <a:pt x="16766" y="12890"/>
                  <a:pt x="16942" y="12849"/>
                </a:cubicBezTo>
              </a:path>
              <a:path w="2184" h="918">
                <a:moveTo>
                  <a:pt x="17413" y="12626"/>
                </a:moveTo>
                <a:cubicBezTo>
                  <a:pt x="17372" y="12676"/>
                  <a:pt x="17338" y="12737"/>
                  <a:pt x="17314" y="12799"/>
                </a:cubicBezTo>
                <a:cubicBezTo>
                  <a:pt x="17271" y="12909"/>
                  <a:pt x="17254" y="12966"/>
                  <a:pt x="17264" y="13072"/>
                </a:cubicBezTo>
                <a:cubicBezTo>
                  <a:pt x="17273" y="13164"/>
                  <a:pt x="17299" y="13190"/>
                  <a:pt x="17363" y="13246"/>
                </a:cubicBezTo>
                <a:cubicBezTo>
                  <a:pt x="17416" y="13292"/>
                  <a:pt x="17460" y="13316"/>
                  <a:pt x="17537" y="13295"/>
                </a:cubicBezTo>
                <a:cubicBezTo>
                  <a:pt x="17618" y="13273"/>
                  <a:pt x="17662" y="13144"/>
                  <a:pt x="17661" y="13072"/>
                </a:cubicBezTo>
                <a:cubicBezTo>
                  <a:pt x="17658" y="12913"/>
                  <a:pt x="17629" y="12835"/>
                  <a:pt x="17537" y="12725"/>
                </a:cubicBezTo>
                <a:cubicBezTo>
                  <a:pt x="17481" y="12659"/>
                  <a:pt x="17427" y="12639"/>
                  <a:pt x="17363" y="12601"/>
                </a:cubicBezTo>
                <a:cubicBezTo>
                  <a:pt x="17315" y="12572"/>
                  <a:pt x="17312" y="12565"/>
                  <a:pt x="17264" y="12601"/>
                </a:cubicBezTo>
              </a:path>
              <a:path w="2184" h="918">
                <a:moveTo>
                  <a:pt x="17066" y="12948"/>
                </a:moveTo>
                <a:cubicBezTo>
                  <a:pt x="17152" y="12992"/>
                  <a:pt x="17258" y="13037"/>
                  <a:pt x="17363" y="13022"/>
                </a:cubicBezTo>
                <a:cubicBezTo>
                  <a:pt x="17438" y="13011"/>
                  <a:pt x="17513" y="12992"/>
                  <a:pt x="17587" y="129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91160" y="4633920"/>
            <a:ext cx="144720" cy="108000"/>
          </a:xfrm>
          <a:custGeom>
            <a:avLst/>
            <a:gdLst/>
            <a:ahLst/>
            <a:rect l="l" t="t" r="r" b="b"/>
            <a:pathLst>
              <a:path w="398" h="298">
                <a:moveTo>
                  <a:pt x="18033" y="12874"/>
                </a:moveTo>
                <a:cubicBezTo>
                  <a:pt x="18146" y="12893"/>
                  <a:pt x="18244" y="12923"/>
                  <a:pt x="18355" y="12923"/>
                </a:cubicBezTo>
              </a:path>
              <a:path w="398" h="298">
                <a:moveTo>
                  <a:pt x="18083" y="13097"/>
                </a:moveTo>
                <a:cubicBezTo>
                  <a:pt x="18135" y="13136"/>
                  <a:pt x="18206" y="13184"/>
                  <a:pt x="18281" y="13171"/>
                </a:cubicBezTo>
                <a:cubicBezTo>
                  <a:pt x="18355" y="13146"/>
                  <a:pt x="18380" y="13138"/>
                  <a:pt x="18430" y="131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31000" y="4464000"/>
            <a:ext cx="223920" cy="322200"/>
          </a:xfrm>
          <a:custGeom>
            <a:avLst/>
            <a:gdLst/>
            <a:ahLst/>
            <a:rect l="l" t="t" r="r" b="b"/>
            <a:pathLst>
              <a:path w="621" h="894">
                <a:moveTo>
                  <a:pt x="19100" y="12452"/>
                </a:moveTo>
                <a:cubicBezTo>
                  <a:pt x="19079" y="12501"/>
                  <a:pt x="19069" y="12554"/>
                  <a:pt x="19050" y="12601"/>
                </a:cubicBezTo>
                <a:cubicBezTo>
                  <a:pt x="19023" y="12668"/>
                  <a:pt x="18987" y="12729"/>
                  <a:pt x="18976" y="12799"/>
                </a:cubicBezTo>
                <a:cubicBezTo>
                  <a:pt x="18963" y="12878"/>
                  <a:pt x="18985" y="12972"/>
                  <a:pt x="19000" y="13047"/>
                </a:cubicBezTo>
                <a:cubicBezTo>
                  <a:pt x="19024" y="13168"/>
                  <a:pt x="19063" y="13181"/>
                  <a:pt x="19149" y="13246"/>
                </a:cubicBezTo>
                <a:cubicBezTo>
                  <a:pt x="19211" y="13293"/>
                  <a:pt x="19245" y="13295"/>
                  <a:pt x="19323" y="13295"/>
                </a:cubicBezTo>
                <a:cubicBezTo>
                  <a:pt x="19384" y="13295"/>
                  <a:pt x="19452" y="13298"/>
                  <a:pt x="19496" y="13246"/>
                </a:cubicBezTo>
                <a:cubicBezTo>
                  <a:pt x="19555" y="13177"/>
                  <a:pt x="19593" y="13059"/>
                  <a:pt x="19596" y="12973"/>
                </a:cubicBezTo>
                <a:cubicBezTo>
                  <a:pt x="19599" y="12884"/>
                  <a:pt x="19595" y="12783"/>
                  <a:pt x="19571" y="12700"/>
                </a:cubicBezTo>
                <a:cubicBezTo>
                  <a:pt x="19559" y="12658"/>
                  <a:pt x="19480" y="12533"/>
                  <a:pt x="19447" y="12502"/>
                </a:cubicBezTo>
                <a:cubicBezTo>
                  <a:pt x="19423" y="12480"/>
                  <a:pt x="19327" y="12410"/>
                  <a:pt x="19298" y="12402"/>
                </a:cubicBezTo>
                <a:cubicBezTo>
                  <a:pt x="19226" y="12383"/>
                  <a:pt x="19145" y="12425"/>
                  <a:pt x="19100" y="12477"/>
                </a:cubicBezTo>
                <a:cubicBezTo>
                  <a:pt x="19075" y="12526"/>
                  <a:pt x="19066" y="12543"/>
                  <a:pt x="19025" y="125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61000" y="2081160"/>
            <a:ext cx="866880" cy="231840"/>
          </a:xfrm>
          <a:custGeom>
            <a:avLst/>
            <a:gdLst/>
            <a:ahLst/>
            <a:rect l="l" t="t" r="r" b="b"/>
            <a:pathLst>
              <a:path w="2407" h="646">
                <a:moveTo>
                  <a:pt x="16098" y="5804"/>
                </a:moveTo>
                <a:cubicBezTo>
                  <a:pt x="16125" y="5840"/>
                  <a:pt x="16115" y="5843"/>
                  <a:pt x="16148" y="5854"/>
                </a:cubicBezTo>
                <a:cubicBezTo>
                  <a:pt x="16148" y="5903"/>
                  <a:pt x="16137" y="5822"/>
                  <a:pt x="16098" y="5804"/>
                </a:cubicBezTo>
                <a:cubicBezTo>
                  <a:pt x="16049" y="5782"/>
                  <a:pt x="16010" y="5779"/>
                  <a:pt x="15949" y="5779"/>
                </a:cubicBezTo>
                <a:cubicBezTo>
                  <a:pt x="15871" y="5779"/>
                  <a:pt x="15808" y="5868"/>
                  <a:pt x="15776" y="5928"/>
                </a:cubicBezTo>
                <a:cubicBezTo>
                  <a:pt x="15730" y="6015"/>
                  <a:pt x="15726" y="6106"/>
                  <a:pt x="15726" y="6201"/>
                </a:cubicBezTo>
                <a:cubicBezTo>
                  <a:pt x="15726" y="6249"/>
                  <a:pt x="15747" y="6372"/>
                  <a:pt x="15801" y="6400"/>
                </a:cubicBezTo>
                <a:cubicBezTo>
                  <a:pt x="15860" y="6430"/>
                  <a:pt x="15939" y="6426"/>
                  <a:pt x="15999" y="6400"/>
                </a:cubicBezTo>
                <a:cubicBezTo>
                  <a:pt x="16062" y="6372"/>
                  <a:pt x="16097" y="6345"/>
                  <a:pt x="16148" y="6300"/>
                </a:cubicBezTo>
              </a:path>
              <a:path w="2407" h="646">
                <a:moveTo>
                  <a:pt x="16446" y="5854"/>
                </a:moveTo>
                <a:cubicBezTo>
                  <a:pt x="16383" y="5882"/>
                  <a:pt x="16281" y="5897"/>
                  <a:pt x="16272" y="5978"/>
                </a:cubicBezTo>
                <a:cubicBezTo>
                  <a:pt x="16267" y="6027"/>
                  <a:pt x="16339" y="6070"/>
                  <a:pt x="16371" y="6102"/>
                </a:cubicBezTo>
                <a:cubicBezTo>
                  <a:pt x="16416" y="6147"/>
                  <a:pt x="16474" y="6214"/>
                  <a:pt x="16495" y="6276"/>
                </a:cubicBezTo>
                <a:cubicBezTo>
                  <a:pt x="16503" y="6301"/>
                  <a:pt x="16462" y="6357"/>
                  <a:pt x="16446" y="6375"/>
                </a:cubicBezTo>
                <a:cubicBezTo>
                  <a:pt x="16406" y="6420"/>
                  <a:pt x="16318" y="6409"/>
                  <a:pt x="16272" y="6375"/>
                </a:cubicBezTo>
                <a:cubicBezTo>
                  <a:pt x="16255" y="6358"/>
                  <a:pt x="16239" y="6342"/>
                  <a:pt x="16222" y="6325"/>
                </a:cubicBezTo>
              </a:path>
              <a:path w="2407" h="646">
                <a:moveTo>
                  <a:pt x="16842" y="5879"/>
                </a:moveTo>
                <a:cubicBezTo>
                  <a:pt x="16842" y="5887"/>
                  <a:pt x="16842" y="5896"/>
                  <a:pt x="16842" y="5904"/>
                </a:cubicBezTo>
                <a:cubicBezTo>
                  <a:pt x="16879" y="5886"/>
                  <a:pt x="16833" y="5857"/>
                  <a:pt x="16793" y="5854"/>
                </a:cubicBezTo>
                <a:cubicBezTo>
                  <a:pt x="16724" y="5849"/>
                  <a:pt x="16716" y="5858"/>
                  <a:pt x="16669" y="5904"/>
                </a:cubicBezTo>
                <a:cubicBezTo>
                  <a:pt x="16603" y="5969"/>
                  <a:pt x="16616" y="6023"/>
                  <a:pt x="16594" y="6102"/>
                </a:cubicBezTo>
                <a:cubicBezTo>
                  <a:pt x="16571" y="6185"/>
                  <a:pt x="16565" y="6222"/>
                  <a:pt x="16619" y="6300"/>
                </a:cubicBezTo>
                <a:cubicBezTo>
                  <a:pt x="16637" y="6325"/>
                  <a:pt x="16736" y="6379"/>
                  <a:pt x="16768" y="6375"/>
                </a:cubicBezTo>
                <a:cubicBezTo>
                  <a:pt x="16860" y="6364"/>
                  <a:pt x="16959" y="6254"/>
                  <a:pt x="17016" y="6201"/>
                </a:cubicBezTo>
              </a:path>
              <a:path w="2407" h="646">
                <a:moveTo>
                  <a:pt x="17214" y="5829"/>
                </a:moveTo>
                <a:cubicBezTo>
                  <a:pt x="17190" y="5960"/>
                  <a:pt x="17165" y="6069"/>
                  <a:pt x="17165" y="6201"/>
                </a:cubicBezTo>
                <a:cubicBezTo>
                  <a:pt x="17165" y="6245"/>
                  <a:pt x="17184" y="6334"/>
                  <a:pt x="17239" y="6350"/>
                </a:cubicBezTo>
                <a:cubicBezTo>
                  <a:pt x="17306" y="6369"/>
                  <a:pt x="17389" y="6343"/>
                  <a:pt x="17438" y="6300"/>
                </a:cubicBezTo>
                <a:cubicBezTo>
                  <a:pt x="17511" y="6236"/>
                  <a:pt x="17512" y="6192"/>
                  <a:pt x="17512" y="6102"/>
                </a:cubicBezTo>
                <a:cubicBezTo>
                  <a:pt x="17512" y="6027"/>
                  <a:pt x="17474" y="5989"/>
                  <a:pt x="17438" y="5928"/>
                </a:cubicBezTo>
                <a:cubicBezTo>
                  <a:pt x="17407" y="5876"/>
                  <a:pt x="17331" y="5850"/>
                  <a:pt x="17264" y="5829"/>
                </a:cubicBezTo>
                <a:cubicBezTo>
                  <a:pt x="17195" y="5808"/>
                  <a:pt x="17207" y="5804"/>
                  <a:pt x="17165" y="5879"/>
                </a:cubicBezTo>
              </a:path>
              <a:path w="2407" h="646">
                <a:moveTo>
                  <a:pt x="17041" y="6077"/>
                </a:moveTo>
                <a:cubicBezTo>
                  <a:pt x="17154" y="6077"/>
                  <a:pt x="17252" y="6081"/>
                  <a:pt x="17363" y="6052"/>
                </a:cubicBezTo>
                <a:cubicBezTo>
                  <a:pt x="17436" y="6028"/>
                  <a:pt x="17460" y="6020"/>
                  <a:pt x="17512" y="6028"/>
                </a:cubicBezTo>
              </a:path>
              <a:path w="2407" h="646">
                <a:moveTo>
                  <a:pt x="17835" y="5928"/>
                </a:moveTo>
                <a:cubicBezTo>
                  <a:pt x="17923" y="5944"/>
                  <a:pt x="17974" y="5953"/>
                  <a:pt x="18058" y="5953"/>
                </a:cubicBezTo>
              </a:path>
              <a:path w="2407" h="646">
                <a:moveTo>
                  <a:pt x="17785" y="6152"/>
                </a:moveTo>
                <a:cubicBezTo>
                  <a:pt x="17829" y="6178"/>
                  <a:pt x="17902" y="6191"/>
                  <a:pt x="17959" y="6176"/>
                </a:cubicBezTo>
                <a:cubicBezTo>
                  <a:pt x="18018" y="6160"/>
                  <a:pt x="18071" y="6144"/>
                  <a:pt x="18132" y="61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86720" y="1963800"/>
            <a:ext cx="27000" cy="341280"/>
          </a:xfrm>
          <a:custGeom>
            <a:avLst/>
            <a:gdLst/>
            <a:ahLst/>
            <a:rect l="l" t="t" r="r" b="b"/>
            <a:pathLst>
              <a:path w="75" h="944">
                <a:moveTo>
                  <a:pt x="18926" y="5457"/>
                </a:moveTo>
                <a:cubicBezTo>
                  <a:pt x="18888" y="5520"/>
                  <a:pt x="18893" y="5581"/>
                  <a:pt x="18876" y="5655"/>
                </a:cubicBezTo>
                <a:cubicBezTo>
                  <a:pt x="18848" y="5779"/>
                  <a:pt x="18852" y="5900"/>
                  <a:pt x="18852" y="6028"/>
                </a:cubicBezTo>
                <a:cubicBezTo>
                  <a:pt x="18852" y="6121"/>
                  <a:pt x="18876" y="6203"/>
                  <a:pt x="18876" y="6300"/>
                </a:cubicBezTo>
                <a:cubicBezTo>
                  <a:pt x="18876" y="6350"/>
                  <a:pt x="18876" y="6367"/>
                  <a:pt x="18876" y="64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Page 381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#1-13</a:t>
            </a:r>
            <a:endParaRPr b="0" lang="en-US" sz="8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Looking ahead…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5.1 on Wednesday, Thursday, 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on Lesson 5.1 next Tu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Quarter 1 grades are due by 9 AM Friday morning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Chapter Five</a:t>
            </a:r>
            <a:br>
              <a:rPr sz="4000"/>
            </a:br>
            <a:r>
              <a:rPr b="0" i="1" lang="en-US" sz="4000" spc="-1" strike="noStrike">
                <a:solidFill>
                  <a:srgbClr val="dfc08d"/>
                </a:solidFill>
                <a:latin typeface="Arial"/>
              </a:rPr>
              <a:t>Analytic Trigonometry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Lesson 5.1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Reciprocal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90720" y="1752480"/>
          <a:ext cx="29462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2946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876920" y="1752480"/>
          <a:ext cx="3016080" cy="452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752480"/>
                    <a:ext cx="301608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Quotient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40160" y="1830240"/>
          <a:ext cx="40636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1830240"/>
                    <a:ext cx="40636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Pythagorean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3880" y="1913040"/>
          <a:ext cx="6096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13040"/>
                    <a:ext cx="6096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Odd trigonometric functions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f(-x)=-f(x)  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NOT symmetric about y axis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(-x)= -sin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(-x)= -tan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(-x)= -csc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-x)= -cot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Even trigonometric functions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f(-x)=f(x)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SYMMETRIC about y axis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(-x) = cos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(-x) = sec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4:35:09Z</dcterms:created>
  <dc:creator>jnewman</dc:creator>
  <dc:description/>
  <dc:language>en-US</dc:language>
  <cp:lastModifiedBy>abeason</cp:lastModifiedBy>
  <dcterms:modified xsi:type="dcterms:W3CDTF">2008-11-12T17:41:09Z</dcterms:modified>
  <cp:revision>12</cp:revision>
  <dc:subject/>
  <dc:title>Lesson 5.1 part one</dc:title>
</cp:coreProperties>
</file>